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B68-8877-4CE2-BFF9-CAC33FF4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6A5-2732-4D0B-87B5-1AF369F9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E65-2954-458E-A7D6-A9F46297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195-C544-4445-9A5C-CE2AD3FB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B9C-E65A-4E03-88C6-84C7B036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EF5-910C-4357-8230-F4AD233E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781-3DE5-4A62-A6E5-880EF3B4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CCB-CBEC-497C-BCF5-60A9437E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294-4EB3-484C-A141-BCA48708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77D-1844-4BCC-8F66-E7850368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D98-047E-4CD3-85EC-1E3DD540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97B-AF50-4AE7-A4D9-A3B7B876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5C1D-25AA-4BA5-B6C9-74763EB8F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5-05-15T05:31:27Z</dcterms:modified>
  <cp:revision>5</cp:revision>
  <dc:subject/>
  <dc:title>Слайд 1</dc:title>
</cp:coreProperties>
</file>