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C5F3-86BB-4694-9968-484BC19FC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A009-A122-47E9-9916-FFC2A0887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5AB0-B799-4469-8EB7-FE649FFF0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923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5509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1295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923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5509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E7C6-5D01-4C02-9761-C92A63561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B8CDC-E1B5-4605-88CD-9E86BB1FA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A2B67-F801-4387-ACC9-E091B7E88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3FD87-21FE-4C3D-BC53-60AF43995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8F143-CB59-4074-B796-1AFEDB981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0D522-A9D6-4444-8311-40BB4FE7D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D8D24-A98F-4110-BC24-1E2FFB969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A3716-C7E1-4367-8800-6ED80784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315B-0585-49D1-9220-DBDE75413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43A3B-8B84-4717-9FBF-887ADD42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BF96C-BB3C-4E3E-8C84-43ED46A48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53221-1085-4642-9144-C239508DC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1D6C0-A5A8-40F6-9E29-B39B98D3A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923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5509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295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923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5509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4DBCC-BC72-4E03-BF4D-1A15B98F2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6418-4329-4D1E-8476-0C1AB2A48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B6A6-7789-4ED1-A53D-919F4089B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43ED-DC9A-45FC-9FDA-EBE0B20C5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FA79-5F57-4DD8-A5BF-40CCB3429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2FC9-30E5-4088-A8C5-A29036690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A357-6D2A-4D94-BDC9-97A69F32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2919-676E-4B1C-B4B4-7968FC618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824E9-8062-4155-A88F-34D45C5630AC}" type="datetime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33560" y="594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59436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B0662-2FB9-4A4F-ADBD-3E0283C57B37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7" name=""/>
            <p:cNvGrpSpPr/>
            <p:nvPr/>
          </p:nvGrpSpPr>
          <p:grpSpPr>
            <a:xfrm>
              <a:off x="0" y="0"/>
              <a:ext cx="950400" cy="6856560"/>
              <a:chOff x="0" y="0"/>
              <a:chExt cx="950400" cy="6856560"/>
            </a:xfrm>
          </p:grpSpPr>
          <p:sp>
            <p:nvSpPr>
              <p:cNvPr id="8" name="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567720" y="3587760"/>
                <a:ext cx="382680" cy="1831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423" y="7"/>
                    </a:moveTo>
                    <a:arcTo wR="10800" hR="10800" stAng="-5520000" swAng="1092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423" y="7"/>
                    </a:moveTo>
                    <a:arcTo wR="10800" hR="10800" stAng="-5520000" swAng="10920000"/>
                  </a:path>
                </a:pathLst>
              </a:cu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6" name="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35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8" name="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162920" y="5943600"/>
            <a:ext cx="29541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ccccff"/>
                </a:solidFill>
                <a:latin typeface="Times New Roman"/>
              </a:rPr>
              <a:t>jan1.verhoeven@wxs.n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-1404360" y="-609120"/>
            <a:ext cx="10546560" cy="8965080"/>
            <a:chOff x="-1404360" y="-609120"/>
            <a:chExt cx="10546560" cy="8965080"/>
          </a:xfrm>
        </p:grpSpPr>
        <p:grpSp>
          <p:nvGrpSpPr>
            <p:cNvPr id="57" name=""/>
            <p:cNvGrpSpPr/>
            <p:nvPr/>
          </p:nvGrpSpPr>
          <p:grpSpPr>
            <a:xfrm>
              <a:off x="-1404360" y="-609120"/>
              <a:ext cx="9066240" cy="8965080"/>
              <a:chOff x="-1404360" y="-609120"/>
              <a:chExt cx="9066240" cy="8965080"/>
            </a:xfrm>
          </p:grpSpPr>
          <p:grpSp>
            <p:nvGrpSpPr>
              <p:cNvPr id="58" name=""/>
              <p:cNvGrpSpPr/>
              <p:nvPr/>
            </p:nvGrpSpPr>
            <p:grpSpPr>
              <a:xfrm>
                <a:off x="-1404360" y="-609120"/>
                <a:ext cx="9066240" cy="8965080"/>
                <a:chOff x="-1404360" y="-609120"/>
                <a:chExt cx="9066240" cy="8965080"/>
              </a:xfrm>
            </p:grpSpPr>
            <p:sp>
              <p:nvSpPr>
                <p:cNvPr id="59" name=""/>
                <p:cNvSpPr/>
                <p:nvPr/>
              </p:nvSpPr>
              <p:spPr>
                <a:xfrm rot="12360000">
                  <a:off x="-297000" y="556920"/>
                  <a:ext cx="6851880" cy="663264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00354e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 rot="12360000">
                  <a:off x="1099080" y="1909800"/>
                  <a:ext cx="405828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 rot="12360000">
                  <a:off x="3568680" y="3966840"/>
                  <a:ext cx="1030320" cy="444600"/>
                </a:xfrm>
                <a:prstGeom prst="rect">
                  <a:avLst/>
                </a:pr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 rot="12360000">
                  <a:off x="2049120" y="4074840"/>
                  <a:ext cx="905040" cy="838080"/>
                </a:xfrm>
                <a:prstGeom prst="ellipse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 rot="12360000">
                  <a:off x="3764880" y="3249000"/>
                  <a:ext cx="708120" cy="1285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 rot="12360000">
                  <a:off x="3057120" y="4875120"/>
                  <a:ext cx="706320" cy="1303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 rot="10485000">
                  <a:off x="2053440" y="3555000"/>
                  <a:ext cx="1149840" cy="2460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41" y="9671"/>
                      </a:moveTo>
                      <a:arcTo wR="10800" hR="10800" stAng="-360000" swAng="1086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41" y="9671"/>
                      </a:moveTo>
                      <a:arcTo wR="10800" hR="10800" stAng="-360000" swAng="10860000"/>
                    </a:path>
                  </a:pathLst>
                </a:cu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2062080" y="2181240"/>
                  <a:ext cx="1643040" cy="3186000"/>
                </a:xfrm>
                <a:custGeom>
                  <a:avLst/>
                  <a:gdLst/>
                  <a:ahLst/>
                  <a:rect l="l" t="t" r="r" b="b"/>
                  <a:pathLst>
                    <a:path w="1035" h="2007">
                      <a:moveTo>
                        <a:pt x="56" y="2006"/>
                      </a:moveTo>
                      <a:lnTo>
                        <a:pt x="0" y="1843"/>
                      </a:lnTo>
                      <a:lnTo>
                        <a:pt x="871" y="56"/>
                      </a:lnTo>
                      <a:lnTo>
                        <a:pt x="1034" y="0"/>
                      </a:lnTo>
                      <a:lnTo>
                        <a:pt x="56" y="2006"/>
                      </a:lnTo>
                    </a:path>
                  </a:pathLst>
                </a:cu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" name=""/>
              <p:cNvSpPr/>
              <p:nvPr/>
            </p:nvSpPr>
            <p:spPr>
              <a:xfrm>
                <a:off x="3884760" y="2873520"/>
                <a:ext cx="514440" cy="366480"/>
              </a:xfrm>
              <a:custGeom>
                <a:avLst/>
                <a:gdLst/>
                <a:ahLst/>
                <a:rect l="l" t="t" r="r" b="b"/>
                <a:pathLst>
                  <a:path w="324" h="231">
                    <a:moveTo>
                      <a:pt x="321" y="226"/>
                    </a:moveTo>
                    <a:lnTo>
                      <a:pt x="287" y="123"/>
                    </a:lnTo>
                    <a:lnTo>
                      <a:pt x="53" y="9"/>
                    </a:lnTo>
                    <a:lnTo>
                      <a:pt x="35" y="0"/>
                    </a:lnTo>
                    <a:lnTo>
                      <a:pt x="0" y="72"/>
                    </a:lnTo>
                    <a:lnTo>
                      <a:pt x="323" y="230"/>
                    </a:lnTo>
                  </a:path>
                </a:pathLst>
              </a:cu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1217520" y="1143000"/>
              <a:ext cx="7924680" cy="129528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5228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D8B8E-BA99-4B2F-973A-93BAF5F59167}" type="datetime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7162560" y="58672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DFB9F-7CC4-42B2-913E-5D041B087153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162920" y="5867280"/>
            <a:ext cx="29541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ccccff"/>
                </a:solidFill>
                <a:latin typeface="Times New Roman"/>
              </a:rPr>
              <a:t>jan1.verhoeven@wxs.n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BackEdi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BackEd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Mulit-purpos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Edi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057400" y="2895480"/>
            <a:ext cx="20574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eaeaea"/>
                </a:solidFill>
                <a:latin typeface="Arial"/>
              </a:rPr>
              <a:t>JanSof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71629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372600" y="0"/>
            <a:ext cx="3733920" cy="68580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Bedrijfslogo invoegen op deze di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Figuur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Zoek het bestand met uw log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Formaat van het logo wijzi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ergens in het logo. De vierkantjes die rondom het logo verschijnen worden “formaatgrepen” genoem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bruik deze grepen om het formaat van het object te wijzigen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Als u SHIFT ingedrukt houdt terwijl u de formaatgrepen gebruikt, wordt het formaat van het object proportioneel gewijzig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CBCE3B3B-2DC6-486C-91CE-A2AF61BBDB1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Interne vacature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83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812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catures zoe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505320" y="531324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catur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257800" y="5302080"/>
            <a:ext cx="1676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162920" y="53290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noem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90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1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2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3" name="Wd95" descr=""/>
          <p:cNvPicPr/>
          <p:nvPr/>
        </p:nvPicPr>
        <p:blipFill>
          <a:blip r:embed="rId4"/>
          <a:stretch/>
        </p:blipFill>
        <p:spPr>
          <a:xfrm>
            <a:off x="3886200" y="1981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9296280" y="152280"/>
            <a:ext cx="358164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2469B6-8AAA-4BD1-982E-06BEB0B1017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Verlof en arbeidsongeschiktheid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2814480"/>
            <a:ext cx="1600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wanger-schap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505320" y="532908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wangerschap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467480" y="5329080"/>
            <a:ext cx="1676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851360" y="53290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2670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korte tij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8640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angdurig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59124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kan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a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197760" y="53290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betaald 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69464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betaald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13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4" name="Wd95" descr=""/>
          <p:cNvPicPr/>
          <p:nvPr/>
        </p:nvPicPr>
        <p:blipFill>
          <a:blip r:embed="rId2"/>
          <a:stretch/>
        </p:blipFill>
        <p:spPr>
          <a:xfrm>
            <a:off x="5181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5" name="Wd95" descr=""/>
          <p:cNvPicPr/>
          <p:nvPr/>
        </p:nvPicPr>
        <p:blipFill>
          <a:blip r:embed="rId3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6" name="Wd95" descr=""/>
          <p:cNvPicPr/>
          <p:nvPr/>
        </p:nvPicPr>
        <p:blipFill>
          <a:blip r:embed="rId4"/>
          <a:stretch/>
        </p:blipFill>
        <p:spPr>
          <a:xfrm>
            <a:off x="7924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7" name="Wd95" descr=""/>
          <p:cNvPicPr/>
          <p:nvPr/>
        </p:nvPicPr>
        <p:blipFill>
          <a:blip r:embed="rId5"/>
          <a:stretch/>
        </p:blipFill>
        <p:spPr>
          <a:xfrm>
            <a:off x="350532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18" name="Wd95" descr=""/>
          <p:cNvPicPr/>
          <p:nvPr/>
        </p:nvPicPr>
        <p:blipFill>
          <a:blip r:embed="rId6"/>
          <a:stretch/>
        </p:blipFill>
        <p:spPr>
          <a:xfrm>
            <a:off x="462924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19" name="Wd95" descr=""/>
          <p:cNvPicPr/>
          <p:nvPr/>
        </p:nvPicPr>
        <p:blipFill>
          <a:blip r:embed="rId7"/>
          <a:stretch/>
        </p:blipFill>
        <p:spPr>
          <a:xfrm>
            <a:off x="691524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20" name="Wd95" descr=""/>
          <p:cNvPicPr/>
          <p:nvPr/>
        </p:nvPicPr>
        <p:blipFill>
          <a:blip r:embed="rId8"/>
          <a:stretch/>
        </p:blipFill>
        <p:spPr>
          <a:xfrm>
            <a:off x="80010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21" name="Wd95" descr=""/>
          <p:cNvPicPr/>
          <p:nvPr/>
        </p:nvPicPr>
        <p:blipFill>
          <a:blip r:embed="rId9"/>
          <a:stretch/>
        </p:blipFill>
        <p:spPr>
          <a:xfrm>
            <a:off x="5829480" y="190512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3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6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E7DA37-BE37-478E-8477-AE599972AFE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Compensatie en uitkeringen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28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505320" y="32558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leid en niveau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181480" y="3263760"/>
            <a:ext cx="1828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oonschal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n bonusbedra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162920" y="32716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andelen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t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505320" y="516096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iekt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3341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nsion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162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ndere uitker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35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6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7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8" name="Wd95" descr=""/>
          <p:cNvPicPr/>
          <p:nvPr/>
        </p:nvPicPr>
        <p:blipFill>
          <a:blip r:embed="rId4"/>
          <a:stretch/>
        </p:blipFill>
        <p:spPr>
          <a:xfrm>
            <a:off x="3809880" y="22096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9" name="Wd95" descr=""/>
          <p:cNvPicPr/>
          <p:nvPr/>
        </p:nvPicPr>
        <p:blipFill>
          <a:blip r:embed="rId5"/>
          <a:stretch/>
        </p:blipFill>
        <p:spPr>
          <a:xfrm>
            <a:off x="5638680" y="22096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40" name="Wd95" descr=""/>
          <p:cNvPicPr/>
          <p:nvPr/>
        </p:nvPicPr>
        <p:blipFill>
          <a:blip r:embed="rId6"/>
          <a:stretch/>
        </p:blipFill>
        <p:spPr>
          <a:xfrm>
            <a:off x="7467480" y="2209680"/>
            <a:ext cx="838440" cy="8384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2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4" name="">
            <a:hlinkClick r:id="" action="ppaction://hlinkshowjump?jump=previous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53042C-BC3D-42DF-BC57-D559CFCDD23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BackEdit Feature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37920" y="167652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Universal Syntax highlight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grated Internet Explor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grated XML Edi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Scriptable from VBScript and HTM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Directory wide opera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User Too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71600" y="1752480"/>
            <a:ext cx="914400" cy="38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71600" y="2438280"/>
            <a:ext cx="914400" cy="38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1600" y="3171960"/>
            <a:ext cx="914400" cy="380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879720"/>
            <a:ext cx="914400" cy="38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4589640"/>
            <a:ext cx="914400" cy="380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71600" y="5299200"/>
            <a:ext cx="914400" cy="3808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8D8729-9557-465C-B5C6-9286065D0BA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Syntax highlighting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1896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ursuss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schrijvinge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Rooster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657600" y="28144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eam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wikke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ment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rai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674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ardigheid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769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eam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wikke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485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ment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rai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201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ardigheid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249200" y="6477120"/>
            <a:ext cx="1570320" cy="380880"/>
            <a:chOff x="1249200" y="6477120"/>
            <a:chExt cx="1570320" cy="38088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1249200" y="6477120"/>
              <a:ext cx="1570320" cy="35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1371600" y="6491160"/>
              <a:ext cx="1447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Inschrijving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9497880" y="76320"/>
            <a:ext cx="3581640" cy="65530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7" name="Pp95" descr=""/>
          <p:cNvPicPr/>
          <p:nvPr/>
        </p:nvPicPr>
        <p:blipFill>
          <a:blip r:embed="rId2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48" name="Wd95" descr=""/>
          <p:cNvPicPr/>
          <p:nvPr/>
        </p:nvPicPr>
        <p:blipFill>
          <a:blip r:embed="rId3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49" name="Wd95" descr=""/>
          <p:cNvPicPr/>
          <p:nvPr/>
        </p:nvPicPr>
        <p:blipFill>
          <a:blip r:embed="rId4"/>
          <a:stretch/>
        </p:blipFill>
        <p:spPr>
          <a:xfrm>
            <a:off x="513072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50" name="Wd95" descr=""/>
          <p:cNvPicPr/>
          <p:nvPr/>
        </p:nvPicPr>
        <p:blipFill>
          <a:blip r:embed="rId5"/>
          <a:stretch/>
        </p:blipFill>
        <p:spPr>
          <a:xfrm>
            <a:off x="645156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51" name="Wd95" descr=""/>
          <p:cNvPicPr/>
          <p:nvPr/>
        </p:nvPicPr>
        <p:blipFill>
          <a:blip r:embed="rId6"/>
          <a:stretch/>
        </p:blipFill>
        <p:spPr>
          <a:xfrm>
            <a:off x="77724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52" name="Pp95" descr=""/>
          <p:cNvPicPr/>
          <p:nvPr/>
        </p:nvPicPr>
        <p:blipFill>
          <a:blip r:embed="rId7"/>
          <a:stretch/>
        </p:blipFill>
        <p:spPr>
          <a:xfrm>
            <a:off x="515628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153" name="Pp95" descr=""/>
          <p:cNvPicPr/>
          <p:nvPr/>
        </p:nvPicPr>
        <p:blipFill>
          <a:blip r:embed="rId8"/>
          <a:stretch/>
        </p:blipFill>
        <p:spPr>
          <a:xfrm>
            <a:off x="650232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54" name="Pp95" descr=""/>
          <p:cNvPicPr/>
          <p:nvPr/>
        </p:nvPicPr>
        <p:blipFill>
          <a:blip r:embed="rId9"/>
          <a:stretch/>
        </p:blipFill>
        <p:spPr>
          <a:xfrm>
            <a:off x="7848720" y="4267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15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1DC6C8-9C09-4208-A315-596CECAD871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Integrated IE browser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oordelings-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Schema's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instruct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2814480"/>
            <a:ext cx="1295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rijgesteld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knem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24280" y="28144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5880" y="28144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agiai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4674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Niet-vrijgesteld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knem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oordel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chem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oel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ell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2485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struct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201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ragen 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ntwoord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1" name="Wd95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2" name="Wd95" descr=""/>
          <p:cNvPicPr/>
          <p:nvPr/>
        </p:nvPicPr>
        <p:blipFill>
          <a:blip r:embed="rId2"/>
          <a:stretch/>
        </p:blipFill>
        <p:spPr>
          <a:xfrm>
            <a:off x="513072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3" name="Wd95" descr=""/>
          <p:cNvPicPr/>
          <p:nvPr/>
        </p:nvPicPr>
        <p:blipFill>
          <a:blip r:embed="rId3"/>
          <a:stretch/>
        </p:blipFill>
        <p:spPr>
          <a:xfrm>
            <a:off x="645156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4" name="Wd95" descr=""/>
          <p:cNvPicPr/>
          <p:nvPr/>
        </p:nvPicPr>
        <p:blipFill>
          <a:blip r:embed="rId4"/>
          <a:stretch/>
        </p:blipFill>
        <p:spPr>
          <a:xfrm>
            <a:off x="77724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5" name="Wd95" descr=""/>
          <p:cNvPicPr/>
          <p:nvPr/>
        </p:nvPicPr>
        <p:blipFill>
          <a:blip r:embed="rId5"/>
          <a:stretch/>
        </p:blipFill>
        <p:spPr>
          <a:xfrm>
            <a:off x="6629400" y="4191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6" name="Wd95" descr=""/>
          <p:cNvPicPr/>
          <p:nvPr/>
        </p:nvPicPr>
        <p:blipFill>
          <a:blip r:embed="rId6"/>
          <a:stretch/>
        </p:blipFill>
        <p:spPr>
          <a:xfrm>
            <a:off x="7924680" y="4191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7" name="Pp95" descr=""/>
          <p:cNvPicPr/>
          <p:nvPr/>
        </p:nvPicPr>
        <p:blipFill>
          <a:blip r:embed="rId7"/>
          <a:stretch/>
        </p:blipFill>
        <p:spPr>
          <a:xfrm>
            <a:off x="5181480" y="4191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8" name="Pp95" descr=""/>
          <p:cNvPicPr/>
          <p:nvPr/>
        </p:nvPicPr>
        <p:blipFill>
          <a:blip r:embed="rId8"/>
          <a:stretch/>
        </p:blipFill>
        <p:spPr>
          <a:xfrm>
            <a:off x="3809880" y="41911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9372600" y="76320"/>
            <a:ext cx="3581280" cy="65530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16ACD5-BF88-47C3-B99A-76A89103702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XML Editor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85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81280" y="2814480"/>
            <a:ext cx="1295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lan voor verbet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52680" y="5176800"/>
            <a:ext cx="1600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 voo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restatie-verbeteringspla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769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oelstell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verand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201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mpensati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3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4" name="Wd95" descr=""/>
          <p:cNvPicPr/>
          <p:nvPr/>
        </p:nvPicPr>
        <p:blipFill>
          <a:blip r:embed="rId2"/>
          <a:stretch/>
        </p:blipFill>
        <p:spPr>
          <a:xfrm>
            <a:off x="5181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5" name="Wd95" descr=""/>
          <p:cNvPicPr/>
          <p:nvPr/>
        </p:nvPicPr>
        <p:blipFill>
          <a:blip r:embed="rId3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6" name="Wd95" descr=""/>
          <p:cNvPicPr/>
          <p:nvPr/>
        </p:nvPicPr>
        <p:blipFill>
          <a:blip r:embed="rId4"/>
          <a:stretch/>
        </p:blipFill>
        <p:spPr>
          <a:xfrm>
            <a:off x="7924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7" name="Wd95" descr=""/>
          <p:cNvPicPr/>
          <p:nvPr/>
        </p:nvPicPr>
        <p:blipFill>
          <a:blip r:embed="rId5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F3AE22-1A13-4FC2-ABED-305714983A3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Scriptable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04" name=""/>
          <p:cNvSpPr/>
          <p:nvPr/>
        </p:nvSpPr>
        <p:spPr>
          <a:xfrm>
            <a:off x="3048120" y="2133720"/>
            <a:ext cx="4267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97160" y="2279520"/>
            <a:ext cx="914400" cy="38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97160" y="2967120"/>
            <a:ext cx="914400" cy="380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97160" y="3676680"/>
            <a:ext cx="914400" cy="380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97160" y="4406760"/>
            <a:ext cx="914400" cy="38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504960" y="2177640"/>
            <a:ext cx="43434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From VBScript fi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From HTML p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Opzegg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rne vacatur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5619EE-84CC-44C8-A4DA-385AE5BAABD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Directory operation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15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2814480"/>
            <a:ext cx="11430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 ond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udent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24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 va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58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4674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ureau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mschrij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876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i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2485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ureau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6201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26" name="Wd95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7" name="Wd95" descr=""/>
          <p:cNvPicPr/>
          <p:nvPr/>
        </p:nvPicPr>
        <p:blipFill>
          <a:blip r:embed="rId2"/>
          <a:stretch/>
        </p:blipFill>
        <p:spPr>
          <a:xfrm>
            <a:off x="51814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8" name="Wd95" descr=""/>
          <p:cNvPicPr/>
          <p:nvPr/>
        </p:nvPicPr>
        <p:blipFill>
          <a:blip r:embed="rId3"/>
          <a:stretch/>
        </p:blipFill>
        <p:spPr>
          <a:xfrm>
            <a:off x="65530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9" name="Wd95" descr=""/>
          <p:cNvPicPr/>
          <p:nvPr/>
        </p:nvPicPr>
        <p:blipFill>
          <a:blip r:embed="rId4"/>
          <a:stretch/>
        </p:blipFill>
        <p:spPr>
          <a:xfrm>
            <a:off x="79246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30" name="Wd95" descr=""/>
          <p:cNvPicPr/>
          <p:nvPr/>
        </p:nvPicPr>
        <p:blipFill>
          <a:blip r:embed="rId5"/>
          <a:stretch/>
        </p:blipFill>
        <p:spPr>
          <a:xfrm>
            <a:off x="373392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31" name="Wd95" descr=""/>
          <p:cNvPicPr/>
          <p:nvPr/>
        </p:nvPicPr>
        <p:blipFill>
          <a:blip r:embed="rId6"/>
          <a:stretch/>
        </p:blipFill>
        <p:spPr>
          <a:xfrm>
            <a:off x="510552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32" name="Wd95" descr=""/>
          <p:cNvPicPr/>
          <p:nvPr/>
        </p:nvPicPr>
        <p:blipFill>
          <a:blip r:embed="rId7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33" name="Wd95" descr=""/>
          <p:cNvPicPr/>
          <p:nvPr/>
        </p:nvPicPr>
        <p:blipFill>
          <a:blip r:embed="rId8"/>
          <a:stretch/>
        </p:blipFill>
        <p:spPr>
          <a:xfrm>
            <a:off x="7848720" y="4267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F94430-B4C6-421B-BE08-B9F93AAA041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User Tool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4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505320" y="281448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verplaatsing va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25780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lders vestig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n 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505320" y="531324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zoek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m overplaats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34120" y="531324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 voo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stiging eld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086600" y="5313240"/>
            <a:ext cx="1600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49" name="Wd95" descr=""/>
          <p:cNvPicPr/>
          <p:nvPr/>
        </p:nvPicPr>
        <p:blipFill>
          <a:blip r:embed="rId1"/>
          <a:stretch/>
        </p:blipFill>
        <p:spPr>
          <a:xfrm>
            <a:off x="38862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250" name="Wd95" descr=""/>
          <p:cNvPicPr/>
          <p:nvPr/>
        </p:nvPicPr>
        <p:blipFill>
          <a:blip r:embed="rId2"/>
          <a:stretch/>
        </p:blipFill>
        <p:spPr>
          <a:xfrm>
            <a:off x="56386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1" name="Wd95" descr=""/>
          <p:cNvPicPr/>
          <p:nvPr/>
        </p:nvPicPr>
        <p:blipFill>
          <a:blip r:embed="rId3"/>
          <a:stretch/>
        </p:blipFill>
        <p:spPr>
          <a:xfrm>
            <a:off x="3809880" y="434340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2" name="Wd95" descr=""/>
          <p:cNvPicPr/>
          <p:nvPr/>
        </p:nvPicPr>
        <p:blipFill>
          <a:blip r:embed="rId4"/>
          <a:stretch/>
        </p:blipFill>
        <p:spPr>
          <a:xfrm>
            <a:off x="5676840" y="434340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3" name="Wd95" descr=""/>
          <p:cNvPicPr/>
          <p:nvPr/>
        </p:nvPicPr>
        <p:blipFill>
          <a:blip r:embed="rId5"/>
          <a:stretch/>
        </p:blipFill>
        <p:spPr>
          <a:xfrm>
            <a:off x="7543800" y="43434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A22BB0-EE1C-4386-A50D-66DE7F7BEE0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Opzegging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6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81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mpensatie-plan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29596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zegg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leid en regel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505320" y="51656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slag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4120" y="51656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zegg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086600" y="5165640"/>
            <a:ext cx="1600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0102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lternatiev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oor opzegg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70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1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2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3" name="Wd95" descr=""/>
          <p:cNvPicPr/>
          <p:nvPr/>
        </p:nvPicPr>
        <p:blipFill>
          <a:blip r:embed="rId4"/>
          <a:stretch/>
        </p:blipFill>
        <p:spPr>
          <a:xfrm>
            <a:off x="3809880" y="1981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4" name="Wd95" descr=""/>
          <p:cNvPicPr/>
          <p:nvPr/>
        </p:nvPicPr>
        <p:blipFill>
          <a:blip r:embed="rId5"/>
          <a:stretch/>
        </p:blipFill>
        <p:spPr>
          <a:xfrm>
            <a:off x="5562720" y="1981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75" name="Wd95" descr=""/>
          <p:cNvPicPr/>
          <p:nvPr/>
        </p:nvPicPr>
        <p:blipFill>
          <a:blip r:embed="rId6"/>
          <a:stretch/>
        </p:blipFill>
        <p:spPr>
          <a:xfrm>
            <a:off x="7315200" y="1981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9372600" y="152280"/>
            <a:ext cx="3581280" cy="6629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02E3D3-016A-4542-B564-0C5F97B06D6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5T15:39:54Z</dcterms:created>
  <dc:creator>Jan Verhoeven</dc:creator>
  <dc:description/>
  <dc:language>en-US</dc:language>
  <cp:lastModifiedBy>Jan Verhoeven</cp:lastModifiedBy>
  <cp:lastPrinted>1995-12-08T18:02:18Z</cp:lastPrinted>
  <dcterms:modified xsi:type="dcterms:W3CDTF">2001-07-15T15:58:12Z</dcterms:modified>
  <cp:revision>5</cp:revision>
  <dc:subject/>
  <dc:title>&lt;XYZ N.V.&gt;</dc:title>
</cp:coreProperties>
</file>