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9C0268-505C-4C90-9215-E0B4CC21AC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770153-728D-41B1-8A03-950FA1CBF0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AB4B95-A257-4C7B-8C98-F9F58F6352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D42193-39C7-416F-B54E-9ECE9B5C87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5D758BD-0DF9-4862-978B-C627295A2E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53B64B-B605-4B71-BAE6-F609ED4573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314D80-DDF5-4088-9BFF-A2A957C1F5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2BED5E-C7D0-4C9D-BD7A-68DB7525D0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995CCB-C185-4658-815A-4B64325E46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5EACF7-7E89-4A5A-BE77-B2B7403E86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A6E32F-9373-4534-81DD-EE7E57540A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CA91CA-40AF-4265-AA0A-98B86123CE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C4F4DE-737A-470D-89CF-F627F6ACFA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05F30F-82B5-4590-BB86-41A7985E7F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9A12AE-6B7C-4CA8-A769-E97838349B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81D820-72F6-4684-AA95-38AF810B63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251840-B2A6-4A5B-9289-26A45DAA79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75C213-C627-4452-A355-29AC6F88B1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17A4D7-CE19-498A-9E8B-774579DE99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A7DE65-8B40-4EA9-ABDC-F1663D10AB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94DF91-F8D8-4C4B-AA88-6B62295F7A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C539FB-9836-4192-B632-8056174AA4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B9576D-F319-43A3-BB31-55CA1F5C85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EC9A97-473D-481A-BC77-FECF8A8D51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DA15F-F737-4745-B5C0-2C9601A4B07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52C03-3729-4449-BD35-D8C98B9872A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9B5663F-C31D-4BFF-986C-B9050D03734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7D384F3-03EC-4F4B-94F7-665C4E10F6F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E0796D-2282-4717-997B-AB723F776CF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DE706A-FCB5-40B6-BB59-A80158EF95C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282C63-AA78-473F-81F2-3DCA6794061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67BC5F-9F7D-4AA9-9FCF-77ECE9EA01D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7322B2-3844-46D8-AD41-8A2FF6D0921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8B43ED-B58A-4D9A-80B9-A6BA7FD00AED}"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BC7D32-FC0B-456D-B6A1-79F5F9352C2F}"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9E2304-9334-4BE0-A4FA-FD9B300CE43C}"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CAD704-3FC1-4D40-B58F-9DDE1C76F0C7}"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AC037D-9E58-4C7F-A40D-356DF8D22FD2}"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31EFD1-C2A8-4E17-8BF1-27FD4A8AD79F}"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434322-42C8-42D9-AA50-626498D987B2}"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016973-9216-4B8D-84B7-D87D5EA1A2A0}"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4348F6-D987-48C8-BBFD-CB2C515A9359}"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BBB783-6FA7-42CD-82B8-9A37F0198AA5}"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0EDB60-DBF5-425D-A471-DB4CEDF81DFA}"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BAC840-73C5-45AA-9B8F-218A24B74B4E}"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BD4208-8452-49CD-895C-F0607B19FF41}"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B5FE22-B834-4AF4-9E3D-25B8EFDD8FCF}"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EA6052-AC80-475E-8F41-B0873F6066A1}"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22BCF2-2E11-4350-B25E-9E3EA907B131}"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87CDB4-C42A-4310-9BAA-DCF9B62615D9}"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2C9F46-F2D7-4333-98FB-71CC7CDF45C6}"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2F7BE2-9700-45B4-8E8E-26656B7621DF}"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310A97-A1E3-462C-8377-053CCDF819CA}"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612694E-545C-4710-BCF3-72F2F72916EC}"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627371-FF4C-4AB3-8CF3-8EA633020620}"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6D4F9F-56C5-4F4D-BCD4-22B8B55C0960}"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84093B-3E38-46F0-A0D3-194E9C17218B}"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92C2B1-FBE7-4133-95EF-06DC7A65E4DB}"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EF91CD-D4F8-4C27-A5AC-A0CBEDCA3CE2}"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D55995-60FC-4E8A-B44A-0B709CF1C5F4}"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C5B15C-8332-42D4-8017-90F766A34D29}"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E4CF5A-3B44-44F9-B3C1-E22DDAEAE940}"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9FFA68-BE7A-4D86-8DA9-5968D28C5A6F}"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1F486D-7CC4-482C-92CA-24CF1FBAA2ED}"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CF6BD3-2782-4A7C-93ED-0F61F67752CC}"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3D6BDA-4287-43B1-829D-DD54C7531EAB}"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3BC96A-6CAD-43E2-AFF8-1AB7CB115E07}"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B924B2-B60B-4CE8-912B-6157782DF66B}"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F64385-8127-4F68-B25D-F6CABC8D11B5}"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AD063A-CB28-4171-B69D-98A7FA1395AD}"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890F5F-13A7-4FCA-96B6-3D19FEB96827}"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9B1378-D0DD-4CC1-B14D-0D09B12F8950}"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668BEC-9712-44B5-8347-5607DE9755B6}"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8F4E50-7C94-4A1A-96C7-BB66CB099918}"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D576996-4919-4929-A76A-73DE3854D2CE}"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B772F2-0CFB-4187-BED4-F6B4971B068D}"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1C42A9-52C2-4EAF-B64B-0861274A568A}"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32A05A9-F34B-4249-904A-43C004ABAC61}"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B545B5-68C9-4624-970A-36085B269FEC}"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105EE5-2FBA-441E-BF4B-27B43A3ECE21}"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5E810F-959F-4D23-BA7B-A52A99EF246A}"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5D6626-CEA2-4CCA-9325-6F970B3EB132}"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B0BAD7-4000-4714-A406-DE281ED36E97}"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607044-4B1D-4B20-9E57-D52C2B79A857}"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B7A697-4621-4511-8077-3CDC81AB8358}"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E5AB3A0-6A01-4B5C-BAFE-9EAE457F2D30}"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36011E-370C-4728-90DF-2865AA49C892}"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DAC2C5-00C2-401A-82AC-DC8F0C3FB4C7}"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4817E9-0020-4A17-9AF8-2CFFCA76CE13}"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A3155B-31F1-4053-B303-2DFF8EA1B7C2}"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801EFC-6862-4D85-9C5E-03CB4B0EF9B9}"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96D36F1-EF2A-47F4-98CE-191966119CFA}"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4AC733-64E2-4AF8-8E8E-A67484406ACC}"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7BFFA3-9332-43BD-BDC6-16F4D2A5ADB4}"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206532-AAFA-4DEA-9AE9-3D7DC1A758A5}"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080EC7-275A-47EE-BB73-25FA50FF0353}"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EF78DC3-B040-45A1-A74A-169B95E1F770}"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56BD1F-4393-4014-BE03-2927570393A8}"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27BBAF-E45D-41EE-969A-5ABCD87FA23B}"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08562C-D461-45B3-A546-3F1CFCCFF235}"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6DB1EE-9E5F-412A-87ED-578926EF0297}"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4696A0-B411-44B8-A5AC-F4FB94F7F34C}"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22DF1F-DA98-4FDB-BB0A-0B3EC3CA9477}"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4BC9BF9-8703-4508-B333-9724A775095D}"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970142-2C2B-40E3-BCED-4D6D5BE1D447}"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8614E7-108E-4F3A-BD8D-41DC465AF1BB}"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B578F2-1CB0-4603-A4A3-1FBBD32157BE}"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17D7C0D-9527-4DCF-8C99-930345DF07E3}"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B3DB8D-E7D2-4E36-920F-81A3E074A160}"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61770D5-582D-45AC-B233-F59FF556FDA0}"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FBB409-ADCD-4966-9278-DE3CC6F4D14F}"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F80861-A5AF-4843-BE89-259F39D9E2E9}"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F8110C-D72D-4703-854F-637BC00D835A}"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C2AA6B-9C40-4F2C-AA79-5536F7131135}"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7ECC1D-94A3-4D44-8038-D82DC79AA633}"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2318F6-2393-4554-BB82-9C838090FED5}"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C08979-70A3-42F8-9483-B381DAA3CC6D}"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91C44C-7372-47A8-8625-D0AB9944666D}"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6157CE-1E52-45F2-ACD7-7F8A5AF1AF70}"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76EA04-5B3B-4279-AB27-6AEA76AE3C77}"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B226C3-1764-4B58-9353-17D2E859C024}"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67F60C-34F8-4D3A-AF63-95D5050C698E}"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47456E-BD66-4D3C-A658-61AC27407458}"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9544FB-74AB-491F-8E83-6921EEA0BA27}"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3631A2-2B47-4207-AB5E-F9EC62229922}"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A5D7E46-6879-4542-B71F-8315C065644D}"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045E65-3DC1-4FD4-87DC-A5058D306179}"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D063AE-7E8D-4B85-93BA-524D09ED4B0A}"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287258-33F5-435F-8A73-C19C2C6F8AB7}"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302E24-EAA4-49FA-B41C-FCDB6278966A}"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C851BC-E87D-417B-8A37-30856CF2BAFB}"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9DA4DB-C62B-40A8-AC6E-D362E1BDD1F6}"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2965BA-03C3-4098-BFB1-7D52D1214194}"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77F5C9-39BA-49C3-B9B6-C1ED5F2857F3}"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9708BE-E4F6-4849-8291-84D81C30CF51}"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0EB296-248D-4795-9680-14010183DA88}"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E22672-B8AA-410C-A0E0-2B1E580DC7CF}"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B77D82-298D-41A1-873A-54451CAFB29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6E1928-45FF-4B34-8102-271E405AD418}"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018F51-E954-47A6-AFAD-085624CDA7FD}"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BF0DDE-4839-4E77-A792-372984D1C68D}"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C8077C-F7BB-476D-99D5-FAC6D881F9C3}"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C63121-2951-405B-82CD-241BE26143B9}"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A6ABC5-1BAF-41D9-AACB-1F28DFF051CF}"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DA8224-4304-4E5D-BE93-C71E80E8C589}"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30B6B1-648C-4DF1-8EB8-4898F6214D12}"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FAD795-424B-4E2C-A0A6-28DE76870AA2}"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D46B9E-D16B-45AB-A081-3F9D4AF44662}"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07CC6A-828D-4F21-89F8-DBB46A414B40}"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5D2833-14A3-43ED-BD7F-18D753D788A6}"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997D8A-8B96-4CD2-8503-A418B817B5B3}"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C288D8-2222-4AE0-94C3-E6B0C3A9475A}"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295C2A-0DF1-4497-946C-16759DA51D82}"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3C881AD-CAC4-4379-AA9B-0F33932F16FC}"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C9E34A-4E05-4F11-8D24-060412E3323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82A77D-EA71-4F4D-925F-1AF6E6A5CCB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AA6B38-013D-4AA0-9D5C-7720A5DCB72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3DF897-A42D-4831-9F51-44287889D54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37969F-276A-4C19-A2E0-F17B1BBA808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C054B4-9FA5-40C3-A28C-DADC293FBE6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E17EF3E-4939-47E3-8564-1CB1562E6DE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1D09B8-7F3E-4D62-8FC4-0B52D7FDC40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5137B9-9B78-4730-B48B-C478418E2E9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5A0A33-0717-4CE7-9ADB-02FAB04C4DF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FDAF55-B3AC-4030-8E38-BE725D1A202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7E13BE-CF9D-4485-A0C9-DAA88312CB4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FC74CA-7513-498F-9AFF-F0AE3E52E86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3D4D66-0946-4A6D-95E7-CC34740273E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794DE7-9DCA-49B5-9A33-92FCF90544F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3C11E4-1F95-424A-90E2-5BE7AAB0A99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C424FC-4D06-4047-A529-4279E29C966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7B6DEA-B93E-49C0-9CE4-8B6543630F0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A9C471-EA2F-4B0E-A034-BCECF517269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188A0E-2C7E-4E4D-BE4E-CBB4BB8D36D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23F1FB-B24D-42C6-8644-D7566F583E4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E42D96-DDC1-46E2-AE24-E1853765786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65E2D9-DFA0-432E-A78C-7EB72394F79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482AE2-E4C9-4B2C-A0A4-4A80B64822D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C2EA68-EBCB-4384-BE89-8D34F158686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F5BB12-7E44-4603-A177-03C9FAA5695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BF532C-340E-449A-8E44-74CA0B0F5E8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C19CF3-5C77-4D6D-8082-AE96542ADB1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234E47-8B9F-45EA-BDEA-8EA2C325AB0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1E570B-2C4E-47A4-89AD-0623B3FD8FB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FA9A7E-7114-4478-A0AB-80D201CF18B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163D7A-6C51-49F0-A0DA-1977AB55865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40934B-E41D-4DB7-9135-28B5FEA0975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4BC2CA-3753-4721-86F8-D58623711A1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200A5A-BC0F-4E2F-A402-FC41FAD043C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2D8222-D9C3-47AC-AA16-C072EB8B6EE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4C8470-5B82-44C7-8B67-54CF9B2F367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F4A1C0-8988-4DF6-BECA-EC5F3A95132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78CEF0-4E1C-48F8-9A84-4A77CC58B1B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AA929C-B5E9-494A-BFBD-1ABE9B3AC01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81CCD9-246E-4333-9D4C-E4358C4558F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6067BB-15C3-4208-8012-88CE35B97A6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462ED1-3730-4BAC-B37A-249FB8488B2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C523C4-EE24-416D-AB9E-92A101CBE92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06CE98-1B84-43B3-BE5F-C801D1901F5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F8AA01-CB64-42AE-98BA-D07D8D7F9AB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780D42-33B3-40D4-8957-6CC31F2B63C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DA500D6-4F38-4189-A390-4B22D402F2F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9907EB-BE44-42EB-8D2D-C99259C3635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0FC854-EFDF-4016-93DA-489B7F515ED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D3B4C0-4C5A-4038-B380-6C5AA3B155D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1D45AB-086B-4653-B15F-ED9C89620AC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BF9523-C997-4A50-871D-EB53E5CC3B1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742A33-873C-4A72-9D39-4484B603C7A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5FB174-1102-499A-9470-F917D34DE13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E41605-A879-4578-B29B-022AF61ADD4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8FAC37A-58DC-4AEA-A115-EEEDAE0015B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1D5550-E984-4D3D-A9BF-5988F8ECBD0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DCBE8B-5BA6-4AA5-A9E8-775591AE0AF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925B11-D16C-4537-9222-1F6C8969BC5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2A371B-8B62-4D3C-8269-7AD84A51AE3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9817F6-7BC5-44D8-BEB2-65568B3F1F9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C0AB96-2307-4F2E-AB32-5606D18F997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F25805-00CD-4D7C-8D56-61209E5AD11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FA00E0-B9B0-4C2D-9B72-30EA4ACA6E6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418875-B329-4A0D-927E-1BAB407FA1F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F3F35C-EA7D-46C5-9F4E-CDAAD0E10F6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266130-1712-4F96-B96A-F58A1E2A253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7B2D65-00BF-4C89-AAFC-78EC321D28F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47C1E4-6CC7-4260-9FA6-4C651F34C55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200B5E-D21E-4E1F-AD2C-C509BD3C644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7BBB38A-D788-4747-BD05-012DD50D099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1FB9AC-9F99-4BE5-9B78-7DA8C636CEB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88A219-BB02-4D9B-9D2E-63C68E39DC2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1057EA-1A1F-472B-ACFE-EE8CE0EE47A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5DDDDF-E915-489C-8A0C-638F33D20A9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D0AF89-8A0B-4870-B1F4-90137DD5AFF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B1B657-0D86-4CA3-AA8E-85B5E6DD79C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5C9528-6C91-48F0-9C33-8F6122C5B56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D75883-A1F4-4414-B832-F3B2500384D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44D543-3C26-44A6-8B98-6BF5F159D42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BD7B26-319F-426F-BDC2-F7BFBB0759D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695F37-5AC9-4404-9C24-2A981FD0F7A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C2FADC-4E59-4F60-AAA2-DB4B31190CB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A63A28-978C-4C2F-A95D-F403AE8D37B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