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776778"/>
        <c:axId val="43678517"/>
      </c:barChart>
      <c:catAx>
        <c:axId val="437767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678517"/>
        <c:crosses val="autoZero"/>
        <c:auto val="1"/>
        <c:lblAlgn val="ctr"/>
        <c:lblOffset val="100"/>
        <c:noMultiLvlLbl val="0"/>
      </c:catAx>
      <c:valAx>
        <c:axId val="436785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7767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5754-7D6E-47C2-999F-7EE16BE2C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1C91-473F-477D-A873-84FF945E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B5B6-A5C5-401D-8532-A17E3C46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880F-4B4D-48CD-8DB0-980DEFE85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455E-B630-4125-BDAA-C3627761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37DA-13F6-4A9D-A8F8-680F1443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A174-A784-4E78-8DAA-F5238347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1B8B-09E6-44F2-BFBE-087661BB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25C8-3D81-42F0-A32C-81701A14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3124-3E10-41CC-98C0-368FF3F2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CD8D-7F10-4936-B2D2-CB2A8C5C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45AC-DBDF-480D-8477-669D6B9E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79EAC-A5E8-4FAB-A3D2-C6F6D25898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