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FEFC01-4DE6-4041-9154-ED8D3B0535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C9B6DD-8928-4D87-89B9-C465A3919F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8FC95F-ECB3-4792-AEF5-067B6CC926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649723-006C-4998-9CD9-5CCE8C685C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A2F8150-72A2-4B46-8AE4-17AA350CF0A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7FD86E-C076-4B73-BA90-9C5B3242C1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978352-D31B-4F26-9B2E-B264C137B6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1FEAA5-23C4-45E2-97AC-B5BED022FD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088574-B826-4D67-B671-7B4ADFAA7D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81168C-A25F-4F90-AC33-5BCF59138D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B8F1BC-17AF-4669-BBE7-436DE3CCAB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7613AC-9559-4063-BB91-041E910A20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EE2142-99F1-401A-BE0B-1F520761ED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B68F3C-6F35-4AB5-BA5B-8ECAF8A24C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0ED5B9-87B3-4C2D-8B66-D82099CC302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3385FF3-00FC-448D-B1B6-BE1F9B01732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9559BCC-2C7C-4FC0-8199-3EFC533846E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981627-E712-4851-B182-8AB71A228C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F15127-B939-4B2F-AA2D-F92B2DB713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4CF3AD-65CF-4B35-AA14-F01442F359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0F90A6-78FE-4E92-9038-565045D0D0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BF28D3-883E-4C36-AAC1-FB74023327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3C6678-917D-46CB-9291-7A4DBA5C9A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E025FD-5B15-4677-896D-6EFD32B4274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32E375-5748-4C10-805F-3D51536DA0D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C33CE3-A97B-4974-8C4E-46BC3481E64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0615D29-33B2-42AF-9595-A26C62DD334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CE50C85-927D-405D-9A15-F56233D11726}"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255DFA-B03E-4D94-872F-0476B4A50AD5}"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030F67-5537-42DF-9CBC-14B66F3FA8CD}"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0BBE38-BBC5-4CFD-A825-8278B732FAD1}"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BFBF91-6F46-471B-B668-CAB89CAA5DA9}"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41637B-4AB5-40D9-9963-C36573F5A78E}"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07D022-0334-4F71-BA62-C28358094D87}"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6DA08C-3628-4865-8493-1A96144631DF}"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D3BA11-CAA4-4D23-A2DD-2BF485466698}"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1FD928-BAD4-4DE1-8F52-1D09DDA75B0D}"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59A2BE-DF78-448A-AC08-713BE6E80162}"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3966EA-5D0F-4ABD-8912-9C2155A53A88}"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F75BB0-2715-48CA-BD1D-151389BDE730}"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6FB1EF-D8F7-45D7-B535-9C17A7B3C764}"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FDB245-61DD-4EA4-9D2E-838646ECE36A}"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BC4508-0B6A-4D76-B8A1-CA5DFD7AA8F9}"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E2FA21-BE94-49A6-AFD0-EE6582D6A408}"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BD8DC5-EA6B-4047-B873-9466642B3084}"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055EB6-F259-428B-9FFE-2DC77C7C5F67}"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7C65AF-874B-4B8D-99A2-66BEA2958D93}"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7F2804-4B51-44CD-AE1C-315AEB2EF482}"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8263FF-64A4-4329-AD91-7080971A027E}"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3F60B8-D10D-4C5E-882D-809AF797CFCF}"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2FC926-595E-4962-9B8E-932BF9520827}"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7669DA-94FC-4CCB-82BD-1A34F21625D3}"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BFD5B5-8DC7-4592-BEAB-4555863D94B7}"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5931F1F-AC7C-462C-A7C6-4A7782120B98}"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53AD33-CEEA-4BE3-BF29-98C8766AE736}"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BF1A5C-2050-4805-B48B-2A8EF4611787}"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013F16-8707-4F1E-B6C7-79F9BA967D4C}"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51D1D1-E807-4E26-9C79-8F058A46D0E2}"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F91078-B337-48AA-A7B0-32007D7D93C8}"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27C348-4640-490C-BD92-72F4E4B3C325}"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B7DA16-B01B-4093-B1CB-BE9EDB74441D}"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5ADE9E-DE20-483B-91C9-0AE1B84DE454}"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701249-0F83-4B6E-8544-6FB29452DE56}"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068D23-A58D-4D84-B9F0-34F5BD07CA4B}"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984A8F-6DE5-4E7C-AA45-3C7B1E60B4D6}"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A46AF1-6BED-403A-BF3A-636398399CDE}"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869027-50D4-44B1-8DB8-C1FB2C13F621}"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7DBC86-D321-4982-BE52-CA83D545A967}"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5CF29B-89C7-4657-A61C-BBE05923D8BC}"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CF8D17-3D5B-44A3-A91B-0535122B3D22}"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019581-4C62-43A4-870D-0BE12765B519}"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498836-6E9A-4C51-B22D-24496BD07EBD}"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774ED3-3F64-4CED-BF8C-48265AC5E8B2}"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194799-749A-4283-8DC0-1099D9FCF996}"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22EC1E2-0185-49D7-A1E2-FBF0714191F9}"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DB98BE-2DB5-4B2F-B0CC-3CDAF64A2FC2}"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181946-7A60-49E6-86C8-92EBE6B0BD49}"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4491DB5-1D7A-42A0-A307-FA34A7AF8DFB}"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CD4658-D0D6-49B1-BF03-FD44CD84D30C}"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316390-53EC-44C5-AF1A-7C99915A7B45}"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2C1314-C20C-40C9-BA19-090B55541C5E}"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E92BD5-56A3-4039-8760-04028D52D5B5}"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646B36-6E6C-4BA7-8FD9-2585E23D18AE}"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0CD266-4663-4F1D-8743-8A4BE1F926F1}"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2F50D5-F667-4233-A1CB-A52204EADF42}"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A235FE6-0834-4004-B7AF-E7C691EB3B87}"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1D77BB-9AC1-4061-B76F-E4639C095547}"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497E63-B227-497F-A39C-AD2DC648174F}"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C8CDD4-78C3-46C9-A00B-98C1EC2B3487}"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A17747-4613-43EF-A18F-28AB840D11D7}"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6767A1-BEDE-4317-98A6-A2271C366AD6}"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BD94A27-367C-4858-9151-5B898DB07EF0}"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6A8DC2-3AF7-4E86-A405-C1191482C1AE}"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2EB5C8-BD60-4558-9B69-5052F7591C07}"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4F5821-FF2C-45DA-9CF5-928E2C58A85B}"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FC53E2-EAE7-4CBA-B410-BD094FF20F66}"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63EC406-610D-4AB8-B9B1-61856DBC1CCA}"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85383D-656A-4399-B0F7-B944C886A91A}"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7578F1-694D-470D-900F-3B96B199279E}"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3F0FFA-3E12-4EC0-8CD2-7847EA6A0A18}"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5F8522-E841-43EA-975E-4D4078235FBC}"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8D9285-FB95-43DF-9B6A-F462FC1F5D63}"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F49743-4CD5-41D8-A859-1B7C006162D8}"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6EB4CA7-22BA-4EA9-99C8-F89763C7F3A8}"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DB3F03-EDEC-429C-BF60-34C270FA6F10}"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AFF56C-4D11-46AA-A5A4-9A8A0E128A21}"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49358A-AA6A-43E2-A3BD-F69B94846A6A}"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0D73C84-2B13-4482-AA5E-B2F1A2B9E0E6}"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DB80E0-CEFC-40D4-AF48-721E84265340}"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D227CB1-1F22-424A-9C37-8717DE5C6690}"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CE032B-F711-42D8-A918-7463950FB63C}"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760945-F962-4E55-AFD5-9F232265C555}"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D32088-BF52-4D69-B258-A3472FAEAEF4}"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850942-FB67-4BE4-B465-5A1F37D3837A}"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6EB4F1-4430-4240-A66F-02503AB92FE6}"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03404F-9812-4216-864E-81C36176B551}"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089459-962C-4BDB-A969-4E375606753B}"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8DD9B7-AE9C-4A34-A07C-547CF777B738}"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2DBF14-2380-488F-ACEF-FC5B26864DC5}"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9DD93D-63C8-4A52-B130-63CD12079E67}"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6156E4-7C50-4BC1-B9B5-FE7FC7809192}"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00B3D3-D404-4169-A9BA-BB329AF12BD7}"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12CC07-547A-4CC0-A123-E32E850A6FCA}"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7A3E53-EBAB-4D91-976C-E15A10C7D061}"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8F8804-7E3B-49E2-BC7D-B008D91EDF8D}"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8BEC75D-E146-4106-8F6E-B8FE8F06DC5E}"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684EAD-ED81-4D8C-822F-C3828E46D442}"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070176-F65A-41AB-BCEE-27C2ACD21DD6}"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137F76-A53E-4B42-BEC4-C99B70891E14}"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A5D24E-2F5E-4C7C-9204-B163FB378515}"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9402D6-7C6D-420A-A122-F8F35182713F}"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C28680-20BF-474A-A0B2-6AABC9A963BC}"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5C1606-4876-4FC6-87A1-E19C6EE650E2}"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79346A-939E-488D-93AE-97435FF4DB5E}"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55CB58-7877-428E-9837-7CF58E06041E}"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6A170F-CDD2-4D83-9EFF-1C60A0C9E8F8}"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6C33EA-3D08-4A03-991D-0CDF3C652591}"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F6E714-842C-471D-AA62-961402C594F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F6ECF2-F14A-49DF-9491-EC84DE5187BE}"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A76C80-5DF8-4391-BEC5-ECAF3E56BE92}"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89DFB7-9B72-4298-94E1-D0EAAE1E3D23}"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8EE1C0-F75F-4228-8EDC-683B64759A2C}"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EF7599-9A0C-4AED-B3F3-EC20B50F9E5C}"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D0630D-6D7F-4F9C-82F7-5E180EA12C57}"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E6DFA0-46CE-431F-AA18-4D83643F5F1C}"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0976A8-B70B-46A6-B334-40BAA35C4B71}"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005086-DA41-4569-A1A3-78B201AEE57A}"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A7516B-74E4-4A1D-A419-7A1B6E2B79CC}"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AC3179-C951-4588-BB7C-80F791073314}"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0645A0-E4A5-418D-9C53-BFD664448904}"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E8BACF-20E6-495C-A053-7B0838CC4E55}"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BACC3A-D177-4DC3-8F0D-38E247A5A27A}"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01FFC7-3147-4136-B980-A48BC41776BB}"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60C3F53-C827-49EA-B983-ADBEAE00C68B}"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E8C3D5-D2FE-4433-885C-24A2F9B4CF1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F01001-6644-47C0-B1D2-ACA449B2F1F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C19BC0-BCAD-400C-B164-182D08A8587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ADBD38-3DB9-44F8-9A94-89AF87BCF50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A2A7AF-3F5E-49BE-8C24-A7CE8CF626C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3B1EEF-E7B5-49E0-97FC-C341AFA93F3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FA7FD6F-7AA1-452E-8BB6-23870859ECB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F684A0-A7A5-4775-9134-B7C314252EB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A6D5E7-6CEC-4CE3-BB8E-1E3BB63EC90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E37855-5829-4200-8874-134508DFBEE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E99702-7FBB-4D12-8427-583C1AF6625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1A6A50-1EFC-4EDA-B837-8925E0D87DD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E1DAB5-1F99-4AD3-84BA-32AB69AEDC3B}"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0A96CA-FD11-406F-8572-2941AAACAE4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BFA0EA-40DE-4A62-B023-7C0D9CABC7F0}"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3DFF92-320C-4C99-8ED6-AE31D84B717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448554-E912-4C64-BA55-7607A6B8215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D50730-C2A5-4E2C-BF98-C2DF9D21E7DA}"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3F1C4F-A891-4CCB-A49F-7A9EFE6C7F71}"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2E9BFF-5AB7-4F24-83AD-85C834A972B9}"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B30317-17DD-408A-A379-B59FE600B2C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3152A4-1A75-48EA-A410-E7965BC8A5E9}"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51F2DC-E04F-45ED-A902-52D218815F13}"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280F40-6159-4C2B-8EDC-FEE58F007C49}"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1194F9-D1B2-4682-ABC7-966894A06507}"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687CB3-09BF-4D7D-AE2D-6DC168668522}"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C14A46-FD6C-40B0-84A6-03F25060E745}"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0A394E-7166-4F3A-A197-389F742BE3C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010271-61DA-4E41-AEB0-05ACB3382C94}"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E1DFC2-3058-4BAF-AF59-F13DA8DEA0C7}"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96ED61-C00D-4576-86A5-820CF67B9BE4}"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931A28-5E0C-49C3-93F1-C598DCB8EC89}"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C52A1D-9E0F-46F5-B7E3-E810D4AEE0DA}"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77A02D-0E03-4CCE-B0CE-EE58BCFAA829}"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C583D8-58CF-4A47-B7B6-986997D574A0}"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E3C03A-58EF-4581-8229-5444EC158249}"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CC10C4-2F28-45F7-91C4-D4D3D54F3587}"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58EE80-D22D-4577-895F-6B99D9EA0002}"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C29998-B4CA-4283-A9DE-E4E40B953199}"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CEB1C5-EA48-4514-BECE-F57831CEC931}"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0E61EF-066C-4517-A420-410B0FB3A044}"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452161-7D1F-4310-8776-5BAE407CDAC2}"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4ECC7E-554B-44BB-BC8E-DD8A29A9B1BB}"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31BDD0-5CD0-475D-8574-3CDFAC1F27B9}"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F16131-800A-482E-9AA4-559F85D5D12F}"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CE0ECA-4C29-418A-9782-DA73CE3C8958}"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4EBF47-9416-4917-A654-F37ABB260D7A}"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CC63610-7A08-4A09-A259-C1FFAB738FE2}"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F7EBCC-4FE7-4522-805F-8609D51A4BFA}"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C6442D-D0D9-4D32-B5EC-295AEEC45C2D}"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546847-E6B5-445F-8501-E8AA57E1141F}"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05D78E-73C4-41FF-89F2-A60B3C6895BA}"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621F8F-CEF7-48A8-B4FD-22C6AE82E26A}"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22F555-7C17-4B27-9AEC-5911AA50C375}"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C0C9DE-1F41-4CC0-96A8-F574D07EA670}"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A2DC50-B1D2-440F-9F5D-414183C7903C}"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49E9B86-FE43-40FB-B3C7-3FD58D61FD51}"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782855-CFEC-4BA5-A492-71F369C36E93}"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570F27-8814-4B0E-927A-26851DDCECCB}"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C3216A-2174-45CD-8B7C-58CA5D813A18}"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C1DE52-3D61-4DFE-83A9-CFE5E0C72909}"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4033C5-AEC7-4409-B483-870A0C7EBB79}"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A553EE-76B5-4884-B3DD-36F102EEB33A}"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EE5418-4830-49DD-AF5B-4C8D7D812833}"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9BDC68-1BC7-4FB7-A074-8E16D65A32F7}"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E9163C-BF40-4B66-971C-83491FD866E9}"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674141-93A0-4975-8FBA-E045F6731C3D}"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62D930-66F3-4BA9-8177-7944AA9F7363}"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B33527-430B-4357-B289-7F4A063D4CFA}"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7DBB04-F487-4DC0-A044-4B181820F3D8}"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974452-72F5-425B-9CE0-7A1C45F4F5BB}"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9B1B006-79EB-40A7-AE2D-5E5812C3C1B0}"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80A9CE-94CA-4C5F-B30C-47EF71C205C6}"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40883C-2150-4031-AFE1-91B5E96940D7}"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020425-1549-4C55-8971-EBE1FADBF693}"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B6357A-174D-4506-BE45-DE0EF7F26B58}"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CB1F8C-97A0-48B3-AAF4-AC3C71178B20}"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0A43BA-FC1B-409A-9E8B-9280E04685FF}"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225B01-0418-4C80-B4B1-92BBEF2B0F3B}"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4B2802-FEB0-48B4-BD8D-3F3BFA97DD15}"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A4F3D3-38D4-4E92-9544-08F0887B1322}"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9ED987-A62E-4B44-B4DC-184681C2E3EB}"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D40C34-65EC-4FAD-8822-52105C4D39CA}"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9B81C4-49A4-46D9-8F23-C46C3EA813FC}"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94FCF9-59A0-4420-BC9A-7806709B7FFC}"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