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81587-551F-4E04-95B8-80510E50F4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other metrics available on the Hibernate statistics MBean. This is only recording one piece of inforrmation, the EntityInsertCou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vailability metric is required to define a service, since Hibernate doesn’t have an availability setting, I used the deployer’s status like some other services 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total, updated hq-plugin.xml for the JBoss Plugin is below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name="jboss" class="JBossProductPlugin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lasspath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np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-common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-jsr77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all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log4j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mx-rmi-connector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system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jmx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default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minimal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all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dom4j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lasspath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appended to each template by MeasurementInfoXML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template-confi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ava.naming.provider.url=%java.naming.provider.url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TxManage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:service=TransactionManage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JMSMessageCach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q:service=MessageCach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anagement.local:name=%ejb.name%,J2EEServer=Local,J2EEApplication=%j2ee.application%,EJBModule=%ejb.jar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Servic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j2ee:jndiName=%ejb.name%,service=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Pool" value="${EJBService},plugin=poo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Cache" value="${EJBService},plugin=cach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ObjectName properties used in the control plugins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JMSQue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q.destination:service=Queue,name=%jms.destination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JCAConnection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jca:service=ManagedConnectionPool,name=%jca.connpool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Hibernat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Entity Insert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EntityInser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Hibernate:type=statistics:EntityInser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service=MainDeployer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service=MainDeployer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ServerInfo metrics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ctive Thread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ctiveThrea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ctive Thread Group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ctiveThreadGroup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Free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Free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Total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otal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Max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transaction manager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Activ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Transa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Committ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Comm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Commi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Rolledbac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Rollback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Rollback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otal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H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H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Misse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Misse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Current Memory Us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MemoryUs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High Memory 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HighMemory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Max Memory 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Memory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JMS Destination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ssages in Que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QueueDepth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ceivers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Receivers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JCA Connection Pool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in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in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otal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le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leConne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onnections Creat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Cre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onnections Destroy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Destroy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Stateless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thod-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thod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Stateful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thod-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thod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assive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Passi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Entity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ed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Pool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assiv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Passiv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Message Drive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ssages Receiv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ssag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note that the templates are not exactly the sa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boss 4.0 changed the case of some attribute nam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JBoss4MeasurementPlugin.translate method makes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justments. 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" include="JBoss 3.2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JMS 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JMS Destinatio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JCA Connection 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JCA Connection Poo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Stateless Sessio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Stateless Sessio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Stateful Sessio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Stateful Sessio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Entity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Entity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Message Drive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Message Drive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help name="header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[CDATA[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b&gt;jboss.installpath&lt;/b&gt; must be configured in agent.properti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example:&lt;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e&gt;   jboss.installpath=]]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hel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help name="footer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[CDATA[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pr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]]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hel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name="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ejb.nam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EJB Nam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ejb.ja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EJB Module (JAR)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2ee.applic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2EE Applic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er name="JBos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ion="3.2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Application Serve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atforms="Unix,Win3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ava.naming.provider.ur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Naming Provider UR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jnp://localhost:1099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measureme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Measurement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autoinvent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Detecto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Server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stop,start,restart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ca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/**/server/*/conf/jboss-service.xm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ca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Stateless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Stateful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Entity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Message Drive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Hibernat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Hibernate" description="Hibernate statistics" 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Hibernat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JMS Destination" internal="tru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ms.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MS 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JMS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removeAllMessages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JCA Connection Pool" internal="tru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ca.conn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CA Connection 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JCA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stop,start,restart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er name="JBos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ion="4.0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3.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measureme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4Measurement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plugi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just the important 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F3562C94-D76A-4C61-A752-E0A42067222C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hibernate.org/216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lug-ins and the PD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9320" y="342900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fine the metric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ace the following in hq-plugin.xml with the metric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oks for an MBean registered as “Hibernate:type=statistics” with a property of “EntityInsertCount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s name="Hibernate"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 name="Entity Insert 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lias="EntityInsert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emplate="Hibernate:type=statistics:EntityInsert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ategory="THROUGHPU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efaultOn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dicator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units="non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llectionType="dynamic"/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 name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lias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emplate="jboss.system:service=MainDeployer:StateString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ategory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efaultOn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dicator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units="percentag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llectionType="dynamic"/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/metrics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fine the servi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95080" y="117936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8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dd the service definition to the JBoss Server setu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service name="Hibernate"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metrics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include name="Hibernate"/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/metrics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/service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ul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42064" t="40602" r="17946" b="46088"/>
          <a:stretch/>
        </p:blipFill>
        <p:spPr>
          <a:xfrm>
            <a:off x="380880" y="4473720"/>
            <a:ext cx="8304480" cy="1774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95440" y="1185840"/>
            <a:ext cx="8001000" cy="20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352080" indent="-35208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nce deployed, the JBoss plug-in will be able to auto-inventory your Hibernate statistics MBe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0760" indent="-32724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 will see a new service type in the services drop-down of Hibern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0760" indent="-32724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Entity insert count will be recorded regularly as any other metr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rough this system, any custom MBean deployment can be integrated into the EM platform to provide detailed metrics, customized control and availability information without new developm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rchitect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ug-in typ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ustomiz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ibernate examp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ug-ins are self-contained jar files deployed on both the server and agent sid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sist of implementations of the PDK (Plugin Development Kit)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 hq-plugin.xml descrip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erver use of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server reads metadata from a plug-in to gather inventory struct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atforms, servers and servi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s detai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Where to read from and what property to rea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type of data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ation settings for a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 oper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t use of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agent executes the plug-in implementation of the following featu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asurement (metric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to Inventory and discove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ponse tim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 typ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other plug-in types and their implementations in XML (hq-plugin.xml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MeasurementPlugin.getValue to retrieve metrics declared in product descrip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ControlPlugin.doAction to implement operation defined in product descrip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to 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ServerDetector.discoverServi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 Descript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XML sec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asspath – what libraries are needed by the plug-i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lter – variable replacement based on service nam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s – defines groups of metrics that may be monitor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rver – defines a server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rvice – defines a service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plug-in featur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JBoss plug-in supports generic JMX access within a JBoss insta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y numeric JMX property can be read and stored as a metr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y JMX operation with no arguments can be called as an ac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search running processes and the files system to auto-detect JBo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only connect to homogenous JBoss versions from a single agent/plug-in insta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xtend the JBoss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e will monitor the Hibernate statistics MBe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s an application using Hibernate that creates and registers the statistics features (</a:t>
            </a: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hibernate.org/216.html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s updating the jboss-plugin.jar in both the server and the agent deploy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ghinkle</cp:lastModifiedBy>
  <dcterms:modified xsi:type="dcterms:W3CDTF">2005-07-13T08:33:53Z</dcterms:modified>
  <cp:revision>45</cp:revision>
  <dc:subject/>
  <dc:title>JBN Enterprise Management</dc:title>
</cp:coreProperties>
</file>