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544286"/>
        <c:axId val="84813340"/>
      </c:barChart>
      <c:catAx>
        <c:axId val="495442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13340"/>
        <c:crosses val="autoZero"/>
        <c:auto val="1"/>
        <c:lblAlgn val="ctr"/>
        <c:lblOffset val="100"/>
        <c:noMultiLvlLbl val="0"/>
      </c:catAx>
      <c:valAx>
        <c:axId val="848133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442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81EF-8A4E-401D-A39D-236ED05C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2763-A534-48A3-B98C-F50C4270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B8FC-A5C8-4ABB-A9A9-593A1E70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AC9F-A17F-4E74-B92F-54D6C0547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6A59-521B-4F83-ABA7-885A5B3F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D460-67EF-493C-B320-471352D6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8892-BDA2-4D5F-882F-CB9E4A56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5EB5-8743-4A57-9D3A-7043B83D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4DB0-DEE6-4424-9180-C50CF557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E159-7F51-4C94-9A95-FCCC478E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58F4-39FF-4DB1-BAC2-0250A07B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9929-933D-4629-8348-A536EBDF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6A36F-DF48-433F-99C9-1CA1FD1C45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