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1081"/>
        <c:axId val="20777146"/>
      </c:barChart>
      <c:catAx>
        <c:axId val="19941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77146"/>
        <c:crosses val="autoZero"/>
        <c:auto val="1"/>
        <c:lblAlgn val="ctr"/>
        <c:lblOffset val="100"/>
        <c:noMultiLvlLbl val="0"/>
      </c:catAx>
      <c:valAx>
        <c:axId val="2077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1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8C7-E496-4E42-B16D-55283E0A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7AD-0095-4D6C-A9E8-A020F0BC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FBE-C4B4-4D02-8B45-1422072B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8BA-670D-4E5E-A389-7AD23EDB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DCE-610E-4915-BFAF-00511668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8FA-0D96-430E-BB0F-B7B4904D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3C-A905-485B-B2EA-445FB6E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C46-40BF-407F-B85C-8F11BD22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654-2662-4895-95DC-2928554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5FB-B4FA-42E9-842E-8D8BB58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FB3-3E68-494D-BA08-B3308CB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A23-E2D8-4761-A52B-3E4A1F5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A268B-8306-4764-8DD1-24478757A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