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91219"/>
        <c:axId val="49008802"/>
      </c:barChart>
      <c:catAx>
        <c:axId val="67991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8802"/>
        <c:crosses val="autoZero"/>
        <c:auto val="1"/>
        <c:lblAlgn val="ctr"/>
        <c:lblOffset val="100"/>
        <c:noMultiLvlLbl val="0"/>
      </c:catAx>
      <c:valAx>
        <c:axId val="49008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1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33B-7761-4754-9E35-82D1FD6B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80C-7BA0-4BD0-B0F1-30D4699F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F95-706A-43AD-8C42-9EBB75DE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1B3-9505-4E4A-8B3F-95F9DA91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66B-6300-4E79-9C7B-D99149A5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5A4-DD0D-4B03-AB78-38670024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F24-B28E-4A54-B9C7-B68198B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A62-F0DC-4CCA-8C4A-EEF439F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A77-F753-401D-9BC9-2193EF0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B07-52AF-4A8E-B36F-7C972AA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72A-C85F-4A1D-91B3-7B788B7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356-0291-4ED4-82B7-2149D38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6B86-BC4C-4C7B-A2A7-D6C3C66CB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