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457095"/>
        <c:axId val="95369360"/>
      </c:barChart>
      <c:catAx>
        <c:axId val="33457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69360"/>
        <c:crosses val="autoZero"/>
        <c:auto val="1"/>
        <c:lblAlgn val="ctr"/>
        <c:lblOffset val="100"/>
        <c:noMultiLvlLbl val="0"/>
      </c:catAx>
      <c:valAx>
        <c:axId val="95369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57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3376-98E9-4DFD-90AB-55E79CC6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A2B1-78D5-4154-B3CE-34D5DBB7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E34-E0BC-4A31-BAD6-2AC7C925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5BB-C2DC-4F4B-83DB-CC22ED45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7F99-5041-4D1E-83F7-6FB158F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772D-5788-407D-9142-CABBEFBC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4D1-A993-4561-A3FF-3341903E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017-45D7-44C7-841B-119BAEF6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080F-310F-4085-8DE7-D98344F0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6256-2E97-4D6C-91D6-F1A9E46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43F-B2CB-4C41-9159-3EA9A49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E59-BC1C-4CC5-A9A3-EE28B6D3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DFA07-1BAF-4992-B034-F07293A27F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