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2709720" y="658332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IVILEGED &amp; CONFIDENTIAL. JBoss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67720" y="5951520"/>
            <a:ext cx="1228680" cy="760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 flipV="1">
            <a:off x="538200" y="98784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D19E-D89A-4C02-B970-8D71DB0F6B32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85800" y="301212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7200" y="6553080"/>
            <a:ext cx="44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VILEGED &amp; CONFIDENTIAL, JBoss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67320" y="336600"/>
            <a:ext cx="4319640" cy="1163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7573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ld/Platinum Custom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gr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 (Alert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ing (Workflow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ility – July 1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arget – testing/do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ed by license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cess still being defi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releas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sting, documentation, abosorb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Release – Octob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ministration tas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C View of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ne tune JEMS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CSP Relea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adata(metajiz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fications workflow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Update Serv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oal – Extending Suppor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sio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eedba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ments/feedback – customers, core, support, jboss world, management,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feedb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stomers have seen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e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EA CAM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1 demo of E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wo Pa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ustomer Service Port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Too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nterprise Manag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6666" r="0" b="4169"/>
          <a:stretch/>
        </p:blipFill>
        <p:spPr>
          <a:xfrm>
            <a:off x="6172200" y="1676520"/>
            <a:ext cx="2438280" cy="1447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72200" y="4267080"/>
            <a:ext cx="2457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CS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s at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DB – backend salesfor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ll expose services which EM can communicate wi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 month new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JB 3/Struts, will move to JBoss Port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s server/agent(s) on customer si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d third party software for b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a few vendor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e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agent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 on JBo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lexible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ready supports JBoss, Apache, Tomcat,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rce code license with ability to open sour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ea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SP – Frank Mer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Updates – Jessica S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Monitoring – Greg Hink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M Administ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ohn Mazzitell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les Crou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jit Mandala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ertif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Synd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cv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xwiki for docu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ted to static html for online customer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IRA Proj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line distribution from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l distribution available at…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4:53:50Z</dcterms:created>
  <dc:creator>Rich Friedman</dc:creator>
  <dc:description/>
  <dc:language>en-US</dc:language>
  <cp:lastModifiedBy>Rich Friedman</cp:lastModifiedBy>
  <dcterms:modified xsi:type="dcterms:W3CDTF">2005-07-04T23:31:28Z</dcterms:modified>
  <cp:revision>7</cp:revision>
  <dc:subject/>
  <dc:title>Overview</dc:title>
</cp:coreProperties>
</file>