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9294813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92952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3"/>
          </p:nvPr>
        </p:nvSpPr>
        <p:spPr>
          <a:xfrm>
            <a:off x="5265720" y="-36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2933280" y="514440"/>
            <a:ext cx="3429000" cy="257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4"/>
          </p:nvPr>
        </p:nvSpPr>
        <p:spPr>
          <a:xfrm>
            <a:off x="0" y="651312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5"/>
          </p:nvPr>
        </p:nvSpPr>
        <p:spPr>
          <a:xfrm>
            <a:off x="5265720" y="651312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63711-61EF-42B4-81A9-C304746670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inder: Your license is on the C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Upgrading from an installation without monitoring to one which has monitoring is currently a pain. We will look at making this easier but currently if you are entitled to monitoring you should make sure to install a monitoring capable license. The upgrade from the evaluation with monitoring to a full license is easy, just drop in the new license file.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usually a problem since you’re Server will normally be talking to agents on other machines, really just an issue for demo’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irly obvious because agent holds a reference to the servers 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he only way to correct this is to update the agent.properties file on each agent platform and set “agent.setup.serverIP” to the new IP of the server.]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tform.fqdn can be any string, just look less out of place when it is normal domain name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llow through on the slide, then at the end there will be time to do the actual install and configu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choose Complete or Custom (just make sure to install Server, Agent and CL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Default Installation Settings, the interview takes a long time and the defaults are fine for this exerci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mail server domain, you must change it but doesn’t need to be valid for this exercise, just use localho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t this out of the way earl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’t be worried if you see JBN rather JON during inst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’ve rebranded our materials to JON and the next version (1.2Final) of the software will match that to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’t install yet! There will be time at the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re for production – you can install this on laptops for demo/testing purpo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wnload and run setup.sh –full as a non root us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 need root access during inst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also have an Agent-Only installer (not on the CD!) which is smaller and is for installation on your separate agent platfo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ility to change ports or DB’s is available, we will just be installing with defaul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ilarly with UNIX, we have an Agent-Only installer for your agent platforms running the Windows OS (again, this is NOT on the CD!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key sub-directo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straightforw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06668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36912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01560" y="6486120"/>
            <a:ext cx="81187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0DE4A2FC-9CB5-426F-B4C5-A1FB1AF408F8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8160" y="4680"/>
            <a:ext cx="1550880" cy="951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5176440" y="6477120"/>
            <a:ext cx="3853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740640" y="111240"/>
            <a:ext cx="2332080" cy="14446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hyperlink" Target="http://localhost:7080/" TargetMode="External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stallation and Configur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218960" y="3429000"/>
            <a:ext cx="64767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JBoss Operations Network distribu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stallation and Configur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Running (Windows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95080" y="1185480"/>
            <a:ext cx="8001000" cy="26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Windows installer configures services that are automatically started when Windows star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installer starts these services immediately after installation and points a browser at the consol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257480" y="3733920"/>
            <a:ext cx="6629400" cy="25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itial auto-discovery sca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0010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agent will perform an initial auto-discovery upon startup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ON supports managing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oss 3.2.x and 4.x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omcat 4.0.x, 4.1.x, 5.0.x, 5.5.x </a:t>
            </a:r>
            <a:r>
              <a:rPr b="1" lang="en-US" sz="2600" spc="-1" strike="noStrike" baseline="30000">
                <a:solidFill>
                  <a:srgbClr val="000000"/>
                </a:solidFill>
                <a:latin typeface="Verdana"/>
              </a:rPr>
              <a:t>*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pache 1.3.x and 2.x </a:t>
            </a:r>
            <a:r>
              <a:rPr b="1" lang="en-US" sz="2600" spc="-1" strike="noStrike" baseline="30000">
                <a:solidFill>
                  <a:srgbClr val="000000"/>
                </a:solidFill>
                <a:latin typeface="Verdana"/>
              </a:rPr>
              <a:t>*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"/>
          <p:cNvSpPr/>
          <p:nvPr/>
        </p:nvSpPr>
        <p:spPr>
          <a:xfrm>
            <a:off x="1744560" y="5105520"/>
            <a:ext cx="5654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omcat and Apache require further configuration so JON can monitor th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stalling the Licens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80010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nly the server uses the license file for execution. Agents run without a license fil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server license can be obtained from the JBoss Customer Support Portal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85800" y="4038480"/>
            <a:ext cx="7848720" cy="19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stalling the License (con’d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80880" y="2971800"/>
            <a:ext cx="6324840" cy="12477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2590920" y="4267080"/>
            <a:ext cx="6095880" cy="19432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3059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Now that the Server is started, login to see the main home pag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336699"/>
                </a:solidFill>
                <a:uFillTx/>
                <a:latin typeface="Verdana"/>
                <a:hlinkClick r:id="rId3"/>
              </a:rPr>
              <a:t>http://localhost:7080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Upload the license to the JON Server using its Console GUI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cense upload page appears after you log into the GUI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28600" y="4800600"/>
            <a:ext cx="2300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 message like this will appear after you upload a valid license that you received from the Customer Support Port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mport initial auto-discovery sca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64760" indent="-46476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Dashboard will show you what has been auto-discovered (give it a minute!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lect the resources you want to mana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lick the “Import” button to tell the server, “Yes, I want to manage these resources that have been discovered”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You will notice that the server and agent will be auto-discovered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s means you can manage/monitor the JON distribution itself!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143000" y="1828800"/>
            <a:ext cx="7796160" cy="320832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esults of initial auto-discover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"/>
          <p:cNvSpPr/>
          <p:nvPr/>
        </p:nvSpPr>
        <p:spPr>
          <a:xfrm>
            <a:off x="990720" y="2514600"/>
            <a:ext cx="4437000" cy="91440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1066680" y="3809520"/>
            <a:ext cx="4343400" cy="68580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-720" y="2362320"/>
            <a:ext cx="100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he Ag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-1080" y="43434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he Ser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143000" y="3352680"/>
            <a:ext cx="4286160" cy="26676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2971800"/>
            <a:ext cx="1219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Hey! It found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y Apach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eb Server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2666880" y="4266720"/>
            <a:ext cx="2819520" cy="160020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976760" y="5867280"/>
            <a:ext cx="537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lick me to import these auto-discovered servers into JON Ser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Troubleshooting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80520" y="1185840"/>
            <a:ext cx="821556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 order for the initial import of resources into the JON Server to succeed, the JON Server must have a working network connection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o for the lab make sure your WiFi is working 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before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beginning the installatio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s issue will be fixed in the next vers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Troubleshooting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95080" y="1371600"/>
            <a:ext cx="8001000" cy="49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nce the JON server is deployed and inventoried, changing the IP address of the machine it is running on will cause failures when the agents try to connec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blems mostly seen on laptop installs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since laptops frequently change ip’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ull-install on Windows will default hostname for agent and server to localhost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ut if installing on Unix make sure to answer as follows: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What is the JON Server IP address: 127.0.0.1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What IP should the JON server use to contact the agent: 127.0.0.1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Troubleshooting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f the name of the platform changes the JON Server will try to re-discover all the servers on the platform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latform name changes often occur due to DNS changes. Again most common for laptops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revent this problem by adding an entry to agent.properties file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latform.fqdn=machinename.company.co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ummary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95080" y="1295280"/>
            <a:ext cx="8001000" cy="50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60080" indent="-46008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ON Server and Agents available for Windows and Unix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stall for either Server and/or Agent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nce started Agents will begin sending data to the Server immediately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Via the Server’s Portal interface, discovered resources can be imported and brought under management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95080" y="1447920"/>
            <a:ext cx="8001000" cy="48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trodu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unning the instal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itial configur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ab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stall the full distribution including server, agent and client shell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Verdan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ke sure you have an network connec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Verdan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ke sure to specify server and agent hostname/ip as localhost/127.0.0.1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Verdan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fter install has completed update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JBN 1.2.8/agent-jboss-1.2.8/agent.properties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478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o include </a:t>
            </a:r>
            <a:r>
              <a:rPr b="0" i="1" lang="en-US" sz="2100" spc="-1" strike="noStrike">
                <a:solidFill>
                  <a:srgbClr val="000000"/>
                </a:solidFill>
                <a:latin typeface="Verdana"/>
              </a:rPr>
              <a:t>platform.fqdn=machine.yourcompany.com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Verdan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Restart the agen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pload license to serve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mport your initial auto-discovered serv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Rebrand</a:t>
            </a: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d to be called: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oss Network Enterprise Manager, also known 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JBN EM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JBN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Now called: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oss Operations Network, also known 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JBoss ON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JON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trodu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JBoss Operations Network (JON) distribution consists of two par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Serve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e engine that drives it al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Interactive GUI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Agen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n agent is deployed on each operating system that is to be monitored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rerequisite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anagement Server Requiremen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mall server (1-5 platforms, 5-15 servers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1x1GHZ x86 or 1x450MHZ sparc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512MB RAM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1GB Storag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edium server (6-25 platforms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2x2GHZ x86 or 2x450MHZ sparc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1GB RAM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1GB Storag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se are recommended for production systems, but you can install the server on less powerful laptops for demo and testing purpos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stalling (Unix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95440" y="1185480"/>
            <a:ext cx="8015040" cy="50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o install the Server (and/or Agent and/or client shell), download the appropriate installation package for your platform and follow the installation script’s promp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e basic installation can be performed by executing “setup.sh –full” and choosing the server, agent and shel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stall script cannot be run as root however, you must have root access to run another script the installer asks you to run [got it?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s second script is called “tune-os.sh” and is only required on some platforms (e.g. Linux but not Windows). It sets some kernel parameters necessary to run the server properly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An agent-only installer is availabl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stall (Windows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o install the Server (and/or Agent and/or client shell) on Windows, download the full windows installer program and run it as desired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advanced installation will allow you to alter default por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database settings can be chosen from an existing Oracle or PostgreSQL installation or the default embedded PostgreSQL choi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2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JBoss ON also has an agent-only installer availabl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stalled File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762120" y="1295280"/>
            <a:ext cx="7086600" cy="4953240"/>
            <a:chOff x="762120" y="1295280"/>
            <a:chExt cx="7086600" cy="4953240"/>
          </a:xfrm>
        </p:grpSpPr>
        <p:pic>
          <p:nvPicPr>
            <p:cNvPr id="106" name="" descr=""/>
            <p:cNvPicPr/>
            <p:nvPr/>
          </p:nvPicPr>
          <p:blipFill>
            <a:blip r:embed="rId1"/>
            <a:stretch/>
          </p:blipFill>
          <p:spPr>
            <a:xfrm>
              <a:off x="762120" y="1295280"/>
              <a:ext cx="2200320" cy="495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3886200" y="1523880"/>
              <a:ext cx="3962520" cy="762120"/>
            </a:xfrm>
            <a:prstGeom prst="borderCallout1">
              <a:avLst>
                <a:gd name="adj1" fmla="val 18750"/>
                <a:gd name="adj2" fmla="val -8333"/>
                <a:gd name="adj3" fmla="val -11875"/>
                <a:gd name="adj4" fmla="val -48837"/>
              </a:avLst>
            </a:prstGeom>
            <a:noFill/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This is the directory given to the installer as the location where the JON distribution should be installe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886200" y="2590920"/>
              <a:ext cx="1143000" cy="304560"/>
            </a:xfrm>
            <a:prstGeom prst="borderCallout2">
              <a:avLst>
                <a:gd name="adj1" fmla="val 18750"/>
                <a:gd name="adj2" fmla="val -8333"/>
                <a:gd name="adj3" fmla="val 37500"/>
                <a:gd name="adj4" fmla="val -58611"/>
                <a:gd name="adj5" fmla="val -298958"/>
                <a:gd name="adj6" fmla="val -112500"/>
              </a:avLst>
            </a:prstGeom>
            <a:noFill/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The Ag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886200" y="3505320"/>
              <a:ext cx="1143000" cy="304560"/>
            </a:xfrm>
            <a:prstGeom prst="borderCallout2">
              <a:avLst>
                <a:gd name="adj1" fmla="val 18750"/>
                <a:gd name="adj2" fmla="val -8333"/>
                <a:gd name="adj3" fmla="val 37500"/>
                <a:gd name="adj4" fmla="val -50694"/>
                <a:gd name="adj5" fmla="val 121356"/>
                <a:gd name="adj6" fmla="val -105833"/>
              </a:avLst>
            </a:prstGeom>
            <a:noFill/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The Serv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86200" y="4419720"/>
              <a:ext cx="1523880" cy="304560"/>
            </a:xfrm>
            <a:prstGeom prst="borderCallout2">
              <a:avLst>
                <a:gd name="adj1" fmla="val 18750"/>
                <a:gd name="adj2" fmla="val -8333"/>
                <a:gd name="adj3" fmla="val 37500"/>
                <a:gd name="adj4" fmla="val -42814"/>
                <a:gd name="adj5" fmla="val 393750"/>
                <a:gd name="adj6" fmla="val -90000"/>
              </a:avLst>
            </a:prstGeom>
            <a:noFill/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The Client Shel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Running (Unix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80010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rve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server can be started with:</a:t>
            </a:r>
            <a:br>
              <a:rPr sz="2600"/>
            </a:b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jbn-server.sh star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gen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agent is started with:</a:t>
            </a:r>
            <a:br>
              <a:rPr sz="2600"/>
            </a:b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jbn-agent.sh star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9T13:38:31Z</dcterms:created>
  <dc:creator>ghinkle</dc:creator>
  <dc:description/>
  <dc:language>en-US</dc:language>
  <cp:lastModifiedBy>John Mazzitelli</cp:lastModifiedBy>
  <dcterms:modified xsi:type="dcterms:W3CDTF">2006-01-20T18:53:41Z</dcterms:modified>
  <cp:revision>93</cp:revision>
  <dc:subject/>
  <dc:title>JBN Enterprise Management</dc:title>
</cp:coreProperties>
</file>