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4"/>
          </p:nvPr>
        </p:nvSpPr>
        <p:spPr>
          <a:xfrm>
            <a:off x="4280040" y="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280040" y="10156680"/>
            <a:ext cx="32781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A126783-756F-4DE3-9B0E-16F8AD9E1651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EA3A0-34C8-4EED-A9CF-6F3480FE25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46E8FF-A8FA-4263-8A64-0E4FCDFF8F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EE169-C244-4461-B915-E39F4D9AEF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0980-25E6-44B0-B3BA-ADE5F80D31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D3B6D-DE27-4447-9B95-8E4DBC5A6D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A1D1-F9B8-4370-A0D8-644B9B4E5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B3A2D-1DA8-47A0-8066-05F3923DE1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1436B-53FB-4194-8598-08CE1FD410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000" y="-36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74A51-BF00-4243-89B4-B66386945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3693F-4727-4D0C-8342-C5FD90D6E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112F1E-49FC-458F-95CC-7D4AB73DD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BADAA8-D3A2-467B-A018-337381872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000" y="-36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3640" indent="-28728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528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7280" indent="-216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8920" indent="-215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8920" indent="-2156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7146879-5FFA-4C4D-921A-B6932C41F64F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5067360"/>
                <a:tab algn="l" pos="5791320"/>
                <a:tab algn="l" pos="6515280"/>
                <a:tab algn="l" pos="7238880"/>
                <a:tab algn="l" pos="7962840"/>
                <a:tab algn="l" pos="8686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/>
  <dc:language>en-US</dc:language>
  <cp:lastModifiedBy/>
  <cp:revision>0</cp:revision>
  <dc:subject/>
  <dc:title/>
</cp:coreProperties>
</file>