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8E2E-05E4-48AE-81AF-8ACBD7F71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D858-EC2D-4B20-954C-EEE50B6E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2F69-79EF-4894-B9CD-7F72646D6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EE96-FB81-46EE-82C6-0F56AF77E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7C36-DA32-4BEB-B9DC-F0F60F22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1B64-3144-4831-8DD4-7EA0EC9B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9FE2-AA73-4B9A-9DD3-688E5D4A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8CB6-48E9-48C1-9884-4373D0A1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C45F-0772-4611-91D0-3918742E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5467-BDE3-44D5-A98D-CBF873CE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10E1-A30D-483A-AC97-893833FE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C27B-61FF-446B-B7C7-11EEC566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06B5-7373-43FD-930E-B16B1BD6F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/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752480"/>
            <a:ext cx="213372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752480"/>
            <a:ext cx="2133360" cy="1371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343400"/>
            <a:ext cx="21337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D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419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4" idx="2"/>
          </p:cNvCxnSpPr>
          <p:nvPr/>
        </p:nvCxnSpPr>
        <p:spPr>
          <a:xfrm flipH="1" rot="16200000">
            <a:off x="2724120" y="3790800"/>
            <a:ext cx="228960" cy="3619800"/>
          </a:xfrm>
          <a:prstGeom prst="bentConnector3">
            <a:avLst>
              <a:gd name="adj1" fmla="val 201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373760" y="594360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*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905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6480" y="15238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81480" y="2438280"/>
            <a:ext cx="1067040" cy="190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949000">
            <a:off x="4384440" y="30063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endCxn id="55" idx="3"/>
          </p:cNvCxnSpPr>
          <p:nvPr/>
        </p:nvCxnSpPr>
        <p:spPr>
          <a:xfrm flipH="1" flipV="1" rot="5400000">
            <a:off x="5886360" y="3485880"/>
            <a:ext cx="1219320" cy="1562760"/>
          </a:xfrm>
          <a:prstGeom prst="bentConnector3">
            <a:avLst>
              <a:gd name="adj1" fmla="val 404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715000" y="4419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4" idx="3"/>
            <a:endCxn id="55" idx="4"/>
          </p:cNvCxnSpPr>
          <p:nvPr/>
        </p:nvCxnSpPr>
        <p:spPr>
          <a:xfrm flipV="1">
            <a:off x="5715000" y="3238560"/>
            <a:ext cx="1981440" cy="1791000"/>
          </a:xfrm>
          <a:prstGeom prst="bentConnector3">
            <a:avLst>
              <a:gd name="adj1" fmla="val 11172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021720" y="510552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066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43200" y="1066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9280" y="990720"/>
            <a:ext cx="98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u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,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[content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8440" y="1143000"/>
            <a:ext cx="99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ge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819520"/>
            <a:ext cx="838080" cy="838080"/>
          </a:xfrm>
          <a:prstGeom prst="ca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200040" y="312372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2004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2200" y="3276720"/>
            <a:ext cx="12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poRef*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752480"/>
            <a:ext cx="1219320" cy="3049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1752480"/>
            <a:ext cx="3045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1752480"/>
            <a:ext cx="3049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34340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5791320"/>
            <a:ext cx="1143000" cy="8380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521800">
            <a:off x="5714640" y="571500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Topology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tremely important facet to the entire JBN Admi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webdav clients ge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the higher levels talk to the virtual fil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server refers to multip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(refers to 1 or more n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(refers to 1 and only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looks the same syntatically; semantically they are different (one has wildcards and/or may refer to multiple nodes; the other only refers to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{rtype};domain={s};platform={s}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={s};{dist-ext};{rtype-ex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} := [file|jmx|snmp|?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s} := any string, possibly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dist-ext} := distribution type extensions in the form of [;{s1}={s2}] where {s1} is the name string and {s2} is the valu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-ext} := resource type extensions in the form of [;{s1}={s2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 infers a distribution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reference extensions allow you to further define the thing being referenced using additional qual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rtype-ext} for “file” types can be “;path=/a.t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dist-ext} for distribution type of “jboss401” can be “;server=all;application=slide.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everything we want without {dist-ext}, it’ll just be “less n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Topology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prod;platform=alice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*;distributionName=myapache;path=/conf/http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alice,bob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jmx;domain=*;platform=*;distributionName=myjboss;objectName=x:nm=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1295280"/>
            <a:ext cx="3276720" cy="1828800"/>
            <a:chOff x="152280" y="1295280"/>
            <a:chExt cx="3276720" cy="1828800"/>
          </a:xfrm>
        </p:grpSpPr>
        <p:sp>
          <p:nvSpPr>
            <p:cNvPr id="83" name=""/>
            <p:cNvSpPr/>
            <p:nvPr/>
          </p:nvSpPr>
          <p:spPr>
            <a:xfrm>
              <a:off x="152280" y="1295280"/>
              <a:ext cx="327672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1599840"/>
              <a:ext cx="121932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28800" y="1599840"/>
              <a:ext cx="1294920" cy="533520"/>
              <a:chOff x="1828800" y="1599840"/>
              <a:chExt cx="1294920" cy="533520"/>
            </a:xfrm>
          </p:grpSpPr>
          <p:sp>
            <p:nvSpPr>
              <p:cNvPr id="86" name=""/>
              <p:cNvSpPr/>
              <p:nvPr/>
            </p:nvSpPr>
            <p:spPr>
              <a:xfrm>
                <a:off x="1828800" y="159984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4760" y="167616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09480" y="2057040"/>
              <a:ext cx="121932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048120" y="3048120"/>
            <a:ext cx="5790960" cy="3352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581280"/>
            <a:ext cx="518148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191120"/>
            <a:ext cx="144756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502920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371600"/>
            <a:ext cx="4191120" cy="1447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676520"/>
            <a:ext cx="3581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2362320"/>
            <a:ext cx="762120" cy="1828800"/>
          </a:xfrm>
          <a:custGeom>
            <a:avLst/>
            <a:gdLst>
              <a:gd name="textAreaLeft" fmla="*/ 0 w 762120"/>
              <a:gd name="textAreaRight" fmla="*/ 762480 w 7621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3" idx="0"/>
            <a:endCxn id="91" idx="2"/>
          </p:cNvCxnSpPr>
          <p:nvPr/>
        </p:nvCxnSpPr>
        <p:spPr>
          <a:xfrm flipV="1">
            <a:off x="4686120" y="4876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3" idx="0"/>
            <a:endCxn id="92" idx="2"/>
          </p:cNvCxnSpPr>
          <p:nvPr/>
        </p:nvCxnSpPr>
        <p:spPr>
          <a:xfrm flipV="1">
            <a:off x="4686120" y="4876200"/>
            <a:ext cx="15246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3"/>
            <a:endCxn id="99" idx="2"/>
          </p:cNvCxnSpPr>
          <p:nvPr/>
        </p:nvCxnSpPr>
        <p:spPr>
          <a:xfrm flipV="1">
            <a:off x="5410080" y="4876560"/>
            <a:ext cx="2324880" cy="496080"/>
          </a:xfrm>
          <a:prstGeom prst="curvedConnector2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248520" y="2362320"/>
            <a:ext cx="761760" cy="1828800"/>
          </a:xfrm>
          <a:custGeom>
            <a:avLst/>
            <a:gdLst>
              <a:gd name="textAreaLeft" fmla="*/ 0 w 761760"/>
              <a:gd name="textAreaRight" fmla="*/ 762120 w 76176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276720"/>
            <a:ext cx="2889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group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ous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s have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which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ependent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 cluste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only 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long i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fer to groups of things - with wildcards or do we add something else to topo r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extensions can we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how we need to translate this syntax to conform to URL syntax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perly determine what a topo ref actually refers to, access to the topology databa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4:32:57Z</dcterms:created>
  <dc:creator>John Mazzitelli</dc:creator>
  <dc:description/>
  <dc:language>en-US</dc:language>
  <cp:lastModifiedBy>John Mazzitelli</cp:lastModifiedBy>
  <dcterms:modified xsi:type="dcterms:W3CDTF">2005-05-03T05:57:29Z</dcterms:modified>
  <cp:revision>8</cp:revision>
  <dc:subject/>
  <dc:title>Slide 1</dc:title>
</cp:coreProperties>
</file>