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43111"/>
        <c:axId val="2704504"/>
      </c:barChart>
      <c:catAx>
        <c:axId val="18943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4504"/>
        <c:crosses val="autoZero"/>
        <c:auto val="1"/>
        <c:lblAlgn val="ctr"/>
        <c:lblOffset val="100"/>
        <c:noMultiLvlLbl val="0"/>
      </c:catAx>
      <c:valAx>
        <c:axId val="2704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43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536-03E5-4087-846F-719A5643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C587-D467-4163-B78F-F0804EA1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4B0-7BA8-4A8E-AF80-BBE07F46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39A-B2ED-43AA-921E-5F32784C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58C-1F46-4A5D-90B1-899C2673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220-4428-48F1-AE2C-2B8CAA6E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ED7-8D1C-47AE-B96F-C70EDA6F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A3A3-8442-40FC-8D93-81DFD373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F9A-CD6C-4F5F-852C-7FE25E06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CC0-F798-4919-905A-24C64F4F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730-62D2-4933-B0C5-8494692F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E03-C0A4-4C13-9D45-82CED7D5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B5871-16A1-4967-8A81-BE43ADCB89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