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51252"/>
        <c:axId val="35912699"/>
      </c:barChart>
      <c:catAx>
        <c:axId val="59051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2699"/>
        <c:crosses val="autoZero"/>
        <c:auto val="1"/>
        <c:lblAlgn val="ctr"/>
        <c:lblOffset val="100"/>
        <c:noMultiLvlLbl val="0"/>
      </c:catAx>
      <c:valAx>
        <c:axId val="3591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1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DA9-1D2A-47AB-B958-CCCA25D1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474-A733-4E97-8461-7BF4C8E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A92-8486-4146-9B9C-4265809A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40B-0CAF-47DC-BAED-6CF6D5FC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DB9-F0CC-45EF-83E7-6290021E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0A0-B146-4872-B2F1-C7E85614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C55-F68E-44CE-BEE8-FB50BAB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CCF-135D-443C-9D3D-C174C69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245-7585-4D3B-B818-0578E9F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16E-DFB7-4658-AC12-830D42F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6F5-05CD-4788-B2D1-19AF36C6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843-DA7D-47A9-80D2-FE0075B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20824-C961-47C9-A1A7-8DDC778127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