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1419"/>
        <c:axId val="62093815"/>
      </c:barChart>
      <c:catAx>
        <c:axId val="1301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93815"/>
        <c:crosses val="autoZero"/>
        <c:auto val="1"/>
        <c:lblAlgn val="ctr"/>
        <c:lblOffset val="100"/>
        <c:noMultiLvlLbl val="0"/>
      </c:catAx>
      <c:valAx>
        <c:axId val="62093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471-9942-4A6B-8EB4-7313D085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00E-AAC5-4335-B338-1863940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741-40EF-4E66-897A-B607549E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AF9-D4D0-45DA-8269-292BBD2A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217-C9C2-4E65-8F3D-EA84E8F9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6A1-3605-46C4-B13D-2B39288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EE1-D276-4323-A195-3100F7F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5E-CBFD-4E38-BC7D-4A99C554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695-9A7D-4247-82FE-80F3BF3E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02C-DD94-4ABD-9D00-A300FD6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1CA-4509-45AA-917F-AB090B5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752-37FA-4384-9D71-88F08FD6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1859A-66FE-45BB-8895-FC1601577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