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D590-2FFC-4A73-97F3-AB7E33A0B98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B7F46D-59D0-45C8-9D19-DAE5FADA92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49066-D958-46B6-BC92-8272FB1DB4B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52919-7359-4B24-9509-1EA0AE260A06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4D65-8911-4719-BCEC-499F6927E4A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94570-1604-466B-9662-7630CF647F1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DE303-9640-40D4-BD94-86748C0A9110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1E300-08AA-4F1B-980D-2E100085F32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3362C-C4E9-493A-8A42-9ACD829D1837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657AE-1ED8-4BEF-BA75-FDF3FE005C41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6DF81-C540-4874-B1D6-122CA83CEBBD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50337-FEE9-40AD-BF89-9058263722FB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D3CDC-C7C2-4DD3-B0A9-100CB40E8F02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70458-3EDA-4AE1-9532-5DEE9188D7C3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69C86-2835-41B0-A23E-FD6A658C6CDB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2B65-5357-457C-9283-ACA6F066531A}" type="datetime1">
              <a:rPr lang="en-US"/>
              <a:t>07/31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8D160-279F-46A6-A952-C506BF68F177}" type="datetime1">
              <a:rPr lang="en-US"/>
              <a:t>07/31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