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50F8C-7489-43D4-AAF8-28A32F821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9EBD1-6D76-4948-B844-ADAFFBCC4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AA740-1BE4-46E5-B00B-904098A70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7D0F7-B434-4916-AB98-7A5612870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33FE6-E7EB-4A66-A340-BF314D3FE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8DAA7-55F1-440E-9451-6423C17D5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EACBC-6C24-4A6A-A2D9-E25E3B2DA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C9023-0D9C-4EA7-AA22-9FD5967F5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071CA-835C-40C8-8C91-19D0A8D5A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0D9A8-D46E-4ACC-AA37-155AAD5EF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A43CD-196B-4C71-806F-EC9C7E236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EF3FD-14E7-4890-9F38-9F442B401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E613E-E451-4AE8-B7F5-1BEB831D6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9E0BE-0852-46A8-A678-F64B8143B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51C4B-5C80-4868-A1FA-8837665F0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62105-1B97-4503-9E14-D053F7F98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B28C1-D01E-4D55-A65F-89EDC50CE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17998-BB4D-460D-936E-2C3F5E2E6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E73A3-48A9-4E35-A3D4-789D163E6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F8853-C937-4B0E-9F22-6244794B8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EA23E-14F3-47CE-9CAC-4F7E2D950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6E170-EBAD-4C23-A648-E0B63DCA8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434F8-D5AB-4A9A-B9DD-1F0BB827C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DAB8E-FC2D-41E6-8990-967E5FD48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667BF-1543-408A-AD1D-08392282C273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97B0F-E8B2-4063-9A32-63FB3F041183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5400" y="1920600"/>
            <a:ext cx="82263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Pulling Out All the Stop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371600" y="3200040"/>
            <a:ext cx="6400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pplication of Tcl user extensions in a high performance multi-threaded electronic design applic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by Phil Brooks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Built-in Script Languag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267080" y="1599840"/>
            <a:ext cx="373536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eaeaea"/>
                </a:solidFill>
                <a:uFillTx/>
                <a:latin typeface="Arial"/>
              </a:rPr>
              <a:t>Byte Code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ADD   temp3  perim_co(S,G)  perim_in(S,G)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ADD   temp2  temp3  perim_co(D,G)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ADD   temp1  temp2  perim_in(D,G)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MUL   w  0.5  temp1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DIV   l  area(G)  w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NE    bends(G)  0 [31] [70]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GT    w  l [37] [55]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MUL   temp2  0.5  bends(G)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MUL   temp1  temp2  l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SUB   w  w  temp1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GOTO [70]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MUL   temp2  0.5  bends(G)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MUL   temp1  temp2  w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SUB   l  l  temp1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HALT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08040" y="1751040"/>
            <a:ext cx="3735360" cy="44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eaeaea"/>
                </a:solidFill>
                <a:uFillTx/>
                <a:latin typeface="Arial"/>
              </a:rPr>
              <a:t>Variable Name</a:t>
            </a:r>
            <a:r>
              <a:rPr b="1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en-US" sz="1400" spc="-1" strike="noStrike" u="sng">
                <a:solidFill>
                  <a:srgbClr val="eaeaea"/>
                </a:solidFill>
                <a:uFillTx/>
                <a:latin typeface="Arial"/>
              </a:rPr>
              <a:t>Value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w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0.0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l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0.0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temp1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0.0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temp2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0.0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temp3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0.0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perim_co(S,G)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  4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perim_in(S,G)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  6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perim_co(D,G)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  4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perim_in(D,G)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  6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area(G)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12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bends(G)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  2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567240" y="3314880"/>
            <a:ext cx="1895400" cy="1347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254320" y="3789360"/>
            <a:ext cx="2568600" cy="885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8320" y="2286000"/>
            <a:ext cx="958680" cy="2101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450040" y="4205160"/>
            <a:ext cx="536400" cy="455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244600" y="3808440"/>
            <a:ext cx="0" cy="8413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255760" y="3794040"/>
            <a:ext cx="131292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 flipV="1">
            <a:off x="3569760" y="3322800"/>
            <a:ext cx="3240" cy="47448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243160" y="4665600"/>
            <a:ext cx="373212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581280" y="3325680"/>
            <a:ext cx="105912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648320" y="2303640"/>
            <a:ext cx="0" cy="102204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648320" y="2297160"/>
            <a:ext cx="95256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600880" y="2297160"/>
            <a:ext cx="0" cy="189684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275000" y="2708280"/>
            <a:ext cx="1622520" cy="236520"/>
          </a:xfrm>
          <a:prstGeom prst="rect">
            <a:avLst/>
          </a:prstGeom>
          <a:solidFill>
            <a:srgbClr val="ff99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809880" y="3013200"/>
            <a:ext cx="235080" cy="1966680"/>
          </a:xfrm>
          <a:prstGeom prst="rect">
            <a:avLst/>
          </a:prstGeom>
          <a:solidFill>
            <a:srgbClr val="ff99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841480" y="3435480"/>
            <a:ext cx="235080" cy="1539720"/>
          </a:xfrm>
          <a:prstGeom prst="rect">
            <a:avLst/>
          </a:prstGeom>
          <a:solidFill>
            <a:srgbClr val="ff99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313000" y="4167360"/>
            <a:ext cx="566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A1,P1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259080" y="4167360"/>
            <a:ext cx="566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A2,P2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944960" y="3986280"/>
            <a:ext cx="567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A4,P4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853160" y="2430360"/>
            <a:ext cx="566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A3,P3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809800" y="5132520"/>
            <a:ext cx="333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L1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773520" y="5586480"/>
            <a:ext cx="34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L2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464160" y="2687760"/>
            <a:ext cx="333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L3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840040" y="5032440"/>
            <a:ext cx="0" cy="3762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73320" y="5032440"/>
            <a:ext cx="1800" cy="3715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840040" y="5133960"/>
            <a:ext cx="233280" cy="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816360" y="5603760"/>
            <a:ext cx="233280" cy="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345360" y="2697120"/>
            <a:ext cx="2332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54720" y="2927520"/>
            <a:ext cx="2332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V="1">
            <a:off x="6443640" y="2700360"/>
            <a:ext cx="0" cy="21744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flipV="1">
            <a:off x="4154400" y="3338640"/>
            <a:ext cx="0" cy="131256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flipV="1">
            <a:off x="2766960" y="3798720"/>
            <a:ext cx="0" cy="85248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656240" y="3051000"/>
            <a:ext cx="934920" cy="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541600" y="3952800"/>
            <a:ext cx="41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W1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091040" y="3894120"/>
            <a:ext cx="41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W2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935600" y="3051000"/>
            <a:ext cx="41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W3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2398680" y="3962520"/>
            <a:ext cx="167400" cy="185400"/>
            <a:chOff x="2398680" y="3962520"/>
            <a:chExt cx="167400" cy="185400"/>
          </a:xfrm>
        </p:grpSpPr>
        <p:sp>
          <p:nvSpPr>
            <p:cNvPr id="271" name=""/>
            <p:cNvSpPr/>
            <p:nvPr/>
          </p:nvSpPr>
          <p:spPr>
            <a:xfrm>
              <a:off x="2398680" y="3962520"/>
              <a:ext cx="165600" cy="18000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H="1">
              <a:off x="2404080" y="3969000"/>
              <a:ext cx="159480" cy="1735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398680" y="3967920"/>
              <a:ext cx="167400" cy="18000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74" name=""/>
          <p:cNvGrpSpPr/>
          <p:nvPr/>
        </p:nvGrpSpPr>
        <p:grpSpPr>
          <a:xfrm>
            <a:off x="3452760" y="3922560"/>
            <a:ext cx="167400" cy="185400"/>
            <a:chOff x="3452760" y="3922560"/>
            <a:chExt cx="167400" cy="185400"/>
          </a:xfrm>
        </p:grpSpPr>
        <p:sp>
          <p:nvSpPr>
            <p:cNvPr id="275" name=""/>
            <p:cNvSpPr/>
            <p:nvPr/>
          </p:nvSpPr>
          <p:spPr>
            <a:xfrm>
              <a:off x="3452760" y="3922560"/>
              <a:ext cx="165600" cy="18000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>
              <a:off x="3458160" y="3929040"/>
              <a:ext cx="159480" cy="1735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452760" y="3927960"/>
              <a:ext cx="167400" cy="18000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78" name=""/>
          <p:cNvGrpSpPr/>
          <p:nvPr/>
        </p:nvGrpSpPr>
        <p:grpSpPr>
          <a:xfrm>
            <a:off x="2873520" y="4761000"/>
            <a:ext cx="167760" cy="185400"/>
            <a:chOff x="2873520" y="4761000"/>
            <a:chExt cx="167760" cy="185400"/>
          </a:xfrm>
        </p:grpSpPr>
        <p:sp>
          <p:nvSpPr>
            <p:cNvPr id="279" name=""/>
            <p:cNvSpPr/>
            <p:nvPr/>
          </p:nvSpPr>
          <p:spPr>
            <a:xfrm>
              <a:off x="2873520" y="4761000"/>
              <a:ext cx="165240" cy="18000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H="1">
              <a:off x="2879280" y="4767480"/>
              <a:ext cx="159120" cy="1735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874240" y="4766400"/>
              <a:ext cx="167040" cy="18000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82" name=""/>
          <p:cNvGrpSpPr/>
          <p:nvPr/>
        </p:nvGrpSpPr>
        <p:grpSpPr>
          <a:xfrm>
            <a:off x="4929120" y="3571920"/>
            <a:ext cx="167400" cy="185400"/>
            <a:chOff x="4929120" y="3571920"/>
            <a:chExt cx="167400" cy="185400"/>
          </a:xfrm>
        </p:grpSpPr>
        <p:sp>
          <p:nvSpPr>
            <p:cNvPr id="283" name=""/>
            <p:cNvSpPr/>
            <p:nvPr/>
          </p:nvSpPr>
          <p:spPr>
            <a:xfrm>
              <a:off x="4929120" y="3571920"/>
              <a:ext cx="165600" cy="18000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flipH="1">
              <a:off x="4934520" y="3578400"/>
              <a:ext cx="159480" cy="1735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929120" y="3577320"/>
              <a:ext cx="167400" cy="18000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86" name=""/>
          <p:cNvGrpSpPr/>
          <p:nvPr/>
        </p:nvGrpSpPr>
        <p:grpSpPr>
          <a:xfrm>
            <a:off x="3848040" y="4761000"/>
            <a:ext cx="167400" cy="185400"/>
            <a:chOff x="3848040" y="4761000"/>
            <a:chExt cx="167400" cy="185400"/>
          </a:xfrm>
        </p:grpSpPr>
        <p:sp>
          <p:nvSpPr>
            <p:cNvPr id="287" name=""/>
            <p:cNvSpPr/>
            <p:nvPr/>
          </p:nvSpPr>
          <p:spPr>
            <a:xfrm>
              <a:off x="3848040" y="4761000"/>
              <a:ext cx="165600" cy="18000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>
              <a:off x="3853440" y="4767480"/>
              <a:ext cx="159480" cy="1735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848040" y="4766400"/>
              <a:ext cx="167400" cy="18000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335480" y="2733840"/>
            <a:ext cx="167760" cy="185040"/>
            <a:chOff x="4335480" y="2733840"/>
            <a:chExt cx="167760" cy="185040"/>
          </a:xfrm>
        </p:grpSpPr>
        <p:sp>
          <p:nvSpPr>
            <p:cNvPr id="291" name=""/>
            <p:cNvSpPr/>
            <p:nvPr/>
          </p:nvSpPr>
          <p:spPr>
            <a:xfrm>
              <a:off x="4335480" y="2733840"/>
              <a:ext cx="165240" cy="1796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 flipH="1">
              <a:off x="4341240" y="2740320"/>
              <a:ext cx="159120" cy="17316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336200" y="2739240"/>
              <a:ext cx="167040" cy="17964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94" name=""/>
          <p:cNvGrpSpPr/>
          <p:nvPr/>
        </p:nvGrpSpPr>
        <p:grpSpPr>
          <a:xfrm>
            <a:off x="5364000" y="2398680"/>
            <a:ext cx="167400" cy="185400"/>
            <a:chOff x="5364000" y="2398680"/>
            <a:chExt cx="167400" cy="185400"/>
          </a:xfrm>
        </p:grpSpPr>
        <p:sp>
          <p:nvSpPr>
            <p:cNvPr id="295" name=""/>
            <p:cNvSpPr/>
            <p:nvPr/>
          </p:nvSpPr>
          <p:spPr>
            <a:xfrm>
              <a:off x="5364000" y="2398680"/>
              <a:ext cx="165600" cy="18000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 flipH="1">
              <a:off x="5369400" y="2405160"/>
              <a:ext cx="159480" cy="1735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364000" y="2404080"/>
              <a:ext cx="167400" cy="18000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298" name=""/>
          <p:cNvSpPr/>
          <p:nvPr/>
        </p:nvSpPr>
        <p:spPr>
          <a:xfrm>
            <a:off x="2252520" y="4954680"/>
            <a:ext cx="0" cy="8395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2254320" y="5127480"/>
            <a:ext cx="584280" cy="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3089160" y="5133960"/>
            <a:ext cx="2463840" cy="648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471920" y="5041800"/>
            <a:ext cx="42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2’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386080" y="5110200"/>
            <a:ext cx="42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1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68360" y="5600880"/>
            <a:ext cx="1560600" cy="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814920" y="5459400"/>
            <a:ext cx="1440" cy="29196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051440" y="5457960"/>
            <a:ext cx="1440" cy="29196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067280" y="5516640"/>
            <a:ext cx="1520640" cy="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587920" y="4878360"/>
            <a:ext cx="0" cy="83988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851200" y="5581800"/>
            <a:ext cx="42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3’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772160" y="5403960"/>
            <a:ext cx="42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4’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6450120" y="2300040"/>
            <a:ext cx="0" cy="39852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775480" y="2308320"/>
            <a:ext cx="7966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 flipV="1">
            <a:off x="6450120" y="2916000"/>
            <a:ext cx="0" cy="173988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6386400" y="2389320"/>
            <a:ext cx="42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5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6402240" y="3675240"/>
            <a:ext cx="42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6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589200" y="3179880"/>
            <a:ext cx="228600" cy="144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 flipH="1">
            <a:off x="3580920" y="3067200"/>
            <a:ext cx="1800" cy="16488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502080" y="2878200"/>
            <a:ext cx="42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3’’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4521240" y="3327120"/>
            <a:ext cx="0" cy="46044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4456080" y="3782880"/>
            <a:ext cx="2332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4521240" y="3774960"/>
            <a:ext cx="0" cy="44928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4525920" y="3903840"/>
            <a:ext cx="44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W2’’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497480" y="3395520"/>
            <a:ext cx="517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W2’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335640" y="4646520"/>
            <a:ext cx="2332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5602320" y="4202280"/>
            <a:ext cx="38736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5989680" y="4208400"/>
            <a:ext cx="0" cy="4572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4456080" y="4221000"/>
            <a:ext cx="2332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4521240" y="4232160"/>
            <a:ext cx="0" cy="44928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525920" y="4351320"/>
            <a:ext cx="52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W2’”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 flipV="1">
            <a:off x="3244680" y="3774960"/>
            <a:ext cx="0" cy="44928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170160" y="4221000"/>
            <a:ext cx="2332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3087720" y="3871800"/>
            <a:ext cx="517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W1’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V="1">
            <a:off x="3244680" y="4222800"/>
            <a:ext cx="0" cy="44928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173400" y="4338720"/>
            <a:ext cx="517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W1’’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3089160" y="5324400"/>
            <a:ext cx="2882880" cy="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5969160" y="4875120"/>
            <a:ext cx="6120" cy="8431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4249800" y="5213520"/>
            <a:ext cx="42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2”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4064040" y="5681520"/>
            <a:ext cx="1917720" cy="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24440" y="5556240"/>
            <a:ext cx="42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4”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eaching the Limits of Built-i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133720" y="152388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Enclosure Functions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eaching the Limits of Built-i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mplex measuremen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 simple number represent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ummation capability require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eaching the Limits of Built-i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DEVICE MP PGATE PGATE(G) SD(S) SD(D) DIFF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[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property W, L, SEFFA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W = 0.5 * ( perim_co(S,G) +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perim_in(S,G) + perim_co(D,G)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+ perim_in(D,G) 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L = area(G) / W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if( ( bends(G) != 0 )) 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if( W &gt; L )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W = W - 0.5 * bends(G) * L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else L = L - 0.5 * bends(G) * W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S = ENC_PER (PGATE, DIFF, SD, 25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SEFFA = W /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SUM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(S::W / (S::A + 0.5*L) ) - 0.5*L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eaching the Limits of Built-i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um functionality satisfied specific requiremen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on a more general solution was neede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in/max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rbitrary calculations on array elemen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 more complex measurement arra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ecff"/>
              </a:buClr>
              <a:buSzPct val="115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Multi Finger Enclosure measurement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Scripting Language Requirement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5400" y="1598400"/>
            <a:ext cx="8226360" cy="47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scribe data collection prior to execu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ilt-in language data retrieval function configures data collection algorithm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verage existing Built-in script engin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ustomers have extensive existing usag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ilt-in engine has 31 data collection routin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Get data collected to the scri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Get calculated results back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Overall Performance can’t slow down too much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hy Tcl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alibre already has Tcl interfaces inside our geometric manipulation languag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ow Tcl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dd a function interface to the Built-in language – TVF_NUMERIC_FUNCTION 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(TVF_NUM_FUN for short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ows calling a Tcl Function from within the Built-in languag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ow Tcl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5400" y="1371600"/>
            <a:ext cx="8226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DEVICE MP PGATE PGATE(G) SD(S) SD(D) DIFF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[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property W, L, SEFFA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W = 0.5 * ( perim_co(S,G) +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perim_in(S,G) + perim_co(D,G)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+ perim_in(D,G) 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L = area(G) / W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if( ( bends(G) != 0 )) 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if( W &gt; L )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W = W - 0.5 * bends(G) * L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else L = L - 0.5 * bends(G) * W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S = ENC_PER (PGATE, DIFF, SD, 25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SEFFA = TVF_NUM_FUN (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"calc_eff_a"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"device_func ", S, W, L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ow Tcl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TVF FUNCTION device_func [/*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proc calc_eff_a { enc W L } 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... tcl code ..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*/]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Calibre Design Verification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ntegrated Circuit Desig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5427720" y="1295280"/>
            <a:ext cx="3716280" cy="487692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457200" y="2895480"/>
            <a:ext cx="8226360" cy="10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ometric Analysis Too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Requirements Check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scribe data collection before script run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Existing built-in script engine still provides the data collection functions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Leverage existing script engine and customer script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Add Tcl calls to Existing built-in scripts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Get data collected to Tc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Function call arguments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Get data calculations back to Calibr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Return values of Tcl functions called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181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Overall Performance goa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Performance Testing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est Circuits: Emphasize scripting language performance (not a real world test case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500,000 devices that run through the calculation script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3 Builtin-&gt;Tcl calls for each device (1.5 million total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10 Tcl-&gt;Calibre object callbacks (5 million total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Realistic Device Calculation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Partitions into 18 equal partitions for Multi-Threaded execution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Can be expressed as Tcl function or Built-In SUM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Efficiently Calling Tcl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What call interface to choose: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Tcl_Eva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Tcl_EvalEx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Tcl_EvalObjEx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Tcl_EvalObjv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Efficiently Calling Tcl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64" name="" descr=""/>
          <p:cNvPicPr/>
          <p:nvPr/>
        </p:nvPicPr>
        <p:blipFill>
          <a:blip r:embed="rId1"/>
          <a:stretch/>
        </p:blipFill>
        <p:spPr>
          <a:xfrm>
            <a:off x="1676520" y="1371600"/>
            <a:ext cx="5790960" cy="494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Efficiently Calling Tcl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1"/>
          <a:stretch/>
        </p:blipFill>
        <p:spPr>
          <a:xfrm>
            <a:off x="1676520" y="1295280"/>
            <a:ext cx="5943600" cy="50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Efficiently Calling Tcl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1"/>
          <a:stretch/>
        </p:blipFill>
        <p:spPr>
          <a:xfrm>
            <a:off x="1752480" y="1219320"/>
            <a:ext cx="5943600" cy="50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Efficiently Calling Tcl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Use of Tcl_EvalObjEx didn’t differ significantly from Tcl_EvalObjv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rgument Handl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t up as much as possible before execution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Data passed through objects (Tcl_CreateObjCommand) to avoid construction of argument object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Getting Back to C++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ata is passed back through a Tcl_DoubleObj set as the “result”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cl handles the result objects efficiently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Writing Efficient Tcl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eware the use of expr without {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hanging expr { ... } to expr ...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reduced performance by 300%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Writing Efficient Tcl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nsider object interfaces that do the bookkeeping operations: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set slice_count [ $enc slice_count ]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for { set i 0 } { $i&lt;$slice_count } { incr i } 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# slice specific code here uses index $i to access data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# from the $enc command object by passing it in as an argument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Layout vs. Schematic (LVS)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chematic – logical design of a circui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Layout – physical design of a circui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LVS makes sure Layout and Schematic designs describe the same circuit by comparing th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Writing Efficient Tcl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Consider this interface where the $enc object performs index calculation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set i [ $enc first_slice ]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while { $i &gt; 0 }  {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# slice specific code here index is implicit $enc will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# access data from the current array slice.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set i [ $enc next_slice ]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Or, if you want to get fancy: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$rtval = $enc eval 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# some sort of code that executes once for each slice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Writing Efficient Tcl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80" name="" descr=""/>
          <p:cNvPicPr/>
          <p:nvPr/>
        </p:nvPicPr>
        <p:blipFill>
          <a:blip r:embed="rId1"/>
          <a:stretch/>
        </p:blipFill>
        <p:spPr>
          <a:xfrm>
            <a:off x="1295280" y="1219320"/>
            <a:ext cx="594360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Threads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ata is partitioned for parallel executi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Each thread recognizes devices independently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Each thread runs its own copy of the built-in language engin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How do threads perform with Tcl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etter to use MT Tcl or Single Threaded Tcl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Threads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84" name="" descr=""/>
          <p:cNvPicPr/>
          <p:nvPr/>
        </p:nvPicPr>
        <p:blipFill>
          <a:blip r:embed="rId1"/>
          <a:stretch/>
        </p:blipFill>
        <p:spPr>
          <a:xfrm>
            <a:off x="1752480" y="1447920"/>
            <a:ext cx="5791320" cy="43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Final Performance Numbers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al chips showed no increase in required CPU time for Device Recogni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Device Recogni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vice Recognition allows the user to turn geometric shapes from the layout into logical device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2971800" y="3352680"/>
            <a:ext cx="3124080" cy="23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1959120" y="0"/>
            <a:ext cx="5222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Built-in Script Languag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Very Simpl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Very High Performanc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Built-in Script Languag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yte compiled interpreted user progra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gram configures data collection before execution star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Very limited capabiliti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no loops, no alloc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just data collection, arithmetic, and conditional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Built-in Script Languag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ta and temporary variables are pre-allocate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yte code runs for each device that is recognize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456840" y="1294920"/>
            <a:ext cx="7924680" cy="52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 fontScale="99000"/>
          </a:bodyPr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DEVICE MP PGATE PGATE(G) SD(S) SD(D) DIFF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[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property w, l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w = 0.5 * ( perim_co( S, G )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   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+ perim_in( S, G 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+ perim_co( D, G )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+ perim_in( D, G ) 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l = area( G ) / w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if( ( bends( G ) != 0 )) 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if( w &gt; l )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w = w – 0.5 * bends( G ) * l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else l = l – 0.5 * bends( G ) * w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Built-in Script Languag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4T15:11:59Z</dcterms:created>
  <dc:creator>Phil Brooks</dc:creator>
  <dc:description/>
  <dc:language>en-US</dc:language>
  <cp:lastModifiedBy>Phil Brooks</cp:lastModifiedBy>
  <dcterms:modified xsi:type="dcterms:W3CDTF">2005-10-27T00:10:55Z</dcterms:modified>
  <cp:revision>4</cp:revision>
  <dc:subject/>
  <dc:title>Pulling Out All the Stops</dc:title>
</cp:coreProperties>
</file>