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EB9A0-8C30-4886-8752-B9C73B5BE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EE37B-D392-44FA-BE14-B0BC3D64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9142D-A5B4-4CDB-9675-75AD98C75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5C5CD-1907-4B63-81F1-0B1A302F3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D48A-0D84-4FFA-8BB5-6D2FB3C96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FFF7-A279-4EE9-9F42-C9C2EE63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5DD7-9BC1-481F-8815-6EA8950E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03351-B657-4E9A-BD9A-F4D9A0B0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BFB0-5E31-4EF5-A16A-4493F57E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E9736-7B3C-4DF7-BC64-9216E942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AFA6-81D4-49BD-AF7D-BDF3613F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7C8FB-57BF-4FF3-A145-AAE36DCC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B010-5D57-4F17-BE59-FBCB9A61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4649-7BA4-485E-A6C3-AFD49CC9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7770-98C5-4088-9EA1-5BFF2E92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9FC3-6C28-4782-9946-F0C662CDE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4354-0B62-4667-843F-B7076EFC1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49339-843C-4407-831D-CC2FD6E2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7797F-103C-47D5-A165-4C6D51E2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E60D1-7BA1-49F6-A000-E702E023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2CDFB-E320-45F9-8422-532750BA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FAAA9-F807-4462-AE56-B65AC128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8B1FD-7D40-413C-BD3E-9B3D939E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65058-D8F8-4E78-AF63-63E1988B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46F19-8AC2-48B7-8A21-CD436C1013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C2E2-DBA1-4F40-A692-CA3884BF1C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1699920"/>
            <a:ext cx="5324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</a:rPr>
              <a:t>LCCS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Arial"/>
              </a:rPr>
              <a:t>A Pure Tcl/Tk Train Traffic Supervision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eading synoptic and configuration</a:t>
            </a:r>
            <a:br>
              <a:rPr sz="40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importance of safe interpreters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out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plications which source configuration files can not be trusted to run in a realistic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would have to write our own input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mplementing a specialised parser is straightfor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2276640"/>
            <a:ext cx="590544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Config::Colors {file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set_color { object color 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global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object [string tolower $objec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COLORS($object) $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parser [interp create -saf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hid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alias set Config::set_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afeSource $parser $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erp delete $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name set_color {}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Th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Colors [file join $ETC Color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cales [file join $ETC Scal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LanguageStrings [file join $ETC Languag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Synop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ynoptic $canvas [file join $ETC global Synoptic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Synoptic descrip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546440" cy="447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way synop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 circu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    id        segments        variable 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-AM   {seg1}                 A001   "C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3-AM   {seg3}                 A003   "C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5-AM   {seg5a seg5b}     A005   "C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7-AM   {seg7a seg7b}     A007   "C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9-AM   {seg9}                  A009   "C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1-AM {seg11a seg11b} A012  "C1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3-AM {seg13}                A013  "C1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id          coordinates    anchor    variable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1-AM {3500 8700}  {top left}     A014     "M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3-AM {9000 8700}  {top right}   A015     "M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b SB-AM {11400 8700} {top left}    B016     "SB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4 S5-AM {11000 8700} {top left}     A016     "S5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67280" y="1484280"/>
            <a:ext cx="4535280" cy="33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ia ascend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 {{2000 8500} {3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3 {{3562 8500} {5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a {{5062 8500} {7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b {{7000 8500} {6500 8500} {604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a {{7062 8500} {9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b {{7062 8500} {7500 8500} {7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9 {{9062 8500} {11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a {{11062 8500} {13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b {{11062 8500} {11500 8500} {11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3 {{13062 8500} {14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01 {{14562 8500} {16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67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420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4076640"/>
            <a:ext cx="3097440" cy="16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cales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Xscale 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Yscale -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484280"/>
            <a:ext cx="604836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alid color names:BGROUND FGROUND CDVFREE CDVOC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CAISCOLOR TEXTCOLOR WARNCOLOR ERROCOLOR CANL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OKCOLOR INATCOLOR BLUNAR VIOLET ROUGE V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ynoptic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FREE "#fffff916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OCUP "#f80f13f84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GROUND "#00000000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FGROUND "#dceddced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ISCOLOR "#a6a7a6a7a6a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TEXTCOLOR "#ffffffffffff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ARNCOLOR "#ffc0ffff845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RRO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L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COLOR   "#4854cc07432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NATCOLOR "#ededededed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LUNAR "#fffffa5cec4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VIOLET "#950b0000d3b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RED    "#ffff0000424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GREEN  "#0000efde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1989000"/>
            <a:ext cx="41054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Languag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LANGUAGE portugu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700280"/>
            <a:ext cx="453708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trings.portugues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AM2 "ALAMEDA 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L  "OLAI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V  "BELA VIST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H  "CHEL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R  "CABO RUIV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S  "OLIVAIS SU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R  "ORIENTE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      "Confirm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CEL  "Cancel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XIT    "Sair"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     "CDV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C    "Comando centr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L    "Comando loc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T      "Itinerári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A      "Itinerários automátic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P      "Itinerários permanente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S      "Bloqueio de saíd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ERR "Erro de comunicação com o MicroLok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synoptic is generated together with the code which will implement its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the small synoptic presented here &gt;50% of automaticaly generated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large synoptics can go up to ~9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16000" y="2276640"/>
            <a:ext cx="2087640" cy="3097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de generation</a:t>
            </a:r>
            <a:br>
              <a:rPr sz="4400"/>
            </a:b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How hard is to write co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3440" y="2781360"/>
            <a:ext cx="431640" cy="2592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 generating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2276640"/>
            <a:ext cx="489744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781360"/>
            <a:ext cx="4897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inamicaly generate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92360" y="5734080"/>
            <a:ext cx="5904000" cy="30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3783240" y="61657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50160" y="6093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60930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of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ol Tcl/Tk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cl fine control of its slave interp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de and data share the sam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k supports complex GUIs and megawidgets as well as the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simplest, and ugliest conceivable G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rain Traffic Supervision: what they are and how they look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LCC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ading synoptic description and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Tcl/Tk features I like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s a local train traffic supervis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CCS stands for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Local Control Comput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as developed by J.Lima and J.Rocha to the Lisbon Underground Train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monstrate the feasibility of the entire Train Trafic supervision and control software using Tcl/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place the obsolete system just being insta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idea was supported by the engineering team and by the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However, it was rejected by the man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For what is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pervise the railwa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 at the operational level: granting or defering a train depar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define the itineraires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(source, destination and pa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anualy conducting manouver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erform abnormal condition recove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driver crossed the boundary of a forbiden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train is mal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LCCs are based on Workstations or PCs. However, they work much like embedd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don’t want operators playing solitai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X11 session will launch a single full screen application (no window mana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 further control is granted to the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ystem must be capable of recovering from software errors – should have no histor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One word about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 railway systems safety and functionality are handled separat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operational/supervision software handles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PLC hardware handles the all safe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94480" cy="4883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921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/Tk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canvas for the synop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for communication with the P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coded in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noptic; the communication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guration can be TCL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e communication protocols are forms of T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700280"/>
            <a:ext cx="7848360" cy="1944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900000" y="1773000"/>
            <a:ext cx="6696360" cy="1871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he Tcl O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759280" cy="3833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1484280"/>
            <a:ext cx="1440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cl conf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941720"/>
            <a:ext cx="201600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s co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 bare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581360"/>
            <a:ext cx="252072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ss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etwee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e in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08720" y="2637000"/>
            <a:ext cx="165744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O 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form of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050920" y="5013000"/>
            <a:ext cx="64944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050920" y="3357720"/>
            <a:ext cx="505080" cy="1800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050920" y="3789000"/>
            <a:ext cx="2233800" cy="136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1989000"/>
            <a:ext cx="1152720" cy="28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059280" y="4149720"/>
            <a:ext cx="3528720" cy="100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508720" y="4437000"/>
            <a:ext cx="1079280" cy="72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732360" y="3357720"/>
            <a:ext cx="718920" cy="142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0:43:46Z</dcterms:created>
  <dc:creator>Nome de utilizador</dc:creator>
  <dc:description/>
  <dc:language>en-US</dc:language>
  <cp:lastModifiedBy>Nome de utilizador</cp:lastModifiedBy>
  <dcterms:modified xsi:type="dcterms:W3CDTF">2005-10-27T14:40:06Z</dcterms:modified>
  <cp:revision>12</cp:revision>
  <dc:subject/>
  <dc:title>Diapositivo 1</dc:title>
</cp:coreProperties>
</file>