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B8BAD-8CB5-4CDC-933E-76893AECCB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AFB28-3559-4636-9EEC-25CD61778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03C70-4A97-43A6-ACEF-C2112B45DC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68752-F969-4D2E-8149-443D92EA3E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nomic se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ny is in trou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have to decide how to so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A9F75-5B2F-4391-AECC-095A652BE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writer: how to synch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 tool: similar too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3EF1F-E151-4BB5-B7B4-6E98B08B46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08028-CB1C-4B03-905E-201F5992CF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4E043-4577-43CE-A256-195E4928CB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FF84A-2565-4DB8-9217-37B28869C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lso used in primary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E2067-B48C-4FA7-A327-91B644F294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08BF6-6546-4CC6-B5F6-CFEF1964D8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ifferent toolsets for experimental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rocess activities are stored in a log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gfile is split into files per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gs are converted to a format suitable for ME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pa is a special purpose program for processing and analysing protoc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 more about MEPA because it isn’t written in T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B082F-8EAE-4299-8786-2BE64CF08C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as, not in t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14ADF-23A3-4932-8406-C88E74566A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286DF-6C6E-48BA-B659-8A951D3516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ynamic loading mak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id development and bugfixes 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ewall made http necess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ss-platform is a wish, not a dem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22B51-A5A5-4BE6-B4A8-0A0EEB2889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clhttp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ttp is primary means of 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Firewa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864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417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8864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43200" y="761760"/>
            <a:ext cx="575784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864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417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68864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43200" y="761760"/>
            <a:ext cx="575784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ZW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A1_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2000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7322040" y="6019920"/>
            <a:ext cx="1480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2C9EB-DAB0-47FA-BB80-0E6A0E1E09B1}" type="slidenum">
              <a:rPr b="0" lang="en-GB" sz="16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/1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ZW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A1_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2000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2743200" y="5334120"/>
            <a:ext cx="575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j.g.m.jaspers@uu.n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43200" y="1599840"/>
            <a:ext cx="57578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741760" y="2301840"/>
            <a:ext cx="575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1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w development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666880" y="3124080"/>
            <a:ext cx="5257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Jos Jasp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Langeveld Research Centre Learning in Intera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Utrecht Univers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The Netherlan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hared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ynchronis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istency, persistenc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les or Meta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nec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YSIW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llusion of one cop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waren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ew Tools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to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ain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usal relations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mulation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tools (to be develope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dar to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igned to evaluate the participation of students in the assign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er assess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 algn="ctr">
              <a:lnSpc>
                <a:spcPct val="101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Verdana"/>
              </a:rPr>
              <a:t>DEMO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’s futur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CRI go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bli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ducational rele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ols for easier installation and mainten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acher too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en sour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rov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ten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Questions?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741400" y="1619280"/>
            <a:ext cx="61736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w is the time to as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mail:  </a:t>
            </a:r>
            <a:r>
              <a:rPr b="0" lang="en-US" sz="2000" spc="-1" strike="noStrike" u="sng">
                <a:solidFill>
                  <a:srgbClr val="3a66ae"/>
                </a:solidFill>
                <a:uFillTx/>
                <a:latin typeface="Verdana"/>
                <a:hlinkClick r:id="rId1"/>
              </a:rPr>
              <a:t>j.g.m.jaspers@uu.n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tp://edugate.fss.uu.nl/~crocicl/vcri_eng.ht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w too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er evalu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monst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rtual Collaborative Research Institu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multiplatform groupware appli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rget ages of students 15-17 yea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nded for group assignments over longer periods (e.g. 10-15 hour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toolbox with  20 tools to support collabo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4" descr="VCRI-program"/>
          <p:cNvPicPr/>
          <p:nvPr/>
        </p:nvPicPr>
        <p:blipFill>
          <a:blip r:embed="rId1"/>
          <a:stretch/>
        </p:blipFill>
        <p:spPr>
          <a:xfrm>
            <a:off x="2906640" y="1619280"/>
            <a:ext cx="542772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CRI as a research tool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fferent toolsets in different experimental condi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ging of ev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mated conversion of logs to MEPA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EPA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ultiple Episode Protocol Analy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flexible program for the annotation of, coding of verbal or nonverbal observational data or protocol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develop a system for coding observational da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alyze the coded verbal or non-verbal protocols with a variety of quantitative or qualitative metho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EPA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2741760" y="1619280"/>
            <a:ext cx="575784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rchitectur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ent/serve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al cli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mote sourcing/dynamic loa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munication via (secure) htt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ever possible cross-platfor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ools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clHttp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clkit, Star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ta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[incr Tcl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kHT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kOG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cel Broeken</dc:creator>
  <dc:description/>
  <cp:keywords>VCRI Tcl</cp:keywords>
  <dc:language>en-US</dc:language>
  <cp:lastModifiedBy>Auditorium</cp:lastModifiedBy>
  <dcterms:modified xsi:type="dcterms:W3CDTF">2008-06-06T08:49:28Z</dcterms:modified>
  <cp:revision>53</cp:revision>
  <dc:subject>VCRI</dc:subject>
  <dc:title>VCRI: Using shared visualisations for collabo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