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24C71-1E13-4AAC-9141-241F42CA2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13595-0F3C-4334-961E-4F31DD918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42E42-26AE-439C-8CD1-B3D46DD08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F5D47-74B9-4DF3-9A07-DF5E87734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D855D-E8D3-4572-A626-FED3F3929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1E6AC-3F61-4036-9483-8B1AFF9FC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F1F25-461B-41F0-AB09-36218AA3D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F36D4-8DCC-4EB2-B716-583AF7812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89F56-60BE-4CEF-A682-B66B95B9F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4455D-4304-4062-9125-F46FB6CB0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1D20E-2B87-4431-AD9A-6CAE7EE2B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DF31D-C601-4B03-B2A8-571A44746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C3DC1-355D-4AAD-98BB-993C03D54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709C1-E60A-4CE4-B290-5197B860F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A6A18-B0F8-467E-A19E-796515AEF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3AAC8-A999-4EE7-B8F5-6C20398AD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E79BC-AF9C-46F8-9EFA-B7DE7A097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E8933-FA35-4C57-861E-CE8F6764C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BA098-CE2F-49E0-8BE2-3B29F608B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8B0E4-95C1-43B6-9D61-A352DCEBA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B25C6-6056-413D-89C2-C58632A21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EA5C7-8BA3-4C29-B3CA-C833F6785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4A1A0-04ED-47E2-ACCE-D3BF7A93A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EEBE1-CE16-479B-948C-BC0AC197E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6A5B9-1F41-4678-A7F6-FDFB342F6BF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E75B9-711B-449C-8F36-341678E2BA0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oda Directory Handl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eter J Braam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ata Structur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contents: DIR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handles: DH api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inodes: DI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handle cache: DC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d support: FID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irectory content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Blob of data -- size multiple of 2048 byt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s names and NDirFids (vnode, uniq) in network ord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s freemap, hashtable and other organizational structu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ents stored contiguously in Venus RVM, by page in server RVM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irectory Handl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 pointers, lock and refcount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tored in VM in the server in hash tab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tored in RVM in client, pointed to by fsobjs as part of VenusDirData.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ost operations on directories go through the DH api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rver has a DH cache -- needed for Copy on Write refcounting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ir Inod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 a page map for directory pages in server RVM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outines for retrieving and storing DH’s in DI’s and vice versa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py routin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Guts of server directory data storag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Lookup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Lookup maps name to inode numb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Lookup must go from kernel to Venus through venus_lookup upcal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ostly lookup uses inode number computed from FID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oot directory of volume is assigned inode number of mount point by Venus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Readdi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eaddir needs a Unix file hande (directory handle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pon open of a directory Venus writes out a BSD formatted directory container fi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le contains only names, no inode numbers or types (POSIX says this is all we need)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04T14:33:16Z</dcterms:created>
  <dc:creator>braam</dc:creator>
  <dc:description/>
  <dc:language>en-US</dc:language>
  <cp:lastModifiedBy>braam</cp:lastModifiedBy>
  <cp:lastPrinted>1998-03-04T14:49:58Z</cp:lastPrinted>
  <dcterms:modified xsi:type="dcterms:W3CDTF">1998-03-04T18:47:22Z</dcterms:modified>
  <cp:revision>1</cp:revision>
  <dc:subject/>
  <dc:title>Coda Directory Handling</dc:title>
</cp:coreProperties>
</file>