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A962F-6443-443F-B060-69D354FE86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002E1-8603-4971-A891-4FE53FB1CA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5915B-08F1-444A-BF85-477A00C80B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D48D6-99EE-44A6-9C76-F6BCE54F4A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91C26-9A64-4444-9748-01FA60A54F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F1BC6-586C-4854-8B47-03244F0331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201EF-FAA5-429C-870E-FE31956DDD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5ADAF-53C8-4367-AEE0-044B87D59D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EC9FF-042B-4CF7-9C0F-9ACEE6D341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54C2E-0C5F-4F07-8775-AE57A6E18E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4866D-A165-4A2C-B7A6-B1CA087816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4C65F-3FEA-44B2-8F71-B818770F86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256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00360" y="6549840"/>
            <a:ext cx="4176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30840" y="6289200"/>
            <a:ext cx="514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800" spc="-1" strike="noStrike">
                <a:solidFill>
                  <a:srgbClr val="0a256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8D7F-0F5A-4D1A-A47B-8B29176A54C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E587-4F58-454B-B441-2E15A3C99BD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a2565"/>
                </a:solidFill>
                <a:latin typeface="Arial"/>
              </a:rPr>
              <a:t>Cook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a2565"/>
                </a:solidFill>
                <a:latin typeface="Arial"/>
              </a:rPr>
              <a:t>Wojciech Kocjan, 2010-10-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590B-0FC0-45B5-826F-9E8A913E859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eeps structure of an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stores a tree of all files and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tains information such as mtime for all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ll information read when VFS is mounted and kept entirely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events illegal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t possible to create a file/directory as child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eration such as changing a file to a directory are also blocked by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9D38-E26E-49A3-93C2-FD3074B136C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tores mapping of pages to fil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formation on each file has references to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list of pages – page number, offset in page and data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files can reuse same page(s) if their contents is the same – automatically detected by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A4B7-8B51-4C73-B201-A0AA8F1ACAB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pages and index to provide complete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handlers for VFS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index used for file information operations such asl isting files, getting and setting file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ovides channels for reading mechan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ndles seek and read operations – data retrieved directly from pages, not read entirely to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 creat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ha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or channel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CC64-525B-4F0B-9BE4-DA1EDCA20AE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memchan for writing to cookfs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itiated as empty or containing previous content of a file, depending on how file was o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en memchan is closed closed, its contents is added to archive or queued for ad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Files above specified size are added right a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mall files added in batches and grouped by file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VFS layer is currently implemented in Tcl; 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clvf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package for providing Tcl virtual file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0BB7-BD60-4F0D-85F1-4D3C5E045F2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737E-F398-4D03-8F77-BE21020CF82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Mk4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offers multiple compression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bzip2 also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ZMA support planned for future rel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4FB1-DC95-45BA-BF47-83BF58C3C14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 – continu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k4 VFS and cookfs implemented in C+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uses Mk4tcl for underlying sto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tcl written in C++ - requires additional libraries (libstdc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uses C code for storage; pure Tcl version work in progress – C version will provide better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Both technologies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544A-EC4A-4D07-AFCE-72B9C67C27E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IP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ZIP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IP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provides other compressiona algorith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IP VFS uses a known standard for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tools for managing ZIP archive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be created from various tools such a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680B-4622-441D-98DB-34167A9FB1D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ther related projects and/or alterna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o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ure C solution for single file archives; designed for Tcl modules in m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, simply concatenates file contents and metadata on stored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ar V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tar archive format for storing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 by defa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3675-F830-4D83-93A0-29D4D914C3B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7D85-9DD4-464F-BCF2-6DE20B56A12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DB9A-7A43-4E40-AD6B-C4A534FDCE4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related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httpd 3.5.1 – embedded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ly small packag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often used in Tcl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460k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llib 1.11.1 – set of commonly used Tcl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12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ctiveTcl 8.4 – sample of Tcl binaries and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stallation of ActiveTcl 8.4.19.0 for Lin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71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D:\My Dropbox\TclConf2010\Images\sample_activetcl84_linux_1.png"/>
          <p:cNvPicPr/>
          <p:nvPr/>
        </p:nvPicPr>
        <p:blipFill>
          <a:blip r:embed="rId1"/>
          <a:stretch/>
        </p:blipFill>
        <p:spPr>
          <a:xfrm>
            <a:off x="6100920" y="4508640"/>
            <a:ext cx="2863800" cy="162072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ED9D-1033-4028-9A75-3EDDED9CCCE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02" name="Picture 3" descr="D:\My Dropbox\TclConf2010\Images\sample_tcllib_size.png"/>
          <p:cNvPicPr/>
          <p:nvPr/>
        </p:nvPicPr>
        <p:blipFill>
          <a:blip r:embed="rId2"/>
          <a:stretch/>
        </p:blipFill>
        <p:spPr>
          <a:xfrm>
            <a:off x="233280" y="27813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:\My Dropbox\TclConf2010\Images\sample_tclhttpd_size.png"/>
          <p:cNvPicPr/>
          <p:nvPr/>
        </p:nvPicPr>
        <p:blipFill>
          <a:blip r:embed="rId3"/>
          <a:stretch/>
        </p:blipFill>
        <p:spPr>
          <a:xfrm>
            <a:off x="233280" y="1052640"/>
            <a:ext cx="5684760" cy="162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:\My Dropbox\TclConf2010\Images\sample_tcllib_linux_1.png"/>
          <p:cNvPicPr/>
          <p:nvPr/>
        </p:nvPicPr>
        <p:blipFill>
          <a:blip r:embed="rId4"/>
          <a:stretch/>
        </p:blipFill>
        <p:spPr>
          <a:xfrm>
            <a:off x="6100920" y="2781360"/>
            <a:ext cx="2863800" cy="1619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:\My Dropbox\TclConf2010\Images\sample_tclhttpd_linux_1.png"/>
          <p:cNvPicPr/>
          <p:nvPr/>
        </p:nvPicPr>
        <p:blipFill>
          <a:blip r:embed="rId5"/>
          <a:stretch/>
        </p:blipFill>
        <p:spPr>
          <a:xfrm>
            <a:off x="6100920" y="1052640"/>
            <a:ext cx="2863800" cy="16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D:\My Dropbox\TclConf2010\Images\sample_activetcl84_size.png"/>
          <p:cNvPicPr/>
          <p:nvPr/>
        </p:nvPicPr>
        <p:blipFill>
          <a:blip r:embed="rId6"/>
          <a:stretch/>
        </p:blipFill>
        <p:spPr>
          <a:xfrm>
            <a:off x="233280" y="4508640"/>
            <a:ext cx="56847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D600-DE0C-4518-B230-DEACD2CB6B9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on-tcl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Joomla and LAMP – BitNami Joomla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of packaging non-Tcl content into an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omla stack  for Linux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ache, MySQL and PH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224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Redmine – BitNami Redmin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dmine application with Ruby and all other artif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535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1EDB-C75B-4380-83D4-A0F7A70D771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12" name="Picture 2" descr="D:\My Dropbox\TclConf2010\Images\sample_joomla_lamp_size.png"/>
          <p:cNvPicPr/>
          <p:nvPr/>
        </p:nvPicPr>
        <p:blipFill>
          <a:blip r:embed="rId1"/>
          <a:stretch/>
        </p:blipFill>
        <p:spPr>
          <a:xfrm>
            <a:off x="233280" y="18795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D:\My Dropbox\TclConf2010\Images\sample_joomla_lamp_linux_1.png"/>
          <p:cNvPicPr/>
          <p:nvPr/>
        </p:nvPicPr>
        <p:blipFill>
          <a:blip r:embed="rId2"/>
          <a:stretch/>
        </p:blipFill>
        <p:spPr>
          <a:xfrm>
            <a:off x="6102360" y="1879560"/>
            <a:ext cx="286236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D:\My Dropbox\TclConf2010\Images\sample_redmine_rubystack_size.png"/>
          <p:cNvPicPr/>
          <p:nvPr/>
        </p:nvPicPr>
        <p:blipFill>
          <a:blip r:embed="rId3"/>
          <a:stretch/>
        </p:blipFill>
        <p:spPr>
          <a:xfrm>
            <a:off x="233280" y="361008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D:\My Dropbox\TclConf2010\Images\sample_redmine_rubystack_linux_1.png"/>
          <p:cNvPicPr/>
          <p:nvPr/>
        </p:nvPicPr>
        <p:blipFill>
          <a:blip r:embed="rId4"/>
          <a:stretch/>
        </p:blipFill>
        <p:spPr>
          <a:xfrm>
            <a:off x="6102360" y="3610080"/>
            <a:ext cx="28623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C1A8-5D3B-4E7E-AE06-981828111F7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07C2-C725-41B8-9943-0B2226DC01A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is a tclkit-like binary that has Tcl, core libraries and VFS included in a singl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cludes Tcl (optionally Tk) and cookfs linked 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an be used in same ways as tclk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running other scripts – Tcl scripts, cookfs and zip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building standalone applications – by adding files to cookfs archive, including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s interactive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hell in a singl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C1AF-F807-47C7-B33C-0BC88A6DACC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and Tcl 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Main()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as custom application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ads initialization Tcl code from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itializes tclvfs and Tcl libraries after mounting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ile is present in cookfs archive, cookit sourc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orks as standalone 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ther packages can be placed in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b/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directory; they can be loaded using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6E01-EF12-4599-BA9A-902B7A74400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build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ngine for building packages and linking 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s logic to handle dependencies, comparing ver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commands to build entire cookit or just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s definitions for cookit parts – i.e. tcl, tk, vfs,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Each part defines how it is configured and bui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isting files to add to cookit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reate additional scripts for cookit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 adding static packages to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FDDC-1472-465F-AAF4-7ED6B7AC19E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Building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wnload cookit build system from SourceForge:</a:t>
            </a:r>
            <a:br>
              <a:rPr sz="2400"/>
            </a:b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http://sourceforge.net/projects/cookit/files/cooki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trieve Tcl, Tk, tclvfs and cookfs sources: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retrievesource tcl tk vfs cook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ing default cookit (without Tk)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 with Tk embedded statically (i.e. for MS Windows)</a:t>
            </a:r>
            <a:r>
              <a:rPr b="0" lang="pl-PL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6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–tk latest 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2D49-1723-4640-8DD1-957A8EED96B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uns in command prom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cludes Tk and only provides UI m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tforms currently bui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latforms can be built from sourc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66640-A6CB-4DA2-9D86-9E5BDC1DD98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one of first languages to ship applications as single execu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wrap – first Tcl solution for putting multiple files in single executable; uses ZIP based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eeWrap – one of first freely available solutions; uses 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Kit – one of most popular solutions for bundling applications; uses Mk4-based VFS and uses Tcl 8.4 VF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56AB-49F8-4055-A70C-21F839F0632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639C-AA80-45B6-A3D2-F2F9BEE11B2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f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 format stabilized – will no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partially C and T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clvfs to provide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only implementation – remov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ure Tcl version for easier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grouping and duplication detection – currently not detected well for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2B77-11BE-4DA5-B6E3-30F9A6C775E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i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zed build system, support for multiple platforms (tested on 4 platforms, regularly built on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ies work fine – no majo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hreaded Tcl not yet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r platforms builds to be performed period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for building and managing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82C2-E688-4A3B-9ACD-A16D677154B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ant to hel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docu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test suite and/or add more test cove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with implementing new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support – build and submit bin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mit bugs/problems on less common plat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CF7E-BB50-4F48-BE62-C035DA0E2A9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9CC8-1D23-4B13-88F8-A9A35CF9EE7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itRock, especially Daniel Lopez and Juan José Medina Godoy – for providing feedback to cookfs and paper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iotr Beltowski – for reviews and comments on cookfs, cookit and documents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a2565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8644-B25B-448B-B7D2-71545903DF2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pl-P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C490-7B12-4D03-940A-D01AEFA8AEB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3D76-DBF5-45BB-A3FC-8D731664B75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y cookf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timized for Tcl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Groups small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ptimized for Tcl files such as pkgIndex.t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com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zlib, bz2 – plans for including LZMA as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use multiple compressions in one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signed for shipping all types of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arge number of small files and very large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vides efficient memory management – VFS operations consume very littl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73B3-998E-4976-8798-8C919A359A6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 cook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taining and building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vailable from SourceForge - source code on SVN; cookfs source and cookit binaries as file downlo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ing TEA; uses standard configure &amp; make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ing cookfs from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imilar to any VFS –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cookfs::Moun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mmands (i.e.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work same as for any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irect write command for faster addition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885E-9358-4F0F-938E-961470EEBDF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E2D9-B44B-4E47-AF4D-726C7D6FD5C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fs major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torage of parts of files, entire files or group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ferenced by integer indexes, starting from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and directory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eeps information on files and directories in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aps hierarchy to cookfs p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pages and index elements to provide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ffers access to archive from Tcl and Tcl C A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C3D2-1C4A-4146-84A6-C0F543EA0C3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Generic solution for storing content of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ach page can store arbitrary amount of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referenced by integer indexes, starting a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ages can only be added and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immutable – update or delet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reading uses LRU cache; this speeds up retrieval of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cache is configurable – faster reads at a cost of larger memor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DC96-C127-4573-B581-9325068E2A3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etadata keeps track of page siz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information on all pages’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space for storing cookfs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ffer write-aside fe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ring changes to cookfs archive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ful for read-only media (CD, DVD) or for storing updates to application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7:34:50Z</dcterms:created>
  <dc:creator>Bitrock SL</dc:creator>
  <dc:description/>
  <dc:language>en-US</dc:language>
  <cp:lastModifiedBy> </cp:lastModifiedBy>
  <dcterms:modified xsi:type="dcterms:W3CDTF">2010-10-13T17:45:02Z</dcterms:modified>
  <cp:revision>56</cp:revision>
  <dc:subject/>
  <dc:title>Diapositiva 1</dc:title>
</cp:coreProperties>
</file>