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D8EC-025F-48A1-A620-224A548DE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0819-7D98-4208-AC5B-CA62A8C06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E10A-190B-4EA4-AA5F-8E877C688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D139-1E3E-4B4B-9110-EE094936D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is in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have to decide how to s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CA23-24E0-4E09-AEAC-1843F5800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riter: how to synch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ing tool: similar too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0720-43EC-4059-AB3B-F49A121D8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A1845-04ED-4C3A-B082-D9E4698C3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FF81-BB3E-4B65-982A-5A5C29697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8601-25E3-46E9-8B9C-7C18AF356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lso used in primary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3D2F-D3DF-4864-846E-C5D64E365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8D98F-2997-47C8-A4D8-9F66E5F2E7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fferent toolsets for experimental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 activities are stored in a 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file is split into files per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gs are converted to a format suitable for ME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pa is a special purpose program for processing and analysing protoc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o more about MEPA because it isn’t written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E96E9-6B45-44DA-98DF-2362ED737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s, not in t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B90B-82ED-4FF6-BB6D-CA8F5A03A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895B-2A9A-4A16-8769-EB1345B49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ynamic loading mak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velopment and bugfixes 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ewall made http 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-platform is a wish, not a dem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FF9A-CD45-42E1-9A34-1885627AE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06480" y="4690800"/>
            <a:ext cx="49845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clhttp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ttp is primary means of commun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rewa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6192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7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8864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3687480"/>
            <a:ext cx="18536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3200" y="761760"/>
            <a:ext cx="575784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92320" y="36874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92320" y="1619280"/>
            <a:ext cx="280980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760" y="3687480"/>
            <a:ext cx="5757840" cy="188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7322040" y="6019920"/>
            <a:ext cx="1480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4107-4441-4D25-AACF-3382AF6A4FEC}" type="slidenum">
              <a:rPr b="0" lang="en-GB" sz="16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/14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bd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ZW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A1_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2000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571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2743200" y="5334120"/>
            <a:ext cx="5757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j.g.m.jaspers@uu.n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599840"/>
            <a:ext cx="57578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41760" y="2301840"/>
            <a:ext cx="57578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1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 developmen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2666880" y="3124080"/>
            <a:ext cx="5257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Jos Jasp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Langeveld Research Centre Learning in Inter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Utrecht Univers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Verdana"/>
              </a:rPr>
              <a:t>The Netherlan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nchron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, persistenc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les or 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ne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YSIW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lusion of one cop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e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i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usal relations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ulation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tools (to be developed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dar to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igned to evaluate the participation of students in the assig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assess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 algn="ctr">
              <a:lnSpc>
                <a:spcPct val="101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Verdana"/>
              </a:rPr>
              <a:t>DEMO</a:t>
            </a:r>
            <a:endParaRPr b="0" lang="en-US" sz="9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’s fu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 go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ducational relea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ls for easier installation and mainten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acher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n sour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428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Questions?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741400" y="1619280"/>
            <a:ext cx="61736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 is the time to a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ail:  </a:t>
            </a:r>
            <a:r>
              <a:rPr b="0" lang="en-US" sz="2000" spc="-1" strike="noStrike" u="sng">
                <a:solidFill>
                  <a:srgbClr val="3a66ae"/>
                </a:solidFill>
                <a:uFillTx/>
                <a:latin typeface="Verdana"/>
                <a:hlinkClick r:id="rId1"/>
              </a:rPr>
              <a:t>j.g.m.jaspers@uu.n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ttp://edugate.fss.uu.nl/~crocicl/vcri_eng.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too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del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7160" indent="-28548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er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Collaborative Research Institu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ultiplatform groupware appl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rget ages of students 15-17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ded for group assignments over longer periods (e.g. 10-15 hour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toolbox with  20 tools to support collabo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VCRI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Picture 4" descr="VCRI-program"/>
          <p:cNvPicPr/>
          <p:nvPr/>
        </p:nvPicPr>
        <p:blipFill>
          <a:blip r:embed="rId1"/>
          <a:stretch/>
        </p:blipFill>
        <p:spPr>
          <a:xfrm>
            <a:off x="2906640" y="1619280"/>
            <a:ext cx="5427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CRI as a research tool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erent toolsets in different experimental cond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ging of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ed conversion of logs to MEPA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0">
              <a:lnSpc>
                <a:spcPct val="101000"/>
              </a:lnSpc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ltiple Episode Protocol Analy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flexible program for the annotation of, coding of verbal or nonverbal observational data or protoco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develop a system for coding observational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alyze the coded verbal or non-verbal protocols with a variety of quantitative or qualitative meth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MEP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2741760" y="1619280"/>
            <a:ext cx="57578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ent/serv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al cli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mote sourcing/dynamic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unication via (secure) htt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ever possible cross-platfo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43200" y="761760"/>
            <a:ext cx="575784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41760" y="1619280"/>
            <a:ext cx="575784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Http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lkit, Star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k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incr Tcl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HTM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1000"/>
              </a:lnSpc>
              <a:spcAft>
                <a:spcPts val="24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kOG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cel Broeken</dc:creator>
  <dc:description/>
  <cp:keywords>VCRI Tcl</cp:keywords>
  <dc:language>en-US</dc:language>
  <cp:lastModifiedBy>Auditorium</cp:lastModifiedBy>
  <dcterms:modified xsi:type="dcterms:W3CDTF">2008-06-06T08:49:28Z</dcterms:modified>
  <cp:revision>53</cp:revision>
  <dc:subject>VCRI</dc:subject>
  <dc:title>VCRI: Using shared visualisations for collab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