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EE3F-C3A7-4524-9F1F-1A6C0B54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A504-DE27-472A-987A-30C75678F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5A44-F8CE-4BDE-A7F3-C75068D4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D0E-8FEE-4A76-8515-C522B6AF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963F-AB5E-4784-8868-0F1EE4C7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888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6520" y="112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0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888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6520" y="3645360"/>
            <a:ext cx="25023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E6D1-DD0E-43D7-B923-E80F5D0A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030-FB84-474D-83E7-F2D30866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B90-A2BF-4B8C-9B11-14BD72BF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0880" y="18900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7472-D13F-4879-9DC4-43EBEF59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F38C-951A-4CF5-992E-FD705CA8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33560" y="364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DF5A-31A6-4811-9332-445C5BA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33560" y="1125360"/>
            <a:ext cx="3792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0880" y="3645360"/>
            <a:ext cx="77724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F4B-2578-42F3-B35B-339938E5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357" r="0" b="0"/>
          <a:stretch/>
        </p:blipFill>
        <p:spPr>
          <a:xfrm>
            <a:off x="0" y="4564080"/>
            <a:ext cx="1658880" cy="2293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68000" y="641628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Tahoma"/>
              </a:rPr>
              <a:t>June 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46200" y="6416280"/>
            <a:ext cx="417528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0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333399"/>
                </a:solidFill>
                <a:latin typeface="Tahoma"/>
              </a:rPr>
              <a:t>Tcl/Tk’s Contribution to Satellite Operations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143000"/>
            <a:ext cx="4572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1143000"/>
            <a:ext cx="685800" cy="763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732360" y="6453000"/>
            <a:ext cx="172548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DFBA5-EC02-48D0-8EC3-4737A712596E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553080" y="641664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7229520" y="5877000"/>
            <a:ext cx="1500120" cy="4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rcRect l="0" t="6946" r="0" b="0"/>
          <a:stretch/>
        </p:blipFill>
        <p:spPr>
          <a:xfrm>
            <a:off x="0" y="476280"/>
            <a:ext cx="4846680" cy="6381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66ff"/>
              </a:solidFill>
              <a:latin typeface="Tahom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0" t="0" r="14720" b="0"/>
          <a:stretch/>
        </p:blipFill>
        <p:spPr>
          <a:xfrm>
            <a:off x="6732720" y="5734080"/>
            <a:ext cx="2146320" cy="636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40428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Tcl/Tk’s Contribution to Satellite Operations 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411280" y="1699920"/>
            <a:ext cx="64008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7</a:t>
            </a:r>
            <a:r>
              <a:rPr b="0" lang="en-GB" sz="3200" spc="-1" strike="noStrike" baseline="30000">
                <a:solidFill>
                  <a:srgbClr val="333399"/>
                </a:solidFill>
                <a:latin typeface="Tahoma"/>
              </a:rPr>
              <a:t>th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European Tcl/Tk User Meet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6 June 200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artyn SMIT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oftware Engine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cl/Tk is used increasingly throughout the CN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ools used through all phases of satellite production and oper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Agile programming helps to converge towards a functional too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SPACEBEL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55560" y="1203480"/>
            <a:ext cx="7956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Founded in 1988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Located in Brussels, Liege, Toulouse and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Vietn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Main activities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pace industry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atellite Flight software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Simulation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round Infrastructure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 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nvironmental monitoring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Water resource management systems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  <a:p>
            <a:pPr lvl="2" marL="9144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isaster management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CNES: French Space Agency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Large quantities of data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atellite Description Database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Telecommand, Telemetr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imulation output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ulti-Satellite Control Centr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Archive/Retrieva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Extrac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Visualis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Control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Why Choose TCL for the CNES ?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TCL already used for Simulato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xperts often require small tools quickl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indows platform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mmand line inconvenient -&gt; GUI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 this combined lead us to choose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The Snowball Effect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Started out with small scrip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Demonstrated the possibilities of TC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More and more interest by exper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Requests for complete tool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Production tools/environment create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wo complete operational CNES Produc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Plot</a:t>
            </a:r>
            <a:r>
              <a:rPr b="0" lang="en-US" sz="2000" spc="-1" strike="noStrike" baseline="30000">
                <a:solidFill>
                  <a:srgbClr val="333399"/>
                </a:solidFill>
                <a:latin typeface="Tahoma"/>
                <a:ea typeface="Tahoma"/>
              </a:rPr>
              <a:t>®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  <a:p>
            <a:pPr lvl="3" marL="1584000" indent="-226080"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ahoma"/>
              </a:rPr>
              <a:t>PrestoDecom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Decom: Packet Data Extracto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atellites generate binary packet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Need to convert into Human readable for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llow Experts to extract sets of parameters on their ow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centralised access to paramet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268360" y="4653000"/>
            <a:ext cx="4681440" cy="1211760"/>
            <a:chOff x="2268360" y="4653000"/>
            <a:chExt cx="4681440" cy="1211760"/>
          </a:xfrm>
        </p:grpSpPr>
        <p:sp>
          <p:nvSpPr>
            <p:cNvPr id="99" name=""/>
            <p:cNvSpPr/>
            <p:nvPr/>
          </p:nvSpPr>
          <p:spPr>
            <a:xfrm>
              <a:off x="2268360" y="4653000"/>
              <a:ext cx="468144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36560" y="4745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341080" y="4797360"/>
              <a:ext cx="4608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Starpa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Widgets,  Tile,  Treectrl,  Hugelist, 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19280" y="536400"/>
            <a:ext cx="58561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5088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PrestoPlot</a:t>
            </a:r>
            <a:r>
              <a:rPr b="0" lang="en-US" sz="3200" spc="-1" strike="noStrike" baseline="30000">
                <a:solidFill>
                  <a:srgbClr val="0066ff"/>
                </a:solidFill>
                <a:latin typeface="Tahoma"/>
              </a:rPr>
              <a:t>®</a:t>
            </a: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: 2-D Plotter</a:t>
            </a:r>
            <a:endParaRPr b="0" lang="en-US" sz="3200" spc="-1" strike="noStrike">
              <a:solidFill>
                <a:srgbClr val="0066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50880" y="112536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Why a new plotter 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Multi-Axes date plots with synchronis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Labelled data display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Direct graph manipul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Over 200 users on multiple sit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195640" y="4653000"/>
            <a:ext cx="4824000" cy="1211760"/>
            <a:chOff x="2195640" y="4653000"/>
            <a:chExt cx="4824000" cy="1211760"/>
          </a:xfrm>
        </p:grpSpPr>
        <p:sp>
          <p:nvSpPr>
            <p:cNvPr id="106" name=""/>
            <p:cNvSpPr/>
            <p:nvPr/>
          </p:nvSpPr>
          <p:spPr>
            <a:xfrm>
              <a:off x="2195640" y="4653000"/>
              <a:ext cx="4824000" cy="1152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75360" y="4745160"/>
              <a:ext cx="18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70520" y="4797360"/>
              <a:ext cx="4749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333399"/>
                  </a:solidFill>
                  <a:latin typeface="Tahoma"/>
                </a:rPr>
                <a:t>Freewra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&gt;16000 lo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333399"/>
                  </a:solidFill>
                  <a:latin typeface="Tahoma"/>
                </a:rPr>
                <a:t>BLT, BWidgets,  mkWidgets, Tablelist, PrestoHel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91344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3:15:33Z</dcterms:created>
  <dc:creator>Martyn Smith</dc:creator>
  <dc:description/>
  <cp:keywords>TCL Satellite Telemetry Simulation</cp:keywords>
  <dc:language>en-US</dc:language>
  <cp:lastModifiedBy>Martyn Smith</cp:lastModifiedBy>
  <dcterms:modified xsi:type="dcterms:W3CDTF">2008-06-04T20:57:42Z</dcterms:modified>
  <cp:revision>42</cp:revision>
  <dc:subject/>
  <dc:title>Tcl/Tk's Contribution to Satellite Operations</dc:title>
</cp:coreProperties>
</file>