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D46D-B14B-4719-BAF0-1B5B33543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23C6-6635-4E67-8C62-AECD1D2D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CAE5-3522-417D-87DF-00A1C5B9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30B-D481-47CA-87DB-46EF5C28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0135-BB3D-41C2-BE74-A1E057677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0ED8-B242-4D87-9125-A0B5326D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3F4D-D47B-4007-B7B1-35436733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CB12-3D79-458F-BE34-2FDAE920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0B6-E57C-4F89-B633-408C07A5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E2B6-A700-4BC5-B3BC-CDF73628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B4F-7428-4B19-8C18-078992D3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9CD-1B42-4EC5-8ACE-902219FB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0302-DAED-4CCF-9D90-9AEECE24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, Past – Present - Fu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 Nijtmans/Paul Oberme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roTcl 2008, june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bui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 support Tcl &lt;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test su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ul Obermeij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t started:                      ’94-’97     http://hwr.nici.kun.nl/~miami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NG, JPEG, TI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interface/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iami" descr=""/>
          <p:cNvPicPr/>
          <p:nvPr/>
        </p:nvPicPr>
        <p:blipFill>
          <a:blip r:embed="rId1"/>
          <a:stretch/>
        </p:blipFill>
        <p:spPr>
          <a:xfrm>
            <a:off x="3657600" y="1523880"/>
            <a:ext cx="195408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: P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 code borrowed (stolen) from:             Joel Cr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reading/writing from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ed support for PNG user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: JP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itial implementation, using Tomas Lane’s JPEG library (version 6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replaced with Tomas Lane’s ver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both libjpeg 6a and 6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: TIF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libtiff library (Sam Leffner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 with zlib and libjpe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3520" y="2209680"/>
            <a:ext cx="7619760" cy="1371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brary dependency (Img 1.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514600"/>
            <a:ext cx="213336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2514600"/>
            <a:ext cx="1905120" cy="8380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6280" y="2691000"/>
            <a:ext cx="1347120" cy="48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4572000"/>
            <a:ext cx="175248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541008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3657600"/>
            <a:ext cx="213372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4419720"/>
            <a:ext cx="190512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6553080" y="3276720"/>
            <a:ext cx="152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257800" y="50292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00200" y="327672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33526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76720" y="426708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441972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391520" y="1523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ed G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script (idea stolen from X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_Obj (8.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ic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562720" y="1447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’9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g 1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f (using ghostscri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Tcl_Ob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arr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t release: 1.2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15000" y="1295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’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.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Img 1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: re-organisation of bui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support Tcl &lt; 8.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o sourcefo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formats: xbm, xpm, ico, pcx, sgi, sun, t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Img 1.3.1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13716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g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CIS</cp:lastModifiedBy>
  <dcterms:modified xsi:type="dcterms:W3CDTF">2008-06-05T14:41:55Z</dcterms:modified>
  <cp:revision>6</cp:revision>
  <dc:subject/>
  <dc:title>PowerPoint Presentation</dc:title>
</cp:coreProperties>
</file>