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48450" cy="9785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3200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5760" y="129492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3200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5760" y="3664800"/>
            <a:ext cx="276516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3680" y="69840"/>
            <a:ext cx="7334280" cy="211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7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9240" y="366480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9240" y="1294920"/>
            <a:ext cx="41911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3664800"/>
            <a:ext cx="8588520" cy="21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7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28240" y="1294920"/>
            <a:ext cx="858852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7000"/>
              </a:lnSpc>
              <a:spcBef>
                <a:spcPts val="499"/>
              </a:spcBef>
              <a:buClr>
                <a:srgbClr val="ff0000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SzPct val="130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64008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432480"/>
            <a:ext cx="8915400" cy="4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81720" tIns="40680" bIns="4068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kImg application examples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4AF7B220-CDFD-414E-BDA0-F4819D441DB6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aul Obermeier, paul@poSoft.de</a:t>
            </a:r>
            <a:r>
              <a:rPr b="0" lang="en-GB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83680" y="69840"/>
            <a:ext cx="733428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153280" y="0"/>
            <a:ext cx="990720" cy="83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Soft.de: Paul Obermeier's Portabl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01992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tkImg Application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oImgview-ZoomRect" descr=""/>
          <p:cNvPicPr/>
          <p:nvPr/>
        </p:nvPicPr>
        <p:blipFill>
          <a:blip r:embed="rId1"/>
          <a:stretch/>
        </p:blipFill>
        <p:spPr>
          <a:xfrm>
            <a:off x="609480" y="1592280"/>
            <a:ext cx="2743200" cy="1946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98920" y="36259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di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comparison p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98920" y="1568520"/>
            <a:ext cx="44956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Img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portable image view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oImgdiff-ZoomDiff" descr=""/>
          <p:cNvPicPr/>
          <p:nvPr/>
        </p:nvPicPr>
        <p:blipFill>
          <a:blip r:embed="rId2"/>
          <a:stretch/>
        </p:blipFill>
        <p:spPr>
          <a:xfrm>
            <a:off x="609480" y="3605040"/>
            <a:ext cx="2743200" cy="1455840"/>
          </a:xfrm>
          <a:prstGeom prst="rect">
            <a:avLst/>
          </a:prstGeom>
          <a:ln w="0">
            <a:noFill/>
          </a:ln>
        </p:spPr>
      </p:pic>
      <p:pic>
        <p:nvPicPr>
          <p:cNvPr id="48" name="testFrom" descr=""/>
          <p:cNvPicPr/>
          <p:nvPr/>
        </p:nvPicPr>
        <p:blipFill>
          <a:blip r:embed="rId3"/>
          <a:stretch/>
        </p:blipFill>
        <p:spPr>
          <a:xfrm>
            <a:off x="609480" y="5165640"/>
            <a:ext cx="2743200" cy="1006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98920" y="5226120"/>
            <a:ext cx="42670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kImg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series of new tkImg tes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A portable image vie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914400"/>
            <a:ext cx="60958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containing the scrollable image window, the preview list of loaded images and the zoom rectang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so supports batch format conver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oImgview-ZoomRect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88080" cy="4106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53080" y="2133720"/>
            <a:ext cx="25146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Tiling function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914400"/>
            <a:ext cx="510552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allows generation of tiled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oImgview-Tile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477120" cy="46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Image brow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14400"/>
            <a:ext cx="670572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image browser window contains a directory tree view, a preview window and a TkTable based browse windo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dditional features via context menu: Fullscreen slideshow and reorganization (copy/mov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oImgview-Browser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6477120" cy="41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view: Logo ad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914400"/>
            <a:ext cx="518184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oImgview contains a batch mode function for adding logos to a series of imag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oImgview-LogoBefore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4190760" cy="3716280"/>
          </a:xfrm>
          <a:prstGeom prst="rect">
            <a:avLst/>
          </a:prstGeom>
          <a:ln w="0">
            <a:noFill/>
          </a:ln>
        </p:spPr>
      </p:pic>
      <p:pic>
        <p:nvPicPr>
          <p:cNvPr id="63" name="poImgview-LogoAfter" descr=""/>
          <p:cNvPicPr/>
          <p:nvPr/>
        </p:nvPicPr>
        <p:blipFill>
          <a:blip r:embed="rId2"/>
          <a:stretch/>
        </p:blipFill>
        <p:spPr>
          <a:xfrm>
            <a:off x="4648320" y="1905120"/>
            <a:ext cx="4190760" cy="37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A portable image comparison progr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914400"/>
            <a:ext cx="708660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 window allows a side-by-side view of two imag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or detailled inspection two side-by-side zoom rectangles are availa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oImgdiff-ZoomDiff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7620120" cy="40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oImgdiff-HistoUniform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3257640" cy="40118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Hist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914400"/>
            <a:ext cx="7467480" cy="5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istograms of the two images can be generate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he histograms can be scaled uniformly or logarithmi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oImgdiff-HistoLogarithmic" descr=""/>
          <p:cNvPicPr/>
          <p:nvPr/>
        </p:nvPicPr>
        <p:blipFill>
          <a:blip r:embed="rId2"/>
          <a:stretch/>
        </p:blipFill>
        <p:spPr>
          <a:xfrm>
            <a:off x="4648320" y="2209680"/>
            <a:ext cx="3257280" cy="4011840"/>
          </a:xfrm>
          <a:prstGeom prst="rect">
            <a:avLst/>
          </a:prstGeom>
          <a:ln w="0">
            <a:noFill/>
          </a:ln>
        </p:spPr>
      </p:pic>
      <p:pic>
        <p:nvPicPr>
          <p:cNvPr id="71" name="poImgdiff-ZoomDiff" descr=""/>
          <p:cNvPicPr/>
          <p:nvPr/>
        </p:nvPicPr>
        <p:blipFill>
          <a:blip r:embed="rId3"/>
          <a:stretch/>
        </p:blipFill>
        <p:spPr>
          <a:xfrm>
            <a:off x="5715000" y="884160"/>
            <a:ext cx="22096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oImgdiff: Difference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874800"/>
            <a:ext cx="67816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difference image can be generated and adjusted interactive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 histogram of the difference image gives an overview and detailed knowledge about the number of different pixel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oImgdiff-DiffImg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4876920" cy="3170160"/>
          </a:xfrm>
          <a:prstGeom prst="rect">
            <a:avLst/>
          </a:prstGeom>
          <a:ln w="0">
            <a:noFill/>
          </a:ln>
        </p:spPr>
      </p:pic>
      <p:pic>
        <p:nvPicPr>
          <p:cNvPr id="75" name="poImgdiff-DiffImgAdjust" descr=""/>
          <p:cNvPicPr/>
          <p:nvPr/>
        </p:nvPicPr>
        <p:blipFill>
          <a:blip r:embed="rId2"/>
          <a:stretch/>
        </p:blipFill>
        <p:spPr>
          <a:xfrm>
            <a:off x="1074600" y="5181480"/>
            <a:ext cx="3878280" cy="1109880"/>
          </a:xfrm>
          <a:prstGeom prst="rect">
            <a:avLst/>
          </a:prstGeom>
          <a:ln w="0">
            <a:noFill/>
          </a:ln>
        </p:spPr>
      </p:pic>
      <p:pic>
        <p:nvPicPr>
          <p:cNvPr id="76" name="poImgdiff-DiffImgHisto" descr=""/>
          <p:cNvPicPr/>
          <p:nvPr/>
        </p:nvPicPr>
        <p:blipFill>
          <a:blip r:embed="rId3"/>
          <a:stretch/>
        </p:blipFill>
        <p:spPr>
          <a:xfrm>
            <a:off x="5819760" y="1905120"/>
            <a:ext cx="218124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040" y="-27000"/>
            <a:ext cx="7336080" cy="6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kImgTest: A series of new tkImg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914400"/>
            <a:ext cx="7543800" cy="30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1.tcl: Read and write full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2.tcl: Read and write images with option "-from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3.tcl: Read and write images with option "-t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_imgio4.tcl: Read and write images with sizes from 1x1 to 4x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read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1:         image create photo -file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from file 2:         set ph [image create photo] ; $ph read $file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1:         image create photo -data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binary 2:        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Read as uuencoded string: set ph [image create photo] ; $ph put $img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following ways to write image data are test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file:             $ph write $fileName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Write to uuencoded string: $ph data -format $fm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testCanvas" descr=""/>
          <p:cNvPicPr/>
          <p:nvPr/>
        </p:nvPicPr>
        <p:blipFill>
          <a:blip r:embed="rId1"/>
          <a:stretch/>
        </p:blipFill>
        <p:spPr>
          <a:xfrm>
            <a:off x="6324480" y="4119480"/>
            <a:ext cx="2210040" cy="2141640"/>
          </a:xfrm>
          <a:prstGeom prst="rect">
            <a:avLst/>
          </a:prstGeom>
          <a:ln w="0">
            <a:noFill/>
          </a:ln>
        </p:spPr>
      </p:pic>
      <p:pic>
        <p:nvPicPr>
          <p:cNvPr id="80" name="testFrom" descr=""/>
          <p:cNvPicPr/>
          <p:nvPr/>
        </p:nvPicPr>
        <p:blipFill>
          <a:blip r:embed="rId2"/>
          <a:stretch/>
        </p:blipFill>
        <p:spPr>
          <a:xfrm>
            <a:off x="2971800" y="4187880"/>
            <a:ext cx="3124080" cy="1146240"/>
          </a:xfrm>
          <a:prstGeom prst="rect">
            <a:avLst/>
          </a:prstGeom>
          <a:ln w="0">
            <a:noFill/>
          </a:ln>
        </p:spPr>
      </p:pic>
      <p:pic>
        <p:nvPicPr>
          <p:cNvPr id="81" name="testFull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905120" cy="1407960"/>
          </a:xfrm>
          <a:prstGeom prst="rect">
            <a:avLst/>
          </a:prstGeom>
          <a:ln w="0">
            <a:noFill/>
          </a:ln>
        </p:spPr>
      </p:pic>
      <p:pic>
        <p:nvPicPr>
          <p:cNvPr id="82" name="testSizes" descr=""/>
          <p:cNvPicPr/>
          <p:nvPr/>
        </p:nvPicPr>
        <p:blipFill>
          <a:blip r:embed="rId4"/>
          <a:stretch/>
        </p:blipFill>
        <p:spPr>
          <a:xfrm>
            <a:off x="2971800" y="5380200"/>
            <a:ext cx="3124080" cy="944280"/>
          </a:xfrm>
          <a:prstGeom prst="rect">
            <a:avLst/>
          </a:prstGeom>
          <a:ln w="0">
            <a:noFill/>
          </a:ln>
        </p:spPr>
      </p:pic>
      <p:pic>
        <p:nvPicPr>
          <p:cNvPr id="83" name="testTo" descr=""/>
          <p:cNvPicPr/>
          <p:nvPr/>
        </p:nvPicPr>
        <p:blipFill>
          <a:blip r:embed="rId5"/>
          <a:stretch/>
        </p:blipFill>
        <p:spPr>
          <a:xfrm>
            <a:off x="609480" y="5410080"/>
            <a:ext cx="1981440" cy="909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Obermeier</dc:creator>
  <dc:description/>
  <cp:keywords>EMIT Tcl Testing Wrapping</cp:keywords>
  <dc:language>en-US</dc:language>
  <cp:lastModifiedBy>Paul Obermeier</cp:lastModifiedBy>
  <cp:lastPrinted>2008-06-02T20:50:19Z</cp:lastPrinted>
  <dcterms:modified xsi:type="dcterms:W3CDTF">2008-06-02T21:13:14Z</dcterms:modified>
  <cp:revision>159</cp:revision>
  <dc:subject/>
  <dc:title>EMIT: Extensible Multispectral Image Generation Toolset</dc:title>
</cp:coreProperties>
</file>