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dt" idx="3"/>
          </p:nvPr>
        </p:nvSpPr>
        <p:spPr>
          <a:xfrm>
            <a:off x="3884760" y="-36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084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752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064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7B4C3-9819-4639-880F-A40EFD855935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3AFBB-50B5-4E9D-9F77-499A7CBD93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31DC2-6352-4BA9-9900-EAF8903056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2BAC1-4698-48D8-92ED-D6193C2327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C574C6-FA8B-4FBA-AB1E-915073BA647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A03F4F-8917-4FF5-8F8A-4921B5C26C5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6E5A5-6E22-4C4C-9773-AEF2865FFB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43000" y="68580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F84BD-C2D2-4D17-9FB3-16E488DD822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2EFDE-1C80-49A2-973B-DA4C18B3F4F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43740-12F1-48DB-84CE-DB4074F8F2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17DDD-0B5E-4189-A289-6AE2DAB887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7EEEF-98BC-415A-A314-832155C86B0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1F317-41BA-452C-AD84-428FD022772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FDA64-F107-4495-9D23-594F0A04DB8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D92256-8972-4BBA-9B53-2000966F69D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587D7C-B4BE-417C-B8C0-3E2042C1231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89F88-59A4-4501-A909-1AC9AFE1298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927306-55C8-4ED8-9D6E-4D341EA965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E10DCB-0338-4FB0-8F7C-BFC3ED5A58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90ACE-1ACC-474D-B064-8A807D16634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94137-0BC9-42D1-970A-EB147E64A1C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1ABC2-6957-460A-902C-C5D26D9AD1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9ACAD-0D7C-4E91-A7E8-D2AD9FAB5F4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76A15-F157-444D-8786-D44DA327136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98CBDA-8797-43D9-B8E5-DCC096E8B23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F1BC6-46CF-4DFE-9845-ED66BFD56B0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B8E9C-5B82-4914-A07F-1F38B66E8A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BEF5-A6FA-4D6A-B96F-F68B446263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6AD3-EB78-4071-AAF4-BFD1E5458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0F08-B430-485C-BEDD-A00AEA9E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59984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3958200"/>
            <a:ext cx="26460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01AA-2F80-40E8-AE6B-95CDC0D559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E66B0-8ABA-4912-917B-6019CC6F1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CD428-D7A8-4F52-8749-39C32ADF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A9853-9165-42AB-99A9-ABAF9B45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40C8-7530-420E-81F1-1F11AA138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18440" cy="660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1B40-2D11-40BD-9D6D-AF0225AB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6D87B-0141-4C45-A54E-91E21314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395820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2440-A9DC-4261-8853-8626EEB6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599840"/>
            <a:ext cx="401040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8200"/>
            <a:ext cx="8218440" cy="215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D393-FE39-442D-BBF6-70CBB64D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18440" cy="14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8440" cy="45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1920" indent="-33192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6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22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38CD4-6686-4F1C-90B9-F7CB9CC5E9C5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exTk/NtkWidge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A replacement for Tk ?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500040" y="5786280"/>
            <a:ext cx="1285920" cy="873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/>
          <p:nvPr/>
        </p:nvSpPr>
        <p:spPr>
          <a:xfrm>
            <a:off x="3786120" y="5857920"/>
            <a:ext cx="1285920" cy="801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-Libr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32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020000" y="5837400"/>
            <a:ext cx="1357200" cy="8222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-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/>
          <p:nvPr/>
        </p:nvSpPr>
        <p:spPr>
          <a:xfrm>
            <a:off x="500040" y="4429080"/>
            <a:ext cx="785808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LMWFW (Graphic Library Multi Window FrameWork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2714760" y="5143680"/>
            <a:ext cx="342900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openG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7" name=""/>
          <p:cNvCxnSpPr>
            <a:endCxn id="92" idx="0"/>
          </p:cNvCxnSpPr>
          <p:nvPr/>
        </p:nvCxnSpPr>
        <p:spPr>
          <a:xfrm>
            <a:off x="1143000" y="4573080"/>
            <a:ext cx="2160" cy="1213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endCxn id="94" idx="0"/>
          </p:cNvCxnSpPr>
          <p:nvPr/>
        </p:nvCxnSpPr>
        <p:spPr>
          <a:xfrm flipH="1">
            <a:off x="7698960" y="4571640"/>
            <a:ext cx="16560" cy="1266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6" idx="2"/>
            <a:endCxn id="93" idx="0"/>
          </p:cNvCxnSpPr>
          <p:nvPr/>
        </p:nvCxnSpPr>
        <p:spPr>
          <a:xfrm>
            <a:off x="4428720" y="5572080"/>
            <a:ext cx="2520" cy="2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5" idx="2"/>
            <a:endCxn id="96" idx="0"/>
          </p:cNvCxnSpPr>
          <p:nvPr/>
        </p:nvCxnSpPr>
        <p:spPr>
          <a:xfrm>
            <a:off x="4428720" y="4929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endCxn id="93" idx="1"/>
          </p:cNvCxnSpPr>
          <p:nvPr/>
        </p:nvCxnSpPr>
        <p:spPr>
          <a:xfrm>
            <a:off x="999720" y="4572000"/>
            <a:ext cx="2786760" cy="16884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3606840" y="3600360"/>
            <a:ext cx="16146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gaim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542916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eety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3786120" y="285768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/>
          <p:nvPr/>
        </p:nvSpPr>
        <p:spPr>
          <a:xfrm>
            <a:off x="3786120" y="207180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/>
          <p:nvPr/>
        </p:nvSpPr>
        <p:spPr>
          <a:xfrm>
            <a:off x="53578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2214720" y="1285920"/>
            <a:ext cx="128556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692928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642960" y="1285920"/>
            <a:ext cx="1285920" cy="571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1" name=""/>
          <p:cNvCxnSpPr>
            <a:stCxn id="102" idx="2"/>
            <a:endCxn id="95" idx="0"/>
          </p:cNvCxnSpPr>
          <p:nvPr/>
        </p:nvCxnSpPr>
        <p:spPr>
          <a:xfrm>
            <a:off x="4413240" y="4172040"/>
            <a:ext cx="16560" cy="2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2" idx="0"/>
          </p:cNvCxnSpPr>
          <p:nvPr/>
        </p:nvCxnSpPr>
        <p:spPr>
          <a:xfrm flipH="1">
            <a:off x="4412880" y="3429000"/>
            <a:ext cx="151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 flipH="1">
            <a:off x="4428360" y="264312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"/>
          <p:cNvCxnSpPr/>
          <p:nvPr/>
        </p:nvCxnSpPr>
        <p:spPr>
          <a:xfrm flipH="1">
            <a:off x="4428360" y="1857240"/>
            <a:ext cx="2520" cy="21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3" idx="1"/>
            <a:endCxn id="104" idx="3"/>
          </p:cNvCxnSpPr>
          <p:nvPr/>
        </p:nvCxnSpPr>
        <p:spPr>
          <a:xfrm flipH="1">
            <a:off x="5071680" y="3142800"/>
            <a:ext cx="35784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8" idx="2"/>
            <a:endCxn id="105" idx="1"/>
          </p:cNvCxnSpPr>
          <p:nvPr/>
        </p:nvCxnSpPr>
        <p:spPr>
          <a:xfrm>
            <a:off x="2857320" y="1856880"/>
            <a:ext cx="929160" cy="5007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05" idx="3"/>
          </p:cNvCxnSpPr>
          <p:nvPr/>
        </p:nvCxnSpPr>
        <p:spPr>
          <a:xfrm flipV="1" rot="10800000">
            <a:off x="5071320" y="1856880"/>
            <a:ext cx="929520" cy="5007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96" idx="1"/>
            <a:endCxn id="92" idx="0"/>
          </p:cNvCxnSpPr>
          <p:nvPr/>
        </p:nvCxnSpPr>
        <p:spPr>
          <a:xfrm flipH="1">
            <a:off x="1142640" y="5357880"/>
            <a:ext cx="157248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6" idx="3"/>
            <a:endCxn id="94" idx="0"/>
          </p:cNvCxnSpPr>
          <p:nvPr/>
        </p:nvCxnSpPr>
        <p:spPr>
          <a:xfrm>
            <a:off x="6143400" y="5357880"/>
            <a:ext cx="1556280" cy="480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uilding Tk lik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for example: window, border, text, scrollb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widget part is an image (a rectangle, a polygon, a text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dget parts are put together using blending functions (megaimage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parency (alpha factor) is taken care of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root window is also a widget/image which is handled during bl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ndering of a widget (label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/>
          <p:nvPr/>
        </p:nvSpPr>
        <p:spPr>
          <a:xfrm>
            <a:off x="1071720" y="1357200"/>
            <a:ext cx="157140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/>
          <p:nvPr/>
        </p:nvSpPr>
        <p:spPr>
          <a:xfrm>
            <a:off x="1071720" y="2357280"/>
            <a:ext cx="157140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3143160" y="3286080"/>
            <a:ext cx="1571760" cy="500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bel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1928880" y="192888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/>
          <p:nvPr/>
        </p:nvSpPr>
        <p:spPr>
          <a:xfrm>
            <a:off x="4000680" y="2857680"/>
            <a:ext cx="48384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/>
          <p:nvPr/>
        </p:nvSpPr>
        <p:spPr>
          <a:xfrm>
            <a:off x="3143160" y="2357280"/>
            <a:ext cx="1571760" cy="500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2428920"/>
            <a:ext cx="4780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1214280" y="1928880"/>
            <a:ext cx="484200" cy="406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3286080" y="2857680"/>
            <a:ext cx="484200" cy="406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714680" y="4286160"/>
            <a:ext cx="2071440" cy="1357560"/>
            <a:chOff x="1714680" y="4286160"/>
            <a:chExt cx="2071440" cy="1357560"/>
          </a:xfrm>
        </p:grpSpPr>
        <p:sp>
          <p:nvSpPr>
            <p:cNvPr id="133" name=""/>
            <p:cNvSpPr/>
            <p:nvPr/>
          </p:nvSpPr>
          <p:spPr>
            <a:xfrm>
              <a:off x="2214720" y="5214960"/>
              <a:ext cx="157140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Righ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7188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14720" y="4286160"/>
              <a:ext cx="157140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1468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3572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14920" y="2428920"/>
            <a:ext cx="2071800" cy="1357200"/>
            <a:chOff x="4714920" y="2428920"/>
            <a:chExt cx="2071800" cy="1357200"/>
          </a:xfrm>
        </p:grpSpPr>
        <p:sp>
          <p:nvSpPr>
            <p:cNvPr id="139" name=""/>
            <p:cNvSpPr/>
            <p:nvPr/>
          </p:nvSpPr>
          <p:spPr>
            <a:xfrm>
              <a:off x="5214960" y="3357720"/>
              <a:ext cx="1571760" cy="42840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Left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72120" y="292896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14960" y="242892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alibri"/>
                </a:rPr>
                <a:t>Ba</a:t>
              </a: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14920" y="242892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57880" y="292896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3786120" y="4286160"/>
            <a:ext cx="2071800" cy="1357560"/>
            <a:chOff x="3786120" y="4286160"/>
            <a:chExt cx="2071800" cy="1357560"/>
          </a:xfrm>
        </p:grpSpPr>
        <p:sp>
          <p:nvSpPr>
            <p:cNvPr id="145" name=""/>
            <p:cNvSpPr/>
            <p:nvPr/>
          </p:nvSpPr>
          <p:spPr>
            <a:xfrm>
              <a:off x="42861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Top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43680" y="4786200"/>
              <a:ext cx="48384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861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86120" y="4286160"/>
              <a:ext cx="47808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90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857920" y="4286160"/>
            <a:ext cx="2071800" cy="1357560"/>
            <a:chOff x="5857920" y="4286160"/>
            <a:chExt cx="2071800" cy="1357560"/>
          </a:xfrm>
        </p:grpSpPr>
        <p:sp>
          <p:nvSpPr>
            <p:cNvPr id="151" name=""/>
            <p:cNvSpPr/>
            <p:nvPr/>
          </p:nvSpPr>
          <p:spPr>
            <a:xfrm>
              <a:off x="6357960" y="5214960"/>
              <a:ext cx="1571760" cy="42876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ottom borde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215120" y="4786200"/>
              <a:ext cx="484200" cy="4287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57960" y="4286160"/>
              <a:ext cx="1571760" cy="5000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Calibri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57920" y="4286160"/>
              <a:ext cx="477720" cy="484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00880" y="4786200"/>
              <a:ext cx="484200" cy="406440"/>
            </a:xfrm>
            <a:prstGeom prst="down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62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6786720" y="2428920"/>
            <a:ext cx="477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7215120" y="3857760"/>
            <a:ext cx="484200" cy="428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Hierarc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71424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help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/>
          <p:nvPr/>
        </p:nvSpPr>
        <p:spPr>
          <a:xfrm>
            <a:off x="271476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nd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2714760" y="27860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5759280" y="2814480"/>
            <a:ext cx="164340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/>
          <p:nvPr/>
        </p:nvSpPr>
        <p:spPr>
          <a:xfrm>
            <a:off x="2714760" y="407196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heme / ttk the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/>
          <p:nvPr/>
        </p:nvSpPr>
        <p:spPr>
          <a:xfrm>
            <a:off x="492912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Manag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0" y="14288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rid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6" name=""/>
          <p:cNvCxnSpPr>
            <a:stCxn id="159" idx="2"/>
            <a:endCxn id="161" idx="1"/>
          </p:cNvCxnSpPr>
          <p:nvPr/>
        </p:nvCxnSpPr>
        <p:spPr>
          <a:xfrm>
            <a:off x="1534680" y="2214360"/>
            <a:ext cx="1180440" cy="9658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60" idx="2"/>
            <a:endCxn id="161" idx="0"/>
          </p:cNvCxnSpPr>
          <p:nvPr/>
        </p:nvCxnSpPr>
        <p:spPr>
          <a:xfrm>
            <a:off x="3537000" y="2214360"/>
            <a:ext cx="2160" cy="572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4" idx="2"/>
            <a:endCxn id="162" idx="0"/>
          </p:cNvCxnSpPr>
          <p:nvPr/>
        </p:nvCxnSpPr>
        <p:spPr>
          <a:xfrm>
            <a:off x="5749920" y="2214720"/>
            <a:ext cx="83088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5" idx="2"/>
            <a:endCxn id="162" idx="0"/>
          </p:cNvCxnSpPr>
          <p:nvPr/>
        </p:nvCxnSpPr>
        <p:spPr>
          <a:xfrm flipH="1">
            <a:off x="6579720" y="2214720"/>
            <a:ext cx="1099440" cy="60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1" idx="2"/>
            <a:endCxn id="163" idx="0"/>
          </p:cNvCxnSpPr>
          <p:nvPr/>
        </p:nvCxnSpPr>
        <p:spPr>
          <a:xfrm>
            <a:off x="3537000" y="3571560"/>
            <a:ext cx="216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3" idx="2"/>
            <a:endCxn id="172" idx="0"/>
          </p:cNvCxnSpPr>
          <p:nvPr/>
        </p:nvCxnSpPr>
        <p:spPr>
          <a:xfrm>
            <a:off x="3537000" y="4857840"/>
            <a:ext cx="2160" cy="429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62" idx="1"/>
            <a:endCxn id="161" idx="3"/>
          </p:cNvCxnSpPr>
          <p:nvPr/>
        </p:nvCxnSpPr>
        <p:spPr>
          <a:xfrm flipH="1" flipV="1">
            <a:off x="4357080" y="3177720"/>
            <a:ext cx="1402200" cy="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2714760" y="5286240"/>
            <a:ext cx="1643040" cy="7858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/>
          <p:nvPr/>
        </p:nvSpPr>
        <p:spPr>
          <a:xfrm>
            <a:off x="5770440" y="5249880"/>
            <a:ext cx="164304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83c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5759280" y="4073400"/>
            <a:ext cx="1643400" cy="785880"/>
          </a:xfrm>
          <a:prstGeom prst="rect">
            <a:avLst/>
          </a:prstGeom>
          <a:solidFill>
            <a:srgbClr val="80808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6" name=""/>
          <p:cNvCxnSpPr>
            <a:endCxn id="161" idx="3"/>
          </p:cNvCxnSpPr>
          <p:nvPr/>
        </p:nvCxnSpPr>
        <p:spPr>
          <a:xfrm flipH="1" flipV="1">
            <a:off x="4357080" y="3177360"/>
            <a:ext cx="1402200" cy="131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endCxn id="161" idx="3"/>
          </p:cNvCxnSpPr>
          <p:nvPr/>
        </p:nvCxnSpPr>
        <p:spPr>
          <a:xfrm flipH="1" flipV="1">
            <a:off x="4357080" y="3177720"/>
            <a:ext cx="1402200" cy="2455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base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/>
          <p:nvPr/>
        </p:nvSpPr>
        <p:spPr>
          <a:xfrm>
            <a:off x="3214800" y="1285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3214800" y="228600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heck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/>
          <p:nvPr/>
        </p:nvSpPr>
        <p:spPr>
          <a:xfrm>
            <a:off x="3214800" y="27860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/>
          <p:nvPr/>
        </p:nvSpPr>
        <p:spPr>
          <a:xfrm>
            <a:off x="3214800" y="178596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/>
          <p:nvPr/>
        </p:nvSpPr>
        <p:spPr>
          <a:xfrm>
            <a:off x="3214800" y="32860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/>
          <p:nvPr/>
        </p:nvSpPr>
        <p:spPr>
          <a:xfrm>
            <a:off x="3214800" y="37861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Fr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/>
          <p:nvPr/>
        </p:nvSpPr>
        <p:spPr>
          <a:xfrm>
            <a:off x="3214800" y="4286160"/>
            <a:ext cx="1643040" cy="428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ist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/>
          <p:nvPr/>
        </p:nvSpPr>
        <p:spPr>
          <a:xfrm>
            <a:off x="3214800" y="485784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en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/>
          <p:nvPr/>
        </p:nvSpPr>
        <p:spPr>
          <a:xfrm>
            <a:off x="3214800" y="535788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214800" y="5857920"/>
            <a:ext cx="16430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op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mma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:ntk toplevel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button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heckbox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clock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ndow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key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mousePress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tk widgetImage [options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816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cod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/>
          <p:nvPr/>
        </p:nvSpPr>
        <p:spPr>
          <a:xfrm>
            <a:off x="1160640" y="1260360"/>
            <a:ext cx="684828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ackage require ntkWid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set the root windows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::ntk::glmwfw::Glmwfw setWindowTitle $ntk::_win "NtkWidget Button Demo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proc flipName {win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name [$win cget -text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witch $name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Arnulf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Wiedeman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Wiedemann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in configure -text Arnu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if {[llength $argv] &gt; 0}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rotate [lindex $argv 0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set wPath [ntk button .w -width 100 -height 100 -xoffset 50 -yoffset 50 \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-text Arnulf -textcolor [list 0 0 0 255] -bd 2 -bg [list 255 255 255 255]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$wPath configure -command [list flipName $wPath] -rotate $rot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# pack the widget using ntkWidget grid mana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urier New"/>
                <a:ea typeface="DejaVu Sans"/>
              </a:rPr>
              <a:t>ntk grid $w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fault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[list 3 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shift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d9d9d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a3a3a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lam style Tbutton op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anchor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paddin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d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relief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a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window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fffff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fram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cdad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71480"/>
                <a:tab algn="l" pos="1220760"/>
                <a:tab algn="l" pos="1670040"/>
                <a:tab algn="l" pos="2119320"/>
                <a:tab algn="l" pos="2568600"/>
                <a:tab algn="l" pos="3017880"/>
                <a:tab algn="l" pos="3467160"/>
                <a:tab algn="l" pos="3916440"/>
                <a:tab algn="l" pos="4365720"/>
                <a:tab algn="l" pos="4815000"/>
                <a:tab algn="l" pos="5264280"/>
                <a:tab algn="l" pos="5721480"/>
                <a:tab algn="l" pos="6162840"/>
                <a:tab algn="l" pos="6611760"/>
                <a:tab algn="l" pos="7061040"/>
                <a:tab algn="l" pos="7510320"/>
                <a:tab algn="l" pos="7959600"/>
                <a:tab algn="l" pos="8408880"/>
                <a:tab algn="l" pos="8858160"/>
                <a:tab algn="l" pos="9307440"/>
                <a:tab algn="l" pos="9418680"/>
                <a:tab algn="l" pos="9867960"/>
                <a:tab algn="l" pos="10317240"/>
                <a:tab algn="l" pos="10766520"/>
                <a:tab algn="l" pos="10769760"/>
                <a:tab algn="l" pos="10772640"/>
                <a:tab algn="l" pos="10775880"/>
                <a:tab algn="l" pos="1077912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-disabledfg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#99999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ayo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Default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lam layout TButt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/>
          <p:nvPr/>
        </p:nvSpPr>
        <p:spPr>
          <a:xfrm>
            <a:off x="4645080" y="2174760"/>
            <a:ext cx="4041720" cy="43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or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Focus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Pad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tiv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ern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isabl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val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press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eadonl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elect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istory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orge Peter Staplin (GPS) started ~ 2 years ago with a system for handling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iginal title Tk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 changed to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Widget is based on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style 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background [list disabled #9d9d9d active #ececec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foreground [list disabled #a3a3a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-relief [list {pressed !disabled} sunken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theme n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/>
          <p:nvPr/>
        </p:nvSpPr>
        <p:spPr>
          <a:xfrm>
            <a:off x="4645080" y="2174760"/>
            <a:ext cx="404172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" y="1600200"/>
            <a:ext cx="822816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qu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lassi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8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defau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ttk like features you c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ayout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style of a widget using a the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etermine the look of a widget depending on the st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No need to change the widget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1880" indent="-274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  <a:ea typeface="Arial"/>
              </a:rPr>
              <a:t>Different look and feel on platforms dependent on default layout for the platfor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andTtk like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160020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theme class in ntkWidget will be replaced by the ttk like feat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mechanisms used in Ttk are very similar to the mechanisms used in ntkWidget (widget parts -&gt; layout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currently used methods in the ntkWidget theme class can be modified to handle sty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can be easily adapted to handle layou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 rendering will be enhanced to handle sta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cl-ng addons for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thod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pr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legate 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tk and ntkWid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y not use itk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Arche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eritance of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range option handling of inherited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pending on 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 support of theme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are work in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exTk and ntkWidget developers are working toge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demos for NexT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exist small demos for ntkWidget (without ttk like them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xTk and ntkWidget could be both a replacement for Tk in the fu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 huge amount of work to be done before usable as replacement for T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ewer technology, easier to maintain code 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dditional developpers would speed up implemen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ll be incompatible to Tk on some pla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ntkWidget „hello world“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/>
          <p:nvPr/>
        </p:nvSpPr>
        <p:spPr>
          <a:xfrm>
            <a:off x="1160640" y="1440000"/>
            <a:ext cx="6848280" cy="48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Now it is time for some small demo examp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on X11, support for windows and MacOS a lot of years l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ic widgets are implemented completely in 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built and displayed using X11 (client-)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system fo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ptions for widgets are additionally using an option databa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 and 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No alpha blending, no free rotation of tex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ructure of 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/>
          <p:nvPr/>
        </p:nvSpPr>
        <p:spPr>
          <a:xfrm>
            <a:off x="92880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unix/linux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392904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PI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G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window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7000920" y="5429160"/>
            <a:ext cx="1285920" cy="857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X11/na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MacOS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857160" y="292896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/>
          <p:nvPr/>
        </p:nvSpPr>
        <p:spPr>
          <a:xfrm>
            <a:off x="3929040" y="4214880"/>
            <a:ext cx="1285920" cy="857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k Ba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/>
          <p:nvPr/>
        </p:nvSpPr>
        <p:spPr>
          <a:xfrm>
            <a:off x="3929040" y="292896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6929280" y="30002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C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857160" y="164304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nt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3929040" y="1643040"/>
            <a:ext cx="128592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Butt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6929280" y="1714680"/>
            <a:ext cx="12146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Widg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(Tcl-code)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2" name=""/>
          <p:cNvCxnSpPr>
            <a:stCxn id="66" idx="1"/>
            <a:endCxn id="62" idx="0"/>
          </p:cNvCxnSpPr>
          <p:nvPr/>
        </p:nvCxnSpPr>
        <p:spPr>
          <a:xfrm flipV="1" rot="10800000">
            <a:off x="1571040" y="4642920"/>
            <a:ext cx="2358000" cy="786600"/>
          </a:xfrm>
          <a:prstGeom prst="bentConnector3">
            <a:avLst>
              <a:gd name="adj1" fmla="val 49992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6" idx="3"/>
            <a:endCxn id="64" idx="0"/>
          </p:cNvCxnSpPr>
          <p:nvPr/>
        </p:nvCxnSpPr>
        <p:spPr>
          <a:xfrm>
            <a:off x="5214600" y="4642920"/>
            <a:ext cx="242964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2"/>
            <a:endCxn id="63" idx="0"/>
          </p:cNvCxnSpPr>
          <p:nvPr/>
        </p:nvCxnSpPr>
        <p:spPr>
          <a:xfrm>
            <a:off x="4572000" y="5072040"/>
            <a:ext cx="216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8" idx="2"/>
            <a:endCxn id="66" idx="0"/>
          </p:cNvCxnSpPr>
          <p:nvPr/>
        </p:nvCxnSpPr>
        <p:spPr>
          <a:xfrm flipH="1">
            <a:off x="4571280" y="3914640"/>
            <a:ext cx="2964600" cy="30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5" idx="2"/>
            <a:endCxn id="66" idx="0"/>
          </p:cNvCxnSpPr>
          <p:nvPr/>
        </p:nvCxnSpPr>
        <p:spPr>
          <a:xfrm>
            <a:off x="1465200" y="3843360"/>
            <a:ext cx="31089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7" idx="2"/>
            <a:endCxn id="66" idx="0"/>
          </p:cNvCxnSpPr>
          <p:nvPr/>
        </p:nvCxnSpPr>
        <p:spPr>
          <a:xfrm>
            <a:off x="4572000" y="384336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2848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>
            <a:off x="4571640" y="257184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H="1">
            <a:off x="7500600" y="2643120"/>
            <a:ext cx="2160" cy="372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s und widget parts are built as imag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code is Tcl c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mages are built using megimage func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Freetpyeext for fonts/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Geometry managers: grid, pack(planned), place(planned)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th alpha blending, with free text rot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mponents of NexT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egaimage: pixel image and blending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reetypeext: extension of freetype fonts for building text images and rotating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jstructure: extension for building simple obje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: the collection of Tcl code building the base wid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exTk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51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very pixel consists of 4 bytes r/g/b and 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tk package is handling root windows and mouse and key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of openGL for display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unning on linux and win32 at the mo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1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Based mostly on NexTk with the following differenc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itcl instead of objstructure and use of ntkWidgetImage instead of megaimag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se of GLMWFW (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phic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brary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ulti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dow 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rame</a:t>
            </a:r>
            <a:r>
              <a:rPr b="1" lang="en-GB" sz="2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rk) as common platform independent base for handling root windows and mouse/key ev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idget parts are constructed using itcl-ng classes with inheritance instead of obj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rchitecture of ntkWidget (2)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 the future: use of ttk(tile) like architecture for handling themes (also using itcl-ng classe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tk like theme handling implemented about 70%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mespace ensemble subcommands for the functionality, so no need to learn itcl for users of the pack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920" indent="-331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nux only at the moment (no development environment for windows MacOS)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nulf Wiedemann</dc:creator>
  <dc:description/>
  <dc:language>en-US</dc:language>
  <cp:lastModifiedBy> </cp:lastModifiedBy>
  <cp:revision>0</cp:revision>
  <dc:subject/>
  <dc:title>NtkWidget </dc:title>
</cp:coreProperties>
</file>