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DEC6-4ACF-47B6-8B41-F8FB924C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B7B-6F99-4221-B42C-9679B41E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CB7-CB09-4DBD-8AC6-B2CEA694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C475-F0E0-41ED-A4CE-A72AD115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5F50-EA64-4914-9987-2B20AD36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F1AC-7A1C-4829-AA0F-FFBFEAED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A39-EC5C-40CA-A9FB-B7110A85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2DC9-AEED-49AD-BD0E-49F53777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3CCE-9E9A-4A8C-B200-EF62CAD0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310-A3BC-42AB-96F5-390256A0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6A0-28B5-4446-BA3B-1F7127A1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9EE2-699A-4D5A-BFC6-D1A144D9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740E-7F06-4336-8E25-234D1541D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with Tc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set EQP {L {U1 5} {U2 1000}} \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[L {F  3.5} {B 45 46 47}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:secs::set EQP {U2 5 1000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fore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L {U1 5} {U1 6}} {\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foreach v {U1 5 6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quipment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array EQ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rray set EQP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3 45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ftware {L {A CONCP1} {A 4.433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connect {} …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roc EQPS&lt;num&gt;F&lt;num&gt;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w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.sourceforge.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e (www.hume.co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lib (japanese)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automatic te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message protocol    host &lt;-&gt; 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storage in ar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CS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conductor Equipment Communications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s over RS-232 or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-byte header followed by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est/Re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2666880"/>
            <a:ext cx="64771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             dev     cmd     sub                id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68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780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352680"/>
            <a:ext cx="65530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………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191120"/>
            <a:ext cx="3886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odd:    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d even:   reply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bit:  reply expected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S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: bin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: ASC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1, U2, U4, U8, I1, I2, I4, I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4, F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2320" y="5410080"/>
            <a:ext cx="3809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mt   len      ……………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9880" y="5410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819520"/>
            <a:ext cx="72388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0 1 2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{this is a str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 {B 0 1 2 3} {A {this is a string}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2 100 2000 3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his is a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1 1000 2000  -1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I2 1000 2000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S6F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 S6F5 {sock dev cmd sub msg id}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::secs::write $sock $dev [expr {$cmd+1}] $sub [list B 0] $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w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 $msg $sub cb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1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1 …..;set msg1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1 $msg1 $sub $cb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 cb2 {sock dev cmd msg sub id}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cmd2 …..;set msg2 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:secs::write $sock $dev $cmd2 $msg2 $sub $cb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19810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:secs::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secs::init host port array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up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7T05:51:42Z</dcterms:modified>
  <cp:revision>6</cp:revision>
  <dc:subject/>
  <dc:title>PowerPoint Presentation</dc:title>
</cp:coreProperties>
</file>