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6"/>
          </p:nvPr>
        </p:nvSpPr>
        <p:spPr>
          <a:xfrm>
            <a:off x="3885840" y="-144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7"/>
          </p:nvPr>
        </p:nvSpPr>
        <p:spPr>
          <a:xfrm>
            <a:off x="-360" y="8830800"/>
            <a:ext cx="2971800" cy="466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8"/>
          </p:nvPr>
        </p:nvSpPr>
        <p:spPr>
          <a:xfrm>
            <a:off x="3885840" y="8830800"/>
            <a:ext cx="2971800" cy="466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A83D8-A215-4486-83ED-E9CD14746FF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Img"/>
          </p:nvPr>
        </p:nvSpPr>
        <p:spPr>
          <a:xfrm>
            <a:off x="111240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note: intra-document refer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X = \label\r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ML output: Autogenerated TOC of se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ections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seen before – Je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re doing work based on customer intere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 this work contracted by Cisco for their routers, embedded tc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ual markup =&gt; Comes in at the end, in the output, through the formatter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2C59-A2F3-4B0A-97CA-DF67ED59D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9935-B9EF-4213-A229-89470117E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C5B3-5EDB-47F7-BE25-0FBCC925A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7972-DDD8-40A5-A47B-B2A6D7B77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6B12BD-7990-43A5-AAB0-F32BBDEED1E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0FC5EF-4D41-4C17-A199-7720CF123AF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8DAC4D-EDD2-426B-9E33-4CE5A3D720A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929345-7C68-4661-8C3F-4D9C6887126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A86360-B332-4E61-909B-D65F3645A87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53C041-BF9F-44C3-B581-7E25BDE8B06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09C969-3FF6-41DC-BC8C-415FC9240D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9554-B899-4025-AC6A-760D8EFA2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AA31DD-B240-4043-B6D5-9474F8C5710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0BEE67-C427-46B7-918B-40365EA1046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395407-A606-426D-BDDF-EA1C4830441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B3EAE9-C4E4-4A64-B9FA-A42AC2E98C9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53D81E-9187-4507-B742-1382AC58FE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8A33-5379-426E-8711-3BEF326DF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212D-A470-4C57-8436-1B984DE48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E863-03AA-4B78-ACC0-F8DC6E728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7C48-47D8-4F9E-99D0-37CBA4FA2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FE5B-37F8-4B2A-BF7E-71ABED35D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2662-3605-4AA9-93F3-015A250F3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A527-996B-4546-A703-557A6C92F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© ActiveState Corporation 2003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19DAA-9FB1-4D0A-A6D7-C27DC11C65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ftr" idx="4"/>
          </p:nvPr>
        </p:nvSpPr>
        <p:spPr>
          <a:xfrm>
            <a:off x="3152520" y="62737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27397-E5CE-4F30-BE67-911D90B9A6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80000" y="5638680"/>
            <a:ext cx="183960" cy="4572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mini.net/sdarchive/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cToo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/Tk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als 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7772400" cy="302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als I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slave interpr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syntax che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ting eng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arated functionality means easier maintenance of the pa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ity against bugs in format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ainst malicious intent t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OC / Index Autogener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ol: DocTools Processor (dt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cllib, TclApps, Starkit available at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mini.net/sdarchive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dflow_x2" descr=""/>
          <p:cNvPicPr/>
          <p:nvPr/>
        </p:nvPicPr>
        <p:blipFill>
          <a:blip r:embed="rId2"/>
          <a:stretch/>
        </p:blipFill>
        <p:spPr>
          <a:xfrm>
            <a:off x="685800" y="1219320"/>
            <a:ext cx="7620120" cy="333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: TOC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86400" cy="462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: Index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5791320" cy="4622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imita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true imag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hing for the text based form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HTML only through regular hyperlink &lt;a&gt;, not as &lt;img&gt;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a true document management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include facility for text bl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 variables for parameter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management fac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imag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bolic names, formatter selects actual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d language with graphics commands (vector drawin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output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P, DocBook, ReST, PDF, doctools (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k Text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I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doctools as intermediate format for other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sion from existing docu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terate program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+ Documentation, extract the latter with a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Doc, zd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xtual reports from code brow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Navig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imes New Roman"/>
              </a:rPr>
              <a:t>William Duquette, for “Expand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imes New Roman"/>
              </a:rPr>
              <a:t>Joe English, for advice and hel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305000"/>
            <a:ext cx="77724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State also provides flexible email management software for enterpri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upports most UNIX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Extensible in Per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pam and virus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Gateway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C’s and Ind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itations and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y formats in 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roff, HTML, Plain Text, XML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-BLAS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atest attempt at un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 Manpage Markup Language (XML bas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XML is considered heavy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ur Solu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Tools  = Yet more format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pages, Table of Contents, Ind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ces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ptual:        LaTeX (Semantic marku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: Exp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Forge: Tcllib pro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(BSD) lic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: SHA1 Manp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639040" cy="464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I: Table of Cont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72400" cy="378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II: Index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617920" y="1447920"/>
            <a:ext cx="3863880" cy="464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defined output forma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 (Metadat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an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MML   - Tcl Manpage Markup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ki     - Text format, using semantic mark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r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rs are free to define more formats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ndreask</cp:lastModifiedBy>
  <cp:lastPrinted>1999-01-02T23:07:33Z</cp:lastPrinted>
  <dcterms:modified xsi:type="dcterms:W3CDTF">2003-07-16T20:24:18Z</dcterms:modified>
  <cp:revision>444</cp:revision>
  <dc:subject/>
  <dc:title>8.4 Tcl Overview</dc:title>
</cp:coreProperties>
</file>