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9.jpeg" ContentType="image/jpeg"/>
  <Override PartName="/ppt/media/image18.jpeg" ContentType="image/jpeg"/>
  <Override PartName="/ppt/media/image7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48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A62C-0BD2-469C-9280-D9F9FCEC3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7547-A95C-483D-AE62-F827D48D8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E28D-0A26-4432-B345-5C2F61B8F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C59A-D7A4-4DE2-844A-DEFCD43A4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96EF-82F8-4A6D-8D52-502B4258A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47C2-3EBC-40AF-830A-B7104974F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F4FF-0302-4176-BD2C-01EE80C15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8354-CC19-4E22-9DF5-125EB55CA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9144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9FB7-96AC-4C26-8251-11CB5A938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743F-E223-4609-86C9-1ED9A159A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4EEA-0F07-4F9F-AFBB-ABDB269D4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161C-BF92-4C9E-8DFE-9C66E2BC5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457200"/>
          </a:xfrm>
          <a:prstGeom prst="rect">
            <a:avLst/>
          </a:prstGeom>
          <a:solidFill>
            <a:srgbClr val="339933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34538-5217-441C-928D-7F7A1597864F}" type="datetime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400440"/>
            <a:ext cx="3962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9241F-0DA8-4359-951F-56FAE849C01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33520" y="6324480"/>
            <a:ext cx="8076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47720" y="290520"/>
            <a:ext cx="432756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poSoft - Paul Obermeier‘s Portable Softw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544680"/>
            <a:ext cx="6973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6320" rIns="76320" tIns="-76320" bIns="-76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oLogo200_text" descr=""/>
          <p:cNvPicPr/>
          <p:nvPr/>
        </p:nvPicPr>
        <p:blipFill>
          <a:blip r:embed="rId2"/>
          <a:stretch/>
        </p:blipFill>
        <p:spPr>
          <a:xfrm>
            <a:off x="7659720" y="163440"/>
            <a:ext cx="798480" cy="674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2200" y="898200"/>
            <a:ext cx="77742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mg Inside &amp;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logoLarge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1555920" cy="2286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743200" y="2041560"/>
            <a:ext cx="571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Paul Oberme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img" descr=""/>
          <p:cNvPicPr/>
          <p:nvPr/>
        </p:nvPicPr>
        <p:blipFill>
          <a:blip r:embed="rId2"/>
          <a:stretch/>
        </p:blipFill>
        <p:spPr>
          <a:xfrm>
            <a:off x="838080" y="42670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743200" y="4495680"/>
            <a:ext cx="571356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Third European Tcl/Tk User Meet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Munich, June 20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651040" y="2652840"/>
            <a:ext cx="580572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obermeier@poSoft.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paul.obermeier@lfk.eads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04F1-343B-4A32-8FC2-65A5593601E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tate of Img: Curr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2560" y="1652760"/>
            <a:ext cx="7772400" cy="41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The Img extension was developed and maintained in major parts by Jan Nijtma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Latest version of Img (1.2.4) was uploaded to SourceForge by A. Kupries in May 2002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Project page: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http://sourceforge.net/projects/tkim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Project maintainers: Jeff Hobbs, Andreas Kupries, Jan Nijtma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itional developers: Paul Obermei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Supported image forma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BMP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Windows bit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GIF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Graphics interchang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JPEG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JPE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NG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Portable network graphics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OSTSCRIPT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Postscript (needs ghostscrip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IFF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Tagged image fil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WINDOW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Put the content of a window into a pho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XBM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X-Windows bit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XPM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X-Windows pix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State of Im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9EBD-0BFA-492B-8FEF-12840ADAA13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82560" y="1523880"/>
            <a:ext cx="7772400" cy="46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Most of the code for the following planned actions is already implemented in an alpha version available at www.poSoft.de. It will be added to SourceForge in two step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Step1 (June 2002): Enhancements and bug fixes of existing forma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 support routines for reading image data in small pieces (RLE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 reading of run-length encoded Windows bitmap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Speed improvements and bugfixes for XPM forma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 PPM format to Img to enable -data op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Various bug fix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Step2 (July 2002): Addition of new image forma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DTED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Digital Terrain Elevation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CX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Paintbrush‘s PCX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RAW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Raw image data (matrix of float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GI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Silicon Graphics nativ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UN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Sun Raster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GA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Truevision‘s Targa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tate of Img: Plan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162920" y="5105520"/>
            <a:ext cx="129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15200" y="2438280"/>
            <a:ext cx="1219320" cy="37674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Img 1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State of Im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81DC-F7CD-410F-A94E-58F65B46BFE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tate of Img: Fu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2560" y="1652760"/>
            <a:ext cx="7772400" cy="38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The following actions are taken from my personal wish list. Implementation will need the help of the community. Please feel free to contribute in any for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Near future action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Remove usage of Tk-internal structures to enable stub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Update versions of external libraries: libpng, libjpeg, libtiff, lib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Improve existing format handlers for full complianc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itional image formats: Windows icons, PICT, WMF, Photoshop, ??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Issues influencing Img and T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Better transparency suppor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Improved image manipulation: Scaling, rotation, filter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(see extension poImg at www.poSoft.d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oImg2" descr=""/>
          <p:cNvPicPr/>
          <p:nvPr/>
        </p:nvPicPr>
        <p:blipFill>
          <a:blip r:embed="rId1"/>
          <a:stretch/>
        </p:blipFill>
        <p:spPr>
          <a:xfrm>
            <a:off x="6251400" y="4435560"/>
            <a:ext cx="2359080" cy="171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State of Im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173D-A10A-449C-B9A8-F4A527FA695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mg utility: poImg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2560" y="1523880"/>
            <a:ext cx="77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Tk package for selection of image formats and corresponding opt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oImgtype2" descr=""/>
          <p:cNvPicPr/>
          <p:nvPr/>
        </p:nvPicPr>
        <p:blipFill>
          <a:blip r:embed="rId1"/>
          <a:stretch/>
        </p:blipFill>
        <p:spPr>
          <a:xfrm>
            <a:off x="6653160" y="2863800"/>
            <a:ext cx="1957320" cy="3308400"/>
          </a:xfrm>
          <a:prstGeom prst="rect">
            <a:avLst/>
          </a:prstGeom>
          <a:ln w="0">
            <a:noFill/>
          </a:ln>
        </p:spPr>
      </p:pic>
      <p:pic>
        <p:nvPicPr>
          <p:cNvPr id="107" name="poImgtype1" descr=""/>
          <p:cNvPicPr/>
          <p:nvPr/>
        </p:nvPicPr>
        <p:blipFill>
          <a:blip r:embed="rId2"/>
          <a:stretch/>
        </p:blipFill>
        <p:spPr>
          <a:xfrm>
            <a:off x="4495680" y="3592440"/>
            <a:ext cx="1962360" cy="25797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700920" y="1969920"/>
            <a:ext cx="5027040" cy="18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vailable funct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OpenWin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   Open selection wind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GetFmtList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Get list of image forma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GetExtList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Get list of file extens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GetOptByExt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Get option string by file extens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GetOptByFmt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Get option string by format identifi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LoadFromFile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Load settings from fi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SaveToFile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Save settings to fi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Utilities and tes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BBA1-22CE-4A0F-A708-928606C8C12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mg utility: Test pro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2560" y="2682720"/>
            <a:ext cx="77724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Test 1: Using full im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Test 2: Using -from o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Test 3: Using -to o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Test 4: Using all sizes fro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1x1 till 4x4 pix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oImgtest1" descr=""/>
          <p:cNvPicPr/>
          <p:nvPr/>
        </p:nvPicPr>
        <p:blipFill>
          <a:blip r:embed="rId1"/>
          <a:stretch/>
        </p:blipFill>
        <p:spPr>
          <a:xfrm>
            <a:off x="1209600" y="3857760"/>
            <a:ext cx="2981520" cy="2390760"/>
          </a:xfrm>
          <a:prstGeom prst="rect">
            <a:avLst/>
          </a:prstGeom>
          <a:ln w="0">
            <a:noFill/>
          </a:ln>
        </p:spPr>
      </p:pic>
      <p:pic>
        <p:nvPicPr>
          <p:cNvPr id="112" name="poImgtest2" descr=""/>
          <p:cNvPicPr/>
          <p:nvPr/>
        </p:nvPicPr>
        <p:blipFill>
          <a:blip r:embed="rId2"/>
          <a:stretch/>
        </p:blipFill>
        <p:spPr>
          <a:xfrm>
            <a:off x="5124600" y="3220920"/>
            <a:ext cx="3562200" cy="30276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590400" y="1509840"/>
            <a:ext cx="78645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These tests try to store the content of a canvas window in image files using all file formats and all methods (file, binary and uuencoded string) available in the Img packag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After writing we try to read the image back into a photo by using the auto-detect mechanism of Img. If that fails, we use the "-format" op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Utilities and tes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5B29-1491-4F0B-942A-1089DBE2E04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ummary: List of supported forma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46280" y="161460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31600" y="1809720"/>
            <a:ext cx="5727960" cy="39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BMP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Windows bitmap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DTED: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Digital Terrain Elevation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GIF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Graphics interchange format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JPEG: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JPE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CX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Paintbrush‘s PCX format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NG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Portable network graphics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OSTSCRIPT: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Postscript (Read-Onl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RAW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Raw image data (matrix of float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GI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Silicon Graphics nativ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UN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Sun Raster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IFF: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Tagged image fil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GA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Truevision‘s Targa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WINDOW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Put the content of a window into a pho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XBM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X-Windows bit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XPM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X-Windows pix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ist of supported forma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A294-090A-4614-8ABF-D08A7BA0390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Happy Tcl‘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logoLarge" descr=""/>
          <p:cNvPicPr/>
          <p:nvPr/>
        </p:nvPicPr>
        <p:blipFill>
          <a:blip r:embed="rId1"/>
          <a:stretch/>
        </p:blipFill>
        <p:spPr>
          <a:xfrm>
            <a:off x="682560" y="1752480"/>
            <a:ext cx="2230560" cy="32767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270600" y="2401920"/>
            <a:ext cx="5212800" cy="20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E-Mail at home: obermeier@poSoft.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E-Mail at work:  paul.obermeier@lfk.eads.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My homepage:    http://www.poSoft.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Jan‘s homepage:  http://purl.oclc.org/net/nijtman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mg project page: http://sourceforge.net/projects/tkim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Goodby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6AEB-A975-4418-99B3-9945E38F2B9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2200" y="898200"/>
            <a:ext cx="77742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mg Inside &amp; Out: Cont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8920" y="3124080"/>
            <a:ext cx="302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Img from the outsi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2200" y="4648320"/>
            <a:ext cx="285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Img from the insi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35200" y="3646440"/>
            <a:ext cx="67086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Example applications from EADS/LFK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Example applications from poSof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5200" y="5145120"/>
            <a:ext cx="686088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Current, planned and future state of Im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Utilities and test program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Summary: List of supported forma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295280" y="1584360"/>
            <a:ext cx="65962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Img is a Tcl extension to support various image file formats for use with the Tk photo imag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Besides reading/writing from/to files, it also supports image data in Tcl variables (both in binary and uuencoded form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img" descr=""/>
          <p:cNvPicPr/>
          <p:nvPr/>
        </p:nvPicPr>
        <p:blipFill>
          <a:blip r:embed="rId1"/>
          <a:stretch/>
        </p:blipFill>
        <p:spPr>
          <a:xfrm>
            <a:off x="6324480" y="31240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867280" y="396252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img" descr=""/>
          <p:cNvPicPr/>
          <p:nvPr/>
        </p:nvPicPr>
        <p:blipFill>
          <a:blip r:embed="rId2"/>
          <a:stretch/>
        </p:blipFill>
        <p:spPr>
          <a:xfrm>
            <a:off x="6324480" y="47242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086600" y="556272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Conten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F9A5-DED9-49CC-B5F5-AFDB672B6B6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Tk and Img based applications at EADS/LF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1600200"/>
            <a:ext cx="6248520" cy="15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The system simulation department of EADS/LFK uses Tcl/Tk and Img for pre- and postprocessing of complex simulat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MDS (Mathematical Digital Simulation): Simulate all relevant components of a missile and it‘s environment in softwa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Main design issues: Flexibility and portability (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long project durations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EADS%20logo" descr=""/>
          <p:cNvPicPr/>
          <p:nvPr/>
        </p:nvPicPr>
        <p:blipFill>
          <a:blip r:embed="rId1"/>
          <a:stretch/>
        </p:blipFill>
        <p:spPr>
          <a:xfrm>
            <a:off x="7086600" y="1914480"/>
            <a:ext cx="1276200" cy="9050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62120" y="3809880"/>
            <a:ext cx="1679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19280" y="3598920"/>
            <a:ext cx="205740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Configuration 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Pre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508200" y="3598920"/>
            <a:ext cx="20574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Sim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(Batch processin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61120" y="3598920"/>
            <a:ext cx="205740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Visualization &am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Post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65" idx="3"/>
            <a:endCxn id="66" idx="1"/>
          </p:cNvCxnSpPr>
          <p:nvPr/>
        </p:nvCxnSpPr>
        <p:spPr>
          <a:xfrm>
            <a:off x="2795400" y="3941280"/>
            <a:ext cx="712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" name=""/>
          <p:cNvCxnSpPr>
            <a:stCxn id="66" idx="3"/>
            <a:endCxn id="67" idx="1"/>
          </p:cNvCxnSpPr>
          <p:nvPr/>
        </p:nvCxnSpPr>
        <p:spPr>
          <a:xfrm>
            <a:off x="5565240" y="3941280"/>
            <a:ext cx="677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719280" y="4497480"/>
            <a:ext cx="2057400" cy="1630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Tk based GUI‘s for safe editing of configuration fil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Tk based GUI‘s for configuration and execution of physical models (Example 1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508200" y="4497480"/>
            <a:ext cx="205740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Pure batch programs written in C, C++ or Ada reading input files and generating output fil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61120" y="4497480"/>
            <a:ext cx="2057400" cy="15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Tk/Img based GUI‘s for visualization of rendered image sequences (Example 2) and postprocessing of generated simulation data (Example 3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FK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5D55-3E80-4EAF-A990-B2E0213DDFB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1: GUI‘s for physical mode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5800" y="1468440"/>
            <a:ext cx="79246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Left: Graphical frontend for MODTRAN, an atmospheric radiative transfer mode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Right: Graphical frontend for Thermos, a LFK developed thermal mode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ThermosMain" descr=""/>
          <p:cNvPicPr/>
          <p:nvPr/>
        </p:nvPicPr>
        <p:blipFill>
          <a:blip r:embed="rId1"/>
          <a:stretch/>
        </p:blipFill>
        <p:spPr>
          <a:xfrm>
            <a:off x="3886200" y="3084480"/>
            <a:ext cx="4724280" cy="3164040"/>
          </a:xfrm>
          <a:prstGeom prst="rect">
            <a:avLst/>
          </a:prstGeom>
          <a:ln w="0">
            <a:noFill/>
          </a:ln>
        </p:spPr>
      </p:pic>
      <p:pic>
        <p:nvPicPr>
          <p:cNvPr id="76" name="modgui" descr=""/>
          <p:cNvPicPr/>
          <p:nvPr/>
        </p:nvPicPr>
        <p:blipFill>
          <a:blip r:embed="rId2"/>
          <a:stretch/>
        </p:blipFill>
        <p:spPr>
          <a:xfrm>
            <a:off x="685800" y="2260440"/>
            <a:ext cx="5486400" cy="3378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FK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F19D-AF49-4611-BBE7-958953A0E37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2: OsmV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52760" y="1436760"/>
            <a:ext cx="723852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Replay of multiple infrared image sequences overlayed with vector graphic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mages are read from files in Sun Raster forma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osmvis" descr=""/>
          <p:cNvPicPr/>
          <p:nvPr/>
        </p:nvPicPr>
        <p:blipFill>
          <a:blip r:embed="rId1"/>
          <a:stretch/>
        </p:blipFill>
        <p:spPr>
          <a:xfrm>
            <a:off x="1447920" y="2209680"/>
            <a:ext cx="5486400" cy="3986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FK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0614-F05A-45BC-85A2-6BA8800528B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3: MdsVie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78600" y="1360440"/>
            <a:ext cx="69868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2D and 3D visualization of simulation results with Tk/Img and Perform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Grid of height values (DTED format) interpreted as a photo imag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mdsview" descr=""/>
          <p:cNvPicPr/>
          <p:nvPr/>
        </p:nvPicPr>
        <p:blipFill>
          <a:blip r:embed="rId1"/>
          <a:stretch/>
        </p:blipFill>
        <p:spPr>
          <a:xfrm>
            <a:off x="762120" y="2065320"/>
            <a:ext cx="4876560" cy="4183200"/>
          </a:xfrm>
          <a:prstGeom prst="rect">
            <a:avLst/>
          </a:prstGeom>
          <a:ln w="0">
            <a:noFill/>
          </a:ln>
        </p:spPr>
      </p:pic>
      <p:pic>
        <p:nvPicPr>
          <p:cNvPr id="83" name="mdshelp" descr=""/>
          <p:cNvPicPr/>
          <p:nvPr/>
        </p:nvPicPr>
        <p:blipFill>
          <a:blip r:embed="rId2"/>
          <a:stretch/>
        </p:blipFill>
        <p:spPr>
          <a:xfrm>
            <a:off x="5867280" y="3200400"/>
            <a:ext cx="2362320" cy="1398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FK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1554-C4F0-484A-9F99-699FA1B5806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Tk and Img based applications from poSo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6280" y="1828800"/>
            <a:ext cx="77086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www.poSoft.de is my private homepage: Paul Obermeier‘s Portable Softwa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Home of </a:t>
            </a: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Tools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, a set of portable Tcl/Tk applicat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Diff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:       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ortable tool to recursively compare the contents of two director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Bitmap: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  Portable tool to view and manipulate X-Window bitmaps.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Imgdiff: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ortable tool to compare two images (Example 4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Imgview: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ortable tool to view and manipulate images (Example 5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poSoft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1E90-D2C6-4961-8AE8-9E5747A36B7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4: poImgdif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2560" y="1562040"/>
            <a:ext cx="541332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rtable image comparison tool.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mages are placed side by side for visual comparis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Generation of difference images and histogram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oImgdiff1" descr=""/>
          <p:cNvPicPr/>
          <p:nvPr/>
        </p:nvPicPr>
        <p:blipFill>
          <a:blip r:embed="rId1"/>
          <a:stretch/>
        </p:blipFill>
        <p:spPr>
          <a:xfrm>
            <a:off x="682560" y="2743200"/>
            <a:ext cx="4956120" cy="3435480"/>
          </a:xfrm>
          <a:prstGeom prst="rect">
            <a:avLst/>
          </a:prstGeom>
          <a:ln w="0">
            <a:noFill/>
          </a:ln>
        </p:spPr>
      </p:pic>
      <p:pic>
        <p:nvPicPr>
          <p:cNvPr id="89" name="poImgdiff2" descr=""/>
          <p:cNvPicPr/>
          <p:nvPr/>
        </p:nvPicPr>
        <p:blipFill>
          <a:blip r:embed="rId2"/>
          <a:stretch/>
        </p:blipFill>
        <p:spPr>
          <a:xfrm>
            <a:off x="6324480" y="3962520"/>
            <a:ext cx="2052720" cy="2238120"/>
          </a:xfrm>
          <a:prstGeom prst="rect">
            <a:avLst/>
          </a:prstGeom>
          <a:ln w="0">
            <a:noFill/>
          </a:ln>
        </p:spPr>
      </p:pic>
      <p:pic>
        <p:nvPicPr>
          <p:cNvPr id="90" name="poImgdiff3" descr=""/>
          <p:cNvPicPr/>
          <p:nvPr/>
        </p:nvPicPr>
        <p:blipFill>
          <a:blip r:embed="rId3"/>
          <a:stretch/>
        </p:blipFill>
        <p:spPr>
          <a:xfrm>
            <a:off x="6351480" y="1447920"/>
            <a:ext cx="2030400" cy="2492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poSoft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B54D-102B-4FF5-94F4-410A576D8F9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5: poImg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2560" y="1639800"/>
            <a:ext cx="350856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rtable image view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ncludes image browser and batch format convers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oImgview1" descr=""/>
          <p:cNvPicPr/>
          <p:nvPr/>
        </p:nvPicPr>
        <p:blipFill>
          <a:blip r:embed="rId1"/>
          <a:stretch/>
        </p:blipFill>
        <p:spPr>
          <a:xfrm>
            <a:off x="6051600" y="1576440"/>
            <a:ext cx="2403360" cy="4473360"/>
          </a:xfrm>
          <a:prstGeom prst="rect">
            <a:avLst/>
          </a:prstGeom>
          <a:ln w="0">
            <a:noFill/>
          </a:ln>
        </p:spPr>
      </p:pic>
      <p:pic>
        <p:nvPicPr>
          <p:cNvPr id="94" name="poImgview4" descr=""/>
          <p:cNvPicPr/>
          <p:nvPr/>
        </p:nvPicPr>
        <p:blipFill>
          <a:blip r:embed="rId2"/>
          <a:stretch/>
        </p:blipFill>
        <p:spPr>
          <a:xfrm>
            <a:off x="682560" y="2973240"/>
            <a:ext cx="5108760" cy="3046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poSoft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573A-6A50-406C-B0D5-E24D0BFE3E0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0T13:38:28Z</dcterms:created>
  <dc:creator>LFK - Installation</dc:creator>
  <dc:description/>
  <dc:language>en-US</dc:language>
  <cp:lastModifiedBy>Who cares</cp:lastModifiedBy>
  <cp:lastPrinted>2002-06-09T11:48:02Z</cp:lastPrinted>
  <dcterms:modified xsi:type="dcterms:W3CDTF">2002-06-09T20:27:43Z</dcterms:modified>
  <cp:revision>147</cp:revision>
  <dc:subject/>
  <dc:title>Methoden und Tools der IR-Bildgenerierung - Gliederung</dc:title>
</cp:coreProperties>
</file>