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084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8F6016-717E-488F-9FB1-2B8495758F66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9FA895-4468-49DA-AA39-923214D65BE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C1628A-9BE2-49C5-AB51-F73F7BDCA9E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45387E-8902-4B50-9D7B-67BE1314197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4C5B83-3DF5-4DA9-A4E0-3D57687DE9D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F6EDED-72C8-488C-9744-D01AD83623B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48E760-E11C-47F0-A7DB-D77E29F048F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BCBA0B-C5C6-4BEE-8F99-A1DD49E089A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74E37D-F4DF-4DAF-879F-AB0F517439F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952740-A557-4294-A6B2-CEBC2A051DD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2481D1-FF06-446D-9435-4DE0F95F687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70A439-27D0-4851-AC9B-4CC17D0F4DC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444008-EDBD-44E0-8A3C-EEB04B88B09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64A2C9-CBAB-4748-9DE5-A80B6C7FE88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840F54-9918-4017-A7BA-5349AFACC75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3033CE-E32A-4AB2-B13A-E642333C85B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BD521B-FD9A-458C-A635-44856D1D5B8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E4581D-CDF9-4226-8581-46DDE05330E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4CC342-D96A-412D-8BFC-2E241F68AA7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022380-17A8-4181-BB5E-692D0F09F76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558511-0245-43EB-9FB2-64FC7CEDB4D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CF0E31-F193-4F9D-B482-4D141F125C2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4E3DE8-EDA2-4949-96FF-C21CC363B49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6890A7-D492-4CA6-ABBE-1B9B774CF1E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18ED93-67A6-49B5-9C70-CB2CCAF968A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7D28BF-59B8-4D74-972D-F09BF2071F7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676885-FACE-4330-8039-25FB7DF062E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1D50C-71C1-4B2E-800C-85596B4203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A8FEA-F6DA-4EBE-A577-6771E0D09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EBCB0-BAFC-438F-8D8A-B31D289C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9A40B-62D7-4564-A5DC-AC79F0C364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7B365-CCF8-4677-AA43-30D9E0D99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2DB5E-468B-4FB7-A621-DAFD3049A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0D288-F506-43E8-A26E-6D47EF219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4177A-D811-48DA-8586-92D10CCAE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8440" cy="66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0FFAF-D8F2-49EA-A994-EF1E6A7DD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F51A7-1C2B-4665-9F7F-B9F236E34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39F81-6974-4648-934E-B397E8DBE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8A939-4A4A-49DF-8A00-F1E6B1060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ACFC98-AA5B-40BE-A489-ABC6659E51C3}" type="slidenum"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exTk/NtkWidge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A replacement for Tk ?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500040" y="5786280"/>
            <a:ext cx="1285920" cy="873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3786120" y="5857920"/>
            <a:ext cx="1285920" cy="80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-Libr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32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7020000" y="5837400"/>
            <a:ext cx="1357200" cy="822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500040" y="4429080"/>
            <a:ext cx="785808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LMWFW (Graphic Library Multi Window FrameWork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2714760" y="5143680"/>
            <a:ext cx="3429000" cy="428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openG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7" name=""/>
          <p:cNvCxnSpPr>
            <a:endCxn id="92" idx="0"/>
          </p:cNvCxnSpPr>
          <p:nvPr/>
        </p:nvCxnSpPr>
        <p:spPr>
          <a:xfrm>
            <a:off x="1143000" y="4573080"/>
            <a:ext cx="2160" cy="1213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endCxn id="94" idx="0"/>
          </p:cNvCxnSpPr>
          <p:nvPr/>
        </p:nvCxnSpPr>
        <p:spPr>
          <a:xfrm flipH="1">
            <a:off x="7698960" y="4571640"/>
            <a:ext cx="16560" cy="1266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6" idx="2"/>
            <a:endCxn id="93" idx="0"/>
          </p:cNvCxnSpPr>
          <p:nvPr/>
        </p:nvCxnSpPr>
        <p:spPr>
          <a:xfrm>
            <a:off x="4428720" y="5572080"/>
            <a:ext cx="252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5" idx="2"/>
            <a:endCxn id="96" idx="0"/>
          </p:cNvCxnSpPr>
          <p:nvPr/>
        </p:nvCxnSpPr>
        <p:spPr>
          <a:xfrm>
            <a:off x="4428720" y="4929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endCxn id="93" idx="1"/>
          </p:cNvCxnSpPr>
          <p:nvPr/>
        </p:nvCxnSpPr>
        <p:spPr>
          <a:xfrm>
            <a:off x="999720" y="4572000"/>
            <a:ext cx="2786760" cy="16884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3606840" y="3600360"/>
            <a:ext cx="16146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gaim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542916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eety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378612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>
            <a:off x="3786120" y="207180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378612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53578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2214720" y="1285920"/>
            <a:ext cx="128556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69292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64296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"/>
          <p:cNvCxnSpPr>
            <a:stCxn id="102" idx="2"/>
            <a:endCxn id="95" idx="0"/>
          </p:cNvCxnSpPr>
          <p:nvPr/>
        </p:nvCxnSpPr>
        <p:spPr>
          <a:xfrm>
            <a:off x="4413240" y="4172040"/>
            <a:ext cx="16560" cy="2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4" idx="2"/>
            <a:endCxn id="102" idx="0"/>
          </p:cNvCxnSpPr>
          <p:nvPr/>
        </p:nvCxnSpPr>
        <p:spPr>
          <a:xfrm flipH="1">
            <a:off x="4412880" y="3429000"/>
            <a:ext cx="15120" cy="17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3" name=""/>
          <p:cNvCxnSpPr/>
          <p:nvPr/>
        </p:nvCxnSpPr>
        <p:spPr>
          <a:xfrm flipH="1">
            <a:off x="4428360" y="2643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4" name=""/>
          <p:cNvCxnSpPr/>
          <p:nvPr/>
        </p:nvCxnSpPr>
        <p:spPr>
          <a:xfrm flipH="1">
            <a:off x="4428360" y="185724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03" idx="1"/>
            <a:endCxn id="104" idx="3"/>
          </p:cNvCxnSpPr>
          <p:nvPr/>
        </p:nvCxnSpPr>
        <p:spPr>
          <a:xfrm flipH="1">
            <a:off x="5071680" y="3142800"/>
            <a:ext cx="357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8" idx="2"/>
            <a:endCxn id="105" idx="1"/>
          </p:cNvCxnSpPr>
          <p:nvPr/>
        </p:nvCxnSpPr>
        <p:spPr>
          <a:xfrm>
            <a:off x="2857320" y="1856880"/>
            <a:ext cx="929160" cy="5007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07" idx="2"/>
            <a:endCxn id="105" idx="3"/>
          </p:cNvCxnSpPr>
          <p:nvPr/>
        </p:nvCxnSpPr>
        <p:spPr>
          <a:xfrm flipV="1" rot="10800000">
            <a:off x="5071320" y="1856880"/>
            <a:ext cx="929520" cy="500760"/>
          </a:xfrm>
          <a:prstGeom prst="bentConnector3">
            <a:avLst>
              <a:gd name="adj1" fmla="val 4998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96" idx="1"/>
            <a:endCxn id="92" idx="0"/>
          </p:cNvCxnSpPr>
          <p:nvPr/>
        </p:nvCxnSpPr>
        <p:spPr>
          <a:xfrm flipH="1">
            <a:off x="1142640" y="5357880"/>
            <a:ext cx="157248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96" idx="3"/>
            <a:endCxn id="94" idx="0"/>
          </p:cNvCxnSpPr>
          <p:nvPr/>
        </p:nvCxnSpPr>
        <p:spPr>
          <a:xfrm>
            <a:off x="6143400" y="5357880"/>
            <a:ext cx="1556280" cy="480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uilding Tk lik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for example: window, border, text, scrollb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widget part is an image (a rectangle, a polygon, a text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put together using blending functions (megaimage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ransparency (alpha factor) is taken care of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root window is also a widget/image which is handled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ndering of a widget (label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>
            <a:off x="1071720" y="1357200"/>
            <a:ext cx="15714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1071720" y="2357280"/>
            <a:ext cx="157140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3143160" y="3286080"/>
            <a:ext cx="157176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1928880" y="192888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4000680" y="2857680"/>
            <a:ext cx="48384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3143160" y="2357280"/>
            <a:ext cx="157176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2428920"/>
            <a:ext cx="47808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1214280" y="1928880"/>
            <a:ext cx="484200" cy="406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3286080" y="2857680"/>
            <a:ext cx="484200" cy="406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714680" y="4286160"/>
            <a:ext cx="2071440" cy="1357560"/>
            <a:chOff x="1714680" y="4286160"/>
            <a:chExt cx="2071440" cy="1357560"/>
          </a:xfrm>
        </p:grpSpPr>
        <p:sp>
          <p:nvSpPr>
            <p:cNvPr id="133" name=""/>
            <p:cNvSpPr/>
            <p:nvPr/>
          </p:nvSpPr>
          <p:spPr>
            <a:xfrm>
              <a:off x="2214720" y="5214960"/>
              <a:ext cx="157140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Righ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7188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14720" y="4286160"/>
              <a:ext cx="157140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1468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572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714920" y="2428920"/>
            <a:ext cx="2071800" cy="1357200"/>
            <a:chOff x="4714920" y="2428920"/>
            <a:chExt cx="2071800" cy="1357200"/>
          </a:xfrm>
        </p:grpSpPr>
        <p:sp>
          <p:nvSpPr>
            <p:cNvPr id="139" name=""/>
            <p:cNvSpPr/>
            <p:nvPr/>
          </p:nvSpPr>
          <p:spPr>
            <a:xfrm>
              <a:off x="5214960" y="3357720"/>
              <a:ext cx="1571760" cy="4284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Lef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72120" y="292896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14960" y="242892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Calibri"/>
                </a:rPr>
                <a:t>Ba</a:t>
              </a: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14920" y="242892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57880" y="292896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786120" y="4286160"/>
            <a:ext cx="2071800" cy="1357560"/>
            <a:chOff x="3786120" y="4286160"/>
            <a:chExt cx="2071800" cy="1357560"/>
          </a:xfrm>
        </p:grpSpPr>
        <p:sp>
          <p:nvSpPr>
            <p:cNvPr id="145" name=""/>
            <p:cNvSpPr/>
            <p:nvPr/>
          </p:nvSpPr>
          <p:spPr>
            <a:xfrm>
              <a:off x="42861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Top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43680" y="4786200"/>
              <a:ext cx="48384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861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86120" y="4286160"/>
              <a:ext cx="47808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290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857920" y="4286160"/>
            <a:ext cx="2071800" cy="1357560"/>
            <a:chOff x="5857920" y="4286160"/>
            <a:chExt cx="2071800" cy="1357560"/>
          </a:xfrm>
        </p:grpSpPr>
        <p:sp>
          <p:nvSpPr>
            <p:cNvPr id="151" name=""/>
            <p:cNvSpPr/>
            <p:nvPr/>
          </p:nvSpPr>
          <p:spPr>
            <a:xfrm>
              <a:off x="63579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ottom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1512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579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5792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008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6786720" y="2428920"/>
            <a:ext cx="4777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>
            <a:off x="7215120" y="385776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Hier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>
            <a:off x="71424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elp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/>
          <p:nvPr/>
        </p:nvSpPr>
        <p:spPr>
          <a:xfrm>
            <a:off x="271476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>
            <a:off x="2714760" y="27860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/>
          <p:nvPr/>
        </p:nvSpPr>
        <p:spPr>
          <a:xfrm>
            <a:off x="5759280" y="2814480"/>
            <a:ext cx="164340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/>
          <p:nvPr/>
        </p:nvSpPr>
        <p:spPr>
          <a:xfrm>
            <a:off x="2714760" y="407196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me / ttk the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>
            <a:off x="492912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Manag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6" name=""/>
          <p:cNvCxnSpPr>
            <a:stCxn id="159" idx="2"/>
            <a:endCxn id="161" idx="1"/>
          </p:cNvCxnSpPr>
          <p:nvPr/>
        </p:nvCxnSpPr>
        <p:spPr>
          <a:xfrm>
            <a:off x="1534680" y="2214360"/>
            <a:ext cx="1180440" cy="9658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60" idx="2"/>
            <a:endCxn id="161" idx="0"/>
          </p:cNvCxnSpPr>
          <p:nvPr/>
        </p:nvCxnSpPr>
        <p:spPr>
          <a:xfrm>
            <a:off x="3537000" y="2214360"/>
            <a:ext cx="2160" cy="57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4" idx="2"/>
            <a:endCxn id="162" idx="0"/>
          </p:cNvCxnSpPr>
          <p:nvPr/>
        </p:nvCxnSpPr>
        <p:spPr>
          <a:xfrm>
            <a:off x="5749920" y="2214720"/>
            <a:ext cx="83088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5" idx="2"/>
            <a:endCxn id="162" idx="0"/>
          </p:cNvCxnSpPr>
          <p:nvPr/>
        </p:nvCxnSpPr>
        <p:spPr>
          <a:xfrm flipH="1">
            <a:off x="6579720" y="2214720"/>
            <a:ext cx="109944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1" idx="2"/>
            <a:endCxn id="163" idx="0"/>
          </p:cNvCxnSpPr>
          <p:nvPr/>
        </p:nvCxnSpPr>
        <p:spPr>
          <a:xfrm>
            <a:off x="3537000" y="3571560"/>
            <a:ext cx="216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63" idx="2"/>
            <a:endCxn id="172" idx="0"/>
          </p:cNvCxnSpPr>
          <p:nvPr/>
        </p:nvCxnSpPr>
        <p:spPr>
          <a:xfrm>
            <a:off x="3537000" y="4857840"/>
            <a:ext cx="216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62" idx="1"/>
            <a:endCxn id="161" idx="3"/>
          </p:cNvCxnSpPr>
          <p:nvPr/>
        </p:nvCxnSpPr>
        <p:spPr>
          <a:xfrm flipH="1" flipV="1">
            <a:off x="4357080" y="3177720"/>
            <a:ext cx="1402200" cy="29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2714760" y="52862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/>
          <p:nvPr/>
        </p:nvSpPr>
        <p:spPr>
          <a:xfrm>
            <a:off x="5770440" y="5249880"/>
            <a:ext cx="164304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83c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l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4073400"/>
            <a:ext cx="164340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6" name=""/>
          <p:cNvCxnSpPr>
            <a:endCxn id="161" idx="3"/>
          </p:cNvCxnSpPr>
          <p:nvPr/>
        </p:nvCxnSpPr>
        <p:spPr>
          <a:xfrm flipH="1" flipV="1">
            <a:off x="4357080" y="3177360"/>
            <a:ext cx="1402200" cy="131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endCxn id="161" idx="3"/>
          </p:cNvCxnSpPr>
          <p:nvPr/>
        </p:nvCxnSpPr>
        <p:spPr>
          <a:xfrm flipH="1" flipV="1">
            <a:off x="4357080" y="3177720"/>
            <a:ext cx="1402200" cy="2455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bas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/>
          <p:nvPr/>
        </p:nvSpPr>
        <p:spPr>
          <a:xfrm>
            <a:off x="3214800" y="1285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/>
          <p:nvPr/>
        </p:nvSpPr>
        <p:spPr>
          <a:xfrm>
            <a:off x="3214800" y="228600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heck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/>
          <p:nvPr/>
        </p:nvSpPr>
        <p:spPr>
          <a:xfrm>
            <a:off x="3214800" y="27860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/>
          <p:nvPr/>
        </p:nvSpPr>
        <p:spPr>
          <a:xfrm>
            <a:off x="3214800" y="178596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/>
          <p:nvPr/>
        </p:nvSpPr>
        <p:spPr>
          <a:xfrm>
            <a:off x="3214800" y="32860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/>
          <p:nvPr/>
        </p:nvSpPr>
        <p:spPr>
          <a:xfrm>
            <a:off x="3214800" y="37861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/>
          <p:nvPr/>
        </p:nvSpPr>
        <p:spPr>
          <a:xfrm>
            <a:off x="3214800" y="4286160"/>
            <a:ext cx="1643040" cy="428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ist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/>
          <p:nvPr/>
        </p:nvSpPr>
        <p:spPr>
          <a:xfrm>
            <a:off x="3214800" y="48578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/>
          <p:nvPr/>
        </p:nvSpPr>
        <p:spPr>
          <a:xfrm>
            <a:off x="3214800" y="53578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/>
          <p:nvPr/>
        </p:nvSpPr>
        <p:spPr>
          <a:xfrm>
            <a:off x="3214800" y="5857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mma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:ntk toplevel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button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heckbox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lock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ndow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key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mouse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dgetImage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de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/>
          <p:nvPr/>
        </p:nvSpPr>
        <p:spPr>
          <a:xfrm>
            <a:off x="1160640" y="1260360"/>
            <a:ext cx="684828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ackage require ntkWidg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set the root windows ti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::ntk::glmwfw::Glmwfw setWindowTitle $ntk::_win "NtkWidget Button Demo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roc flipName {win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name [$win cget -text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witch $name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Arnulf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Wiedeman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Wiedemann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Arnu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if {[llength $argv] &gt; 0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[lindex $argv 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wPath [ntk button .w -width 100 -height 100 -xoffset 50 -yoffset 50 \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-text Arnulf -textcolor [list 0 0 0 255] -bd 2 -bg [list 255 255 255 255]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Path configure -command [list flipName $wPath] -rotate $ro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pack the widget using ntkWidget grid mana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ntk grid $wP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fault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[list 3 3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shift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d9d9d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a3a3a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lam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/>
          <p:nvPr/>
        </p:nvSpPr>
        <p:spPr>
          <a:xfrm>
            <a:off x="464508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cdad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999999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ayo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efault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lam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/>
          <p:nvPr/>
        </p:nvSpPr>
        <p:spPr>
          <a:xfrm>
            <a:off x="4645080" y="2174760"/>
            <a:ext cx="4041720" cy="43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cti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ern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isabl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oc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val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press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eadon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elect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istory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eorge Peter Staplin (GPS) started ~ 2 years ago with a system for handling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riginal title Tk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 changed to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Widget is based on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 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background [list disabled #9d9d9d active #ececec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foreground [list disabled #a3a3a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relief [list {pressed !disabled} sunken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theme na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qu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ssi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efau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ttk like features you c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ayout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style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ook of a widget depending on the st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No need to change the widget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ifferent look and feel on platforms dependent on default layout for the platfor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and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theme class in ntkWidget will be replaced by the ttk like feat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mechanisms used in Ttk are very similar to the mechanisms used in ntkWidget (widget parts -&gt; layout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methods in the ntkWidget theme class can be modified to handle sty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can be easily adapted to handle layou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will be enhanced to handle sta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cl-ng addons for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thod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pro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k and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y not use itk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Arche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heritance of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trange option handling of inherited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o support of theme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are work in 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developers are working toge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demos for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small demos for ntkWidget (without ttk like them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xTk and ntkWidget could be both a replacement for Tk in the fu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 huge amount of work to be done before usable as replacement for T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wer technology, easier to maintain code 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dditional developpers would speed up implemen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ll be incompatible to Tk on some pla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„hello world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/>
          <p:nvPr/>
        </p:nvSpPr>
        <p:spPr>
          <a:xfrm>
            <a:off x="1160640" y="1440000"/>
            <a:ext cx="684828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Now it is time for some small demo examp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on X11, support for windows and MacOS a lot of years l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ic widgets are implemented completely in 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built and displayed using X11 (client-)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system fo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ptions for widgets are additionally using an option data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 and pla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o alpha blending, no free rotation of tex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92880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392904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PI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dow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700092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/na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857160" y="292896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3929040" y="4214880"/>
            <a:ext cx="1285920" cy="857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k B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y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3929040" y="292896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6929280" y="30002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857160" y="16430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3929040" y="164304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6929280" y="171468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" name=""/>
          <p:cNvCxnSpPr>
            <a:stCxn id="66" idx="1"/>
            <a:endCxn id="62" idx="0"/>
          </p:cNvCxnSpPr>
          <p:nvPr/>
        </p:nvCxnSpPr>
        <p:spPr>
          <a:xfrm flipV="1" rot="10800000">
            <a:off x="1571040" y="4642920"/>
            <a:ext cx="2358000" cy="786600"/>
          </a:xfrm>
          <a:prstGeom prst="bentConnector3">
            <a:avLst>
              <a:gd name="adj1" fmla="val 49992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6" idx="3"/>
            <a:endCxn id="64" idx="0"/>
          </p:cNvCxnSpPr>
          <p:nvPr/>
        </p:nvCxnSpPr>
        <p:spPr>
          <a:xfrm>
            <a:off x="5214600" y="4642920"/>
            <a:ext cx="2429640" cy="786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6" idx="2"/>
            <a:endCxn id="63" idx="0"/>
          </p:cNvCxnSpPr>
          <p:nvPr/>
        </p:nvCxnSpPr>
        <p:spPr>
          <a:xfrm>
            <a:off x="4572000" y="5072040"/>
            <a:ext cx="216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8" idx="2"/>
            <a:endCxn id="66" idx="0"/>
          </p:cNvCxnSpPr>
          <p:nvPr/>
        </p:nvCxnSpPr>
        <p:spPr>
          <a:xfrm flipH="1">
            <a:off x="4571280" y="3914640"/>
            <a:ext cx="2964600" cy="30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5" idx="2"/>
            <a:endCxn id="66" idx="0"/>
          </p:cNvCxnSpPr>
          <p:nvPr/>
        </p:nvCxnSpPr>
        <p:spPr>
          <a:xfrm>
            <a:off x="1465200" y="3843360"/>
            <a:ext cx="31089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7" idx="2"/>
            <a:endCxn id="66" idx="0"/>
          </p:cNvCxnSpPr>
          <p:nvPr/>
        </p:nvCxnSpPr>
        <p:spPr>
          <a:xfrm>
            <a:off x="4572000" y="384336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8" name=""/>
          <p:cNvCxnSpPr/>
          <p:nvPr/>
        </p:nvCxnSpPr>
        <p:spPr>
          <a:xfrm flipH="1">
            <a:off x="142848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H="1">
            <a:off x="457164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0" name=""/>
          <p:cNvCxnSpPr/>
          <p:nvPr/>
        </p:nvCxnSpPr>
        <p:spPr>
          <a:xfrm flipH="1">
            <a:off x="7500600" y="264312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s und widget parts are built as imag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code is Tcl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mages are built using megimage 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reetpyeext for fonts/t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(planned), place(planned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alpha blending, with free text ro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mponents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gaimage: pixel image and blending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reetypeext: extension of freetype fonts for building text images and rotating tex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bjstructure: extension for building simple ob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: the collection of Tcl code building the base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pixel consists of 4 bytes r/g/b and alp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 package is handling root windows and mouse and key ev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e of openGL for display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unning on linux and win32 at the mo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mostly on NexTk with the following differen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itcl instead of objstructure and use of ntkWidgetImage instead of megaim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GLMWFW (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phic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brary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lti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dow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me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rk) as common platform independent base for handling root windows and mouse/key ev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constructed using itcl-ng classes with inheritance instead of obj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 the future: use of ttk(tile) like architecture for handling themes (also using itcl-ng class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tk like theme handling implemented about 70%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space ensemble subcommands for the functionality, so no need to learn itcl for users of the pack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inux only at the moment (no development environment for windows MacO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rnulf Wiedemann</dc:creator>
  <dc:description/>
  <dc:language>en-US</dc:language>
  <cp:lastModifiedBy> </cp:lastModifiedBy>
  <cp:revision>0</cp:revision>
  <dc:subject/>
  <dc:title>NtkWidget </dc:title>
</cp:coreProperties>
</file>