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A97-23F1-4603-ABC9-B6D033F76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A69-0713-4B39-90ED-7D13C76B2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607-44D2-4BE0-AE54-B894C196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DD3-AD26-49F2-BDD6-814AC155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EA9-6476-439D-9D6E-048EFFC4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4C48-8293-4FF2-A272-5F3EC12B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FF6B-9CD5-45BA-BA23-BF008CBB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30A7-0EEE-405A-AC99-1B344958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500-97C8-4E46-ABE2-A960C1BF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8EC5-7138-43A7-9DA5-757D07289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182-3A76-4F4B-95EE-713876B3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3831-8629-4233-802E-D44EC571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AD7E-BDB9-44C5-B5F2-E36CAB65EA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Eagle: Tcl Implementation in C#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5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Microsoft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embed in CLR 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otable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CLR class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Tcl/T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es with native librar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active debugg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script cancell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read-only variables, command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interpreter-wide variable trac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clos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pports Unicode (UCS-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missing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Tk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rgument expansion syntax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namespace suppor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binary, fblocked, fcopy, fileevent, format, glob, history, memory, scan, or trac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registry or DDE comman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asynchronous input/outpu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erver socke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slave interpreters, no hidden commands, no aliases, and no Safe Tc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ttp, msgcat, or tcltest packag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open command, command pipelines and serial port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exec command, Unix-style input/output redirection and command pipelines are not suppor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8-10-22T06:56:22Z</dcterms:modified>
  <cp:revision>140</cp:revision>
  <dc:subject>Eagle</dc:subject>
  <dc:title>Eagle: Tcl Implementation in C#</dc:title>
</cp:coreProperties>
</file>