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9924-861C-4ECA-971A-97C4ACFD5F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065-3D7F-44B6-ADF8-4A92F8DC8E3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54DA-472E-4EF4-9C3F-A7B74840D7B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C2F8-2645-4569-A08C-5B8F4F6EEB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08E1-6EA5-4E62-BEBC-A05881CB4AD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A71B-5E06-43ED-A9F8-E3590E12BBE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A79D-757B-45A6-B866-CBCAD858E7E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B5D-84DA-4E19-AA04-8A7B30EFC06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CF15-4DBA-4DB6-B701-DE335B70A13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5258-2C20-4C64-9FB4-9FEE84DA37C1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47DF-BEEE-4AE8-A7B1-2FD6C41F1CA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6EDF-51E4-4506-820A-49C9864CC86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B216-D8B0-4189-B3E8-9A1D87EF84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880E2-3C01-42BF-9355-738FC8F729B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941-F8FE-43E3-A624-8604A439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7D41-E959-4AF2-80CB-6688317E3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19E1-3DB1-4950-B1E1-72434D09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DD6A-78E3-488F-9491-8EA76B86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D42-461C-4F8F-BD6F-EE83615E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9C8-AEEE-4A86-9B32-7B0813230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D876-23E3-490E-956D-7D0B5C47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56F9-FC7D-40CB-978C-1ECE1850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B6E-37D8-426A-B987-2BEA7290D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B92-C646-4DE6-BE56-76E754DD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76A0-EF3E-4972-84CA-37C22A13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4C9-625E-4911-ADB7-FD8DFAA8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1B54-37C7-48F0-B940-6F6BD2A05C15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k@dacsystem.pl" TargetMode="External"/><Relationship Id="rId2" Type="http://schemas.openxmlformats.org/officeDocument/2006/relationships/hyperlink" Target="http://tkosiak.blogspot.com/" TargetMode="External"/><Relationship Id="rId3" Type="http://schemas.openxmlformats.org/officeDocument/2006/relationships/hyperlink" Target="http://www.dacsystem.pl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tcl.org/2008/Download/Saturday/EuroTcl2008-Steffen_GSoC.pdf" TargetMode="External"/><Relationship Id="rId2" Type="http://schemas.openxmlformats.org/officeDocument/2006/relationships/hyperlink" Target="http://www.eurotcl.org/2008/Download/Saturday/EuroTcl2008-Steffen_GSoC.pdf" TargetMode="External"/><Relationship Id="rId3" Type="http://schemas.openxmlformats.org/officeDocument/2006/relationships/hyperlink" Target="http://www.eurotcl.org/2008/Download/Saturday/EuroTcl2008-Steffen_GSoC.pdf" TargetMode="External"/><Relationship Id="rId4" Type="http://schemas.openxmlformats.org/officeDocument/2006/relationships/hyperlink" Target="http://www.eurotcl.org/2008/Download/Saturday/EuroTcl2008-Steffen_GSoC.pdf" TargetMode="External"/><Relationship Id="rId5" Type="http://schemas.openxmlformats.org/officeDocument/2006/relationships/hyperlink" Target="http://www.eurotcl.org/2008/Download/Saturday/EuroTcl2008-Wirl_GSoC.pdf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licharski@gmail.com" TargetMode="External"/><Relationship Id="rId2" Type="http://schemas.openxmlformats.org/officeDocument/2006/relationships/hyperlink" Target="http://www.assembla.com/wiki/show/tkto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dah4ns@gmail.com" TargetMode="External"/><Relationship Id="rId2" Type="http://schemas.openxmlformats.org/officeDocument/2006/relationships/hyperlink" Target="http://trac.assembla.com/gsoc2008-tcl_dynamic_libraries/wiki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nia.pawelczyk@gmail.com" TargetMode="External"/><Relationship Id="rId2" Type="http://schemas.openxmlformats.org/officeDocument/2006/relationships/hyperlink" Target="http://www.assembla.com/wiki/show/TkTest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26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cl/Tk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oogle Summer of Code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3886200"/>
            <a:ext cx="7304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masz Kosiak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&lt;tkosiak@gmail.co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kosiak.blogspo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acsystem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Tcl 2008 Con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ct 23, Manassas VA,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masz Kosiak’s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ckground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(tkosia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king with Tcl from 1999 (first AOLserver, now mosty Tcl serv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ner, manager, software architect/developer at DAC System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- DAC System is 3 years old company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-10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peopl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ing dedicated software (in Tcl and AJAX) for telemetry and doing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Gdańsk Bay area in northern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TriCity=Trójmiasto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– the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Tcl users:  zjednoczenie.com (AOLserver based websites ex. mtv.eu), Polska.pl/Poland.pl (national portal),  Intel Technology Poland (t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in South Poland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rakow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: Wojciech Kocjan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ttp://www.kocjan.org/about-me.html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ANT Industrial Software Systems (general SCADA/HMI with Tk and/or AJAX UI), www.onet.pl (AOL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SoC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 2008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iv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hi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uates from Technical University of Gdańsk after the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prove themselvs 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ship during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SoC provided funding and mentor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work on projects which d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d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nefit DAC System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ing work is my daily job  – I’m quite good at making things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GSoC 2008 Im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a key but it doesn’t always work out of the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need reasonable projects with committed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an we expect from a student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 programming, some motivation and no mo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tudent expectations (except Google hype)? Doable project and mentor devotion first, money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ll we bother at all with Tcl 2009 GSo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M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oC is important way to bring in new Tcl developer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ommercial Tcl usage at Tcl based companies is another o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36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omasz Kosiak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e-mail: tk@dacsystem.pl</a:t>
            </a:r>
            <a:br>
              <a:rPr sz="2800"/>
            </a:b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http://tkosiak.blogspot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 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(ur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iki.tcl.tk/208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ode.google.com/p/google-summer-of-code-2008-tcl/downloads/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roups.google.com/group/comp.lang.tcl/browse_thread/thread/72b3e6626aa20095/50174260499805b3?hl=pl&amp;lnk=gst&amp;q=Tcl+GSoC+Projects#50174260499805b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urotcl.org/2008/Download/Saturday/EuroTcl2008-Steffen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eurotcl.org/2008/Download/Saturday/EuroTcl2008-Wirl_GSoC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cl/Tk GSoC 2008</a:t>
            </a: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 (tkosiak)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lots, finally 9 slots after we advertised as umbrella organization for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Tc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k,  AOLserver, OpenACS/.dotLRN, XOTcl, aMSN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forgot about Expect) and Tk being part of Perl &amp; Python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 slots =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9 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500 USD for students </a:t>
            </a: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+ 9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0 USD for mentors (Tcl Associ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MHO we h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very capable students from Poland (3 from Gdańsk and 1 from Warsa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Tcl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k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inting 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t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(TkPrint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Krzysztof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zysiek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Blicharski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licharski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lif Fly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o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Tcl implementation / C source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spects widgets graphical properties and gathers it nn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s PDF from information in those di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les many widgets including canvas but not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how widgets draws itself is duplicated in tktopdf tcl source code – derived from studies on C implemen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it support Tile? (probably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ght way is to 1) provide more retrospection about how widgets draws itselves  2) start with a TIP what is really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Hans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ah4ns@gmail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reas Kup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trac.assembla.com/gsoc2008-tcl_dynamic_libraries/wik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able loading shared libraries from starkits without putting them in temporary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lored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ing RTLD library (part of FreeBSD dynamic linker) to Linux and trying to make it work with Linux dynamic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y RTLD – its license is compatible with Tcl so it could be bund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TLD was extracted from FreeBSD sources and ported to 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c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oad simple dynamic shared libr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cannot load libtcl85.so from memory (fix could be simple or quite complex – no diagno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ading shared libraries from memory (and/or Tcl channels)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required high degree expertise on shared libraries linker internals – not already available within Tcl community so student mosty worked on his own – when he got stuck we couldn’t really help him without doing work for him (and it wasn’t exerci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S X we have OS support, making it basically 100% an integration thing – complexity 99% in Tcl, 1% in lin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U: On other platform complexity was not in the integration, but in the load/link parts themselves, maybe 1% integration, 99% linker intern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not create/bundle own linker (based on RTLD) but help to put memory-load feature into native linkers on supported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some workarounds to use native linkers (put shared library in /dev/shm on BSD, FUSE on Linux, Windows ???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An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welczyk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nia.pawelczyk@gmail.com</a:t>
            </a:r>
            <a:r>
              <a:rPr b="0" lang="pl-PL" sz="1600" spc="-1" strike="noStrike" u="sng">
                <a:solidFill>
                  <a:srgbClr val="000000"/>
                </a:solidFill>
                <a:uFillTx/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or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ff Hobb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rl: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ssembla.com/wiki/show/TkTe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convert syntax from 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1 to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test v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ation of why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y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s fa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ce from the system's settings – revisiting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test case independence – adding setup/clean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pdate Tk </a:t>
            </a:r>
            <a:r>
              <a:rPr b="0" lang="pl-PL" sz="3600" spc="-1" strike="noStrike">
                <a:solidFill>
                  <a:srgbClr val="000000"/>
                </a:solidFill>
                <a:latin typeface="Arial"/>
              </a:rPr>
              <a:t>Test System (TkTests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2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1 is formally accomp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2..4 just scratched – se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www.assembla.com/flows/flow/a_KwcurkGr3ztnab7jn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out 110 test files is lastly touched by ania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</a:t>
            </a:r>
            <a:br>
              <a:rPr sz="2400"/>
            </a:b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tktoolkit.cvs.sourceforge.net/viewvc/tktoolkit/tk/tests/?sortby=author#dirli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 new to Tl/Tk cannot become tktest expert without extensive help from men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be 50% of effort wa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po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ile tests touched – project was not called TtkTests (intended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cl Bindings to DTrace (TclDTrac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Remigiusz (Jan Andrzej) Modrzejewski &lt;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rem@go2.p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  Poland,Gdań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n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niel Steffen (Switzerland, Zuri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rl: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http://dev.lrem.net/tcldtrac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Tta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ynamic tracing framework from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uccessful project from Polish students (both mentor and student are very happy with 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 had all the required skills – what was indeed needed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C programming, b) good system administration skill which allowed him to create work environment OpenSolaris, c) kernel understanding (he writes for Linux Journal about Linux kern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ntor was very helpful – helped to design API, tested on unavailable platform (Mac OS X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isturbed systematic communication – almost the same time zone (Poland – Switzerlan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19:29:41Z</dcterms:created>
  <dc:creator>Tomasz Kosiak</dc:creator>
  <dc:description/>
  <dc:language>en-US</dc:language>
  <cp:lastModifiedBy>tkosiak</cp:lastModifiedBy>
  <dcterms:modified xsi:type="dcterms:W3CDTF">2008-10-23T06:36:07Z</dcterms:modified>
  <cp:revision>19</cp:revision>
  <dc:subject/>
  <dc:title>Tcl/Tk Mature but Evolving Dynamic Language</dc:title>
</cp:coreProperties>
</file>