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09512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596040"/>
            <a:ext cx="27478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101160"/>
            <a:ext cx="5722920" cy="38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7840" y="359604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7840" y="1095120"/>
            <a:ext cx="416448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596040"/>
            <a:ext cx="8534160" cy="22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60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Arial"/>
              <a:buChar char="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cc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utiger 87ExtraBlackC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57240"/>
            <a:ext cx="9137520" cy="0"/>
          </a:xfrm>
          <a:prstGeom prst="line">
            <a:avLst/>
          </a:prstGeom>
          <a:ln w="1260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165440" y="6630840"/>
            <a:ext cx="1187640" cy="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4BEF3-C634-4EDD-B72B-AEEF5BCE351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499600" y="6630840"/>
            <a:ext cx="644400" cy="1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82D86B-4F63-4E56-A6FA-FFB89D171D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27960" y="6608880"/>
            <a:ext cx="0" cy="199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315120" y="209520"/>
            <a:ext cx="2604960" cy="4478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9440" y="6620040"/>
            <a:ext cx="215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nnual Tcl/Tk Confere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26768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65240" y="2118960"/>
            <a:ext cx="7407360" cy="91908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1455840"/>
            <a:ext cx="6381720" cy="4557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219800" y="212760"/>
            <a:ext cx="1627200" cy="393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8966160" y="1457280"/>
            <a:ext cx="177840" cy="45496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45584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6006960"/>
            <a:ext cx="91440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451480" y="4138200"/>
            <a:ext cx="339264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J. S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ipal Software Engin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 October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5081400" y="1981080"/>
            <a:ext cx="376236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t SMITH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olution of a Tes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ol in Tcl/T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04760" y="0"/>
            <a:ext cx="0" cy="68580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99920" y="6497640"/>
            <a:ext cx="4703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© 2008 Raytheon Company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ustomer Success Is Our Miss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is a registered trademark of Raytheon Company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9317A6-EBFE-4B1F-81E2-BEB2A79ACE81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mat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“transport controls” for play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back to previous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play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e one test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 executing test cases in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ween test cases (speed contr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play of current test case, line number, and fi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tton to “record” new test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idn’t like preparing test case files with a text ed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saw the blindingly obvious solution that I mis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ways listen to feedback from the user commun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75884" r="0" b="0"/>
          <a:stretch/>
        </p:blipFill>
        <p:spPr>
          <a:xfrm>
            <a:off x="5983200" y="1395360"/>
            <a:ext cx="2853000" cy="87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8320C9-936A-431F-A2C5-EADFF79BFE7F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Hook Into Tell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uses a peculiar homegrown IPC scheme inter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was available, b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s are compiled into static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my op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shared library with wrappers for Teller IPC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it to register for Teller inter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socket to receive other messages intended for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793800" y="2709720"/>
          <a:ext cx="7408800" cy="1241640"/>
        </p:xfrm>
        <a:graphic>
          <a:graphicData uri="http://schemas.openxmlformats.org/drawingml/2006/table">
            <a:tbl>
              <a:tblPr/>
              <a:tblGrid>
                <a:gridCol w="4422600"/>
                <a:gridCol w="1555920"/>
                <a:gridCol w="1430280"/>
              </a:tblGrid>
              <a:tr h="30636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sible So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e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ar it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fid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m C extension in shared libra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extend Tcl with other 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6549C-E859-4331-8C34-7121C6A0B57C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oks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 the test case D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outgoing messages we expect to be gener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incoming messages we expect to com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Log me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o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g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to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s from Othe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to log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 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x/ASCII d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0B8C4-94DA-401A-9906-524D693AF879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Parse the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Tactical Information Message Format (GTIM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er already has a C tool to dump GTIMF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ses fields and displays them numer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n’t interpret values, so not truly human-rea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correlate with Agent SMITH Event Lo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GTIMF parser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structure from ICD encoded in simple data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procedures parse message hierarch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easily be extended to other protoc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a week to design, code, test, and documen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gain, Tcl excels at network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F09010-F061-48F0-825E-6A2BC4E68A3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de-By-Side Compari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378400" y="1206360"/>
            <a:ext cx="2870280" cy="4832640"/>
            <a:chOff x="5378400" y="1206360"/>
            <a:chExt cx="2870280" cy="483264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378400" y="5006880"/>
              <a:ext cx="287028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5395680" y="1206360"/>
              <a:ext cx="2853000" cy="3606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65200" y="1089000"/>
            <a:ext cx="3867120" cy="5168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00920" y="6178680"/>
            <a:ext cx="202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Ske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1280" y="61754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30040" indent="-230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l To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9F64B-1929-4D19-8E53-357552AA319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 helped ensure success of initi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enough for rapid prototy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enough for chang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ful enough for delivere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SMITH has been well received by multiple user communities and used in some unexpected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use it to explore “What if?”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use it to debug other Teller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use it to provide repeatable stimul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cl/Tk is ideal for developing tools and test har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A0DAA-5E11-4626-8B9B-64C46508D57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062000"/>
            <a:ext cx="4419360" cy="47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has an existing system called Story T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nterac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sked us to add a new system called Story Ma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data from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s data to Story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-defined interface (IC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66000" y="129528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Te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66000" y="5286240"/>
            <a:ext cx="2224080" cy="876600"/>
          </a:xfrm>
          <a:prstGeom prst="rect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ry 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Cloud"/>
          <p:cNvSpPr/>
          <p:nvPr/>
        </p:nvSpPr>
        <p:spPr>
          <a:xfrm>
            <a:off x="5807160" y="2809800"/>
            <a:ext cx="2743200" cy="1838520"/>
          </a:xfrm>
          <a:prstGeom prst="pie">
            <a:avLst/>
          </a:prstGeom>
          <a:solidFill>
            <a:srgbClr val="dad9a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4" idx="1"/>
            <a:endCxn id="93" idx="1"/>
          </p:cNvCxnSpPr>
          <p:nvPr/>
        </p:nvCxnSpPr>
        <p:spPr>
          <a:xfrm flipH="1" rot="10800000">
            <a:off x="6051240" y="1732680"/>
            <a:ext cx="2160" cy="3991680"/>
          </a:xfrm>
          <a:prstGeom prst="bentConnector3">
            <a:avLst>
              <a:gd name="adj1" fmla="val -41500000"/>
            </a:avLst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7" name=""/>
          <p:cNvCxnSpPr>
            <a:stCxn id="95" idx="4"/>
            <a:endCxn id="94" idx="0"/>
          </p:cNvCxnSpPr>
          <p:nvPr/>
        </p:nvCxnSpPr>
        <p:spPr>
          <a:xfrm>
            <a:off x="7178400" y="4660920"/>
            <a:ext cx="1080" cy="612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98" name=""/>
          <p:cNvCxnSpPr>
            <a:stCxn id="93" idx="2"/>
            <a:endCxn id="95" idx="5"/>
          </p:cNvCxnSpPr>
          <p:nvPr/>
        </p:nvCxnSpPr>
        <p:spPr>
          <a:xfrm>
            <a:off x="7178400" y="2185560"/>
            <a:ext cx="1080" cy="715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68F20-77A8-4033-8B81-BBEB2619B72D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Maker not available during developme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complicated accept/reject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s contain many interrelated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ler performs validity and consistency ch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erally hundreds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required to play with those Other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mmunities with different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Engineers need to perform Unit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Engineers need to perform Integr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Engineers need to perform Functional Qualification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ky effort – How can we ensure succes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ABDAF-6232-4F9B-8EF8-1C82B420D51E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4232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y Teller project engineer sketched out an idea for a tool that would let y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 test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required initial conditions and expected out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 it to Te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the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any error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cate test PASS/F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hard would it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5080" y="1089000"/>
            <a:ext cx="4076640" cy="544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CB588-6F5B-49DB-93BF-D16C6ED71046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/Tk to the Rescu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prototyping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makes networking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k excels at building GU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used in Story series and rel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proceeded in four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Prototype proposed solution for proof-of-concept d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Automate the tool with playback of test c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Hook into Teller to monitor internal and externa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Parse the data into human-readable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use Tcl/Tk for prototyp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eliver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7E9F1-C4FC-4126-9CF2-FAEAF8684B95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“Agent” SMIT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evious project of mine was nicknamed “matri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as developed when the first Matrix movie was rele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features a prominent matrix of data in the form of a Tk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project was a code coun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SLO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a trend of including “titles” when naming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ronym SMITH was a natural for this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one called it “Agent SMITH”, with a Hugo Weaving draw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me stu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ED75A-8162-4FA3-B97D-65CFFF371900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rototype Proposed Sol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tailed Expected Response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 confusing Expected Outputs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really two kinds of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ual response message back from T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s taken by Teller and the Other System 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utomatically check expected vs. actua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need a way to describe external reactions, but h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generic Event Log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olling text wi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TEST Case, Initial Conditions, Result, and Erro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estination host:port fields for mes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238880" y="1089000"/>
            <a:ext cx="1764000" cy="23590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499600" y="1812960"/>
            <a:ext cx="0" cy="5475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56320" y="1200240"/>
            <a:ext cx="1446480" cy="271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58120" y="3006720"/>
            <a:ext cx="1446120" cy="244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8167680" y="1457280"/>
            <a:ext cx="1440" cy="1533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54880" y="1506600"/>
            <a:ext cx="1446120" cy="296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482B60-2FD5-4706-8CC4-52331653ED3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27088E-006 L -0.37465 0.17649 E">
                                      <p:cBhvr>
                                        <p:cTn id="6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33000" y="33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465 0.17649 L 0.00017 -0.00116 E">
                                      <p:cBhvr>
                                        <p:cTn id="14" dur="1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type (continued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proof-of-concept to Teller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menus to aid in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try used tk_optionMenu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good for labels - they show their curren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79320" indent="-209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window big and clut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menubuttons with down-arrow character in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we have used combo boxes?  (Maybe still cluttere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size of main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he Event Log a separate resizable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Exit button into a File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 the destination specification into a Server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made some design change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 de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750000" y="4324320"/>
            <a:ext cx="2057400" cy="739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0" t="47648" r="60009" b="27354"/>
          <a:stretch/>
        </p:blipFill>
        <p:spPr>
          <a:xfrm>
            <a:off x="6961320" y="1693800"/>
            <a:ext cx="164628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17341-FA85-4EE0-BB97-75363509C333}" type="datetime1">
              <a:rPr lang="en-US"/>
              <a:t>07/28/26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560" y="101160"/>
            <a:ext cx="5722920" cy="831960"/>
          </a:xfrm>
          <a:prstGeom prst="rect">
            <a:avLst/>
          </a:prstGeom>
          <a:noFill/>
          <a:ln w="0">
            <a:noFill/>
          </a:ln>
        </p:spPr>
        <p:txBody>
          <a:bodyPr lIns="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Automate the Too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095120"/>
            <a:ext cx="8534160" cy="47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entry to File menu to Open a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d by 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-223920">
              <a:spcBef>
                <a:spcPts val="499"/>
              </a:spcBef>
              <a:buClr>
                <a:srgbClr val="000000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Domain-Specific Language (DS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test cas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Case  Msg Msg     Track  TELL ID                          Sp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 Num  Typ ID      ID     Stat Threat      Cat     Plat    Type    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1  11  123     JJS     0   ASMDFRND    AIR     FTR     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et msg "Enter the desired Message ID:" ;# get value of msg from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2  11  $msg    JJS     0   FRIEND      AIR     FTR    *F-18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llegal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note "Special setup required for next test case!" ;# stops automatical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se 3  11  123     JJS     0   FRIEND      AIR    *BMR    *F18     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57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consistent platform &amp; specific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117440" y="6203880"/>
            <a:ext cx="6872400" cy="34308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’s easy to create Domain Specific Languages with 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9520" y="389412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280" y="4157640"/>
            <a:ext cx="87948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3040" y="4919760"/>
            <a:ext cx="53964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2480" y="4405320"/>
            <a:ext cx="540000" cy="252360"/>
          </a:xfrm>
          <a:prstGeom prst="ellipse">
            <a:avLst/>
          </a:prstGeom>
          <a:noFill/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97080" y="4327560"/>
            <a:ext cx="461880" cy="156960"/>
          </a:xfrm>
          <a:prstGeom prst="line">
            <a:avLst/>
          </a:prstGeom>
          <a:ln w="28440">
            <a:solidFill>
              <a:srgbClr val="ce1126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84C3F6-987E-4DBE-9905-7D277A6C13A3}" type="datetime1">
              <a:rPr lang="en-US"/>
              <a:t>07/28/26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17:46:14Z</dcterms:created>
  <dc:creator/>
  <dc:description/>
  <cp:keywords/>
  <dc:language>en-US</dc:language>
  <cp:lastModifiedBy>RTSC</cp:lastModifiedBy>
  <cp:lastPrinted>2009-04-22T19:24:48Z</cp:lastPrinted>
  <dcterms:modified xsi:type="dcterms:W3CDTF">2008-10-14T18:38:11Z</dcterms:modified>
  <cp:revision>109</cp:revision>
  <dc:subject/>
  <dc:title>Presentation  Title to allow  for 3 lines</dc:title>
</cp:coreProperties>
</file>