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B567-5B58-408C-BE43-5048563567A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2F2D-0024-459C-AB19-3A6839433C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E23B-7AE3-4A88-B742-E6077929271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5FFE-15E4-4B0C-BCE2-E2FCBC789B5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C684-7D03-4B16-92A4-CD5691B20165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81FC-5FD2-4429-B2C3-438D9B5DE2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A0FB-AB56-4038-8717-0B3FD32C62D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722-7AE8-45F1-B44F-17F446DB11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190B-5720-4DDB-97D8-76F52E531EF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E3DB-71BB-4FEB-96BE-03AAD01AB99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CD82-7277-4555-8A97-FD3FDE95C2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CC7D-FE4A-45D0-9C2D-B4C0CB3CCFA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8B7D0-49AD-43FC-8B17-200AECF8C2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0800-007F-4D79-8050-CC13A85C147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5F0D-1A73-49E8-822B-D65E6368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3BD7-B162-4911-BDC8-9529B1D5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2477-3353-4A59-B4FE-7AC6138BB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ADA-CB1E-4527-82AE-8EA45D2E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E03-6EA7-42FD-AA36-B38B98E8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4923-B4A3-4EFD-A89F-DFE308B1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004-A601-417B-9A60-9C538BF1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876-4F75-480C-B565-FE43AA1B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86EE-A051-4298-B398-AF4C3A1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79B-F6E5-408F-AA39-0999BA009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174-9EED-4AD9-9704-5A090DCF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0B1-782E-4A3A-89CA-23A363EE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C66F7-CEA3-478E-8F65-21529B9E96F1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9:54Z</dcterms:modified>
  <cp:revision>19</cp:revision>
  <dc:subject/>
  <dc:title>Tcl/Tk Mature but Evolving Dynamic Language</dc:title>
</cp:coreProperties>
</file>