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6"/>
          </p:nvPr>
        </p:nvSpPr>
        <p:spPr>
          <a:xfrm>
            <a:off x="3927240" y="-36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7"/>
          </p:nvPr>
        </p:nvSpPr>
        <p:spPr>
          <a:xfrm>
            <a:off x="0" y="8757720"/>
            <a:ext cx="30052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 type="sldNum" idx="8"/>
          </p:nvPr>
        </p:nvSpPr>
        <p:spPr>
          <a:xfrm>
            <a:off x="3927240" y="8757720"/>
            <a:ext cx="300492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A8FDF5-AF0C-4FA4-8A25-D08B030F48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79B09A-2C41-467E-97B2-BDFE796A9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A37551-D40A-4414-8845-FBF3DC850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508E8E-031E-40E3-B823-F4D44B63B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075C1B-7378-414E-AC47-3DA119FF8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93B765-DDDC-4A08-8FE6-B775BED75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F7CEA8-6626-4C3C-9ABA-E0D4F8177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091CAE-C2A8-4EB5-8F53-070E6C16F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756712-3A7F-4D84-BACD-2CDB6B9FE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38069F-B895-46E2-B898-9BCF2678D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C6574B-B8DD-421B-9E8D-C6969C4F6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2CC43C-5A4E-47AA-AA93-BCB21678C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2D0E6C-0FE2-4B54-9219-8EEA16280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57DB31-C837-49E0-9E20-DF9AD203C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6BA66EC-AAB7-411D-B9CB-EDEF191BD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93720" y="4379400"/>
            <a:ext cx="554688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927600" y="8758080"/>
            <a:ext cx="30049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FA97FD6-B84D-4D03-BBCB-E40DE6B45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7E772-2116-4473-9E1C-D0B5641668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AAD3E-915D-4FB4-8946-4A502645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80C62-6580-4279-B799-7B4D0662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64E4C-5725-431F-BF8A-A1658EE2F0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45995-7965-410C-BEEC-628399CB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1DC84-2ADA-4DC9-BFFA-EF28F4A6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03EDA-6945-4144-9ECC-C6F1EE0A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17771-7051-438E-8871-9FE37D0D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60E48-85A2-4812-AF49-31DFA095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6C8E3-E6FF-43DB-AE0A-678EE64F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926601-5B56-4A72-B76E-09AF1F46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37318-3CEE-43B2-9D86-51BF7AF3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41B69-376F-4055-B399-5ECD6A77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1418E-FF8A-424F-9C73-D237E309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32292-C2C9-4320-81EE-F7F002BD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B21C39-EAB7-4904-B57A-482C988D4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08736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869800" y="1523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30492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08736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869800" y="3888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65A2C-9F87-442E-9939-7EEB2D10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B42C2-CC40-4103-9431-7466816FF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AC659-A231-4343-8750-470A3A1D7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F4558-9008-49C0-84B9-6F9873F23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7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DAA57-AA33-4CD3-9845-376E6DF3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B7159-CD7A-4EE4-A12B-B559EBE0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21960" y="3888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96244-3829-4954-8A40-8609D262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21960" y="1523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88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8858D-BF67-4C47-B39D-90817E28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8" descr="noc_logo"/>
          <p:cNvPicPr/>
          <p:nvPr/>
        </p:nvPicPr>
        <p:blipFill>
          <a:blip r:embed="rId2"/>
          <a:srcRect l="0" t="0" r="0" b="8239"/>
          <a:stretch/>
        </p:blipFill>
        <p:spPr>
          <a:xfrm>
            <a:off x="7032600" y="282600"/>
            <a:ext cx="1984320" cy="46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661080"/>
            <a:ext cx="18288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84"/>
          <p:cNvSpPr/>
          <p:nvPr/>
        </p:nvSpPr>
        <p:spPr>
          <a:xfrm>
            <a:off x="0" y="990720"/>
            <a:ext cx="9144000" cy="75960"/>
          </a:xfrm>
          <a:prstGeom prst="rect">
            <a:avLst/>
          </a:prstGeom>
          <a:solidFill>
            <a:srgbClr val="005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375D-BA0D-4D6B-8333-1390CC2078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44"/>
          <p:cNvGrpSpPr/>
          <p:nvPr/>
        </p:nvGrpSpPr>
        <p:grpSpPr>
          <a:xfrm>
            <a:off x="4952880" y="663480"/>
            <a:ext cx="3467160" cy="612720"/>
            <a:chOff x="4952880" y="663480"/>
            <a:chExt cx="3467160" cy="612720"/>
          </a:xfrm>
        </p:grpSpPr>
        <p:sp>
          <p:nvSpPr>
            <p:cNvPr id="43" name="Freeform 45"/>
            <p:cNvSpPr/>
            <p:nvPr/>
          </p:nvSpPr>
          <p:spPr>
            <a:xfrm>
              <a:off x="4952880" y="666000"/>
              <a:ext cx="294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5213880" y="663480"/>
              <a:ext cx="23328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5414040" y="666000"/>
              <a:ext cx="2347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5661360" y="666000"/>
              <a:ext cx="21132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5807160" y="666000"/>
              <a:ext cx="2890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6032520" y="666000"/>
              <a:ext cx="23724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6249240" y="663480"/>
              <a:ext cx="234720" cy="167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6449400" y="666000"/>
              <a:ext cx="23580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6763320" y="664560"/>
              <a:ext cx="223560" cy="16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6938640" y="667440"/>
              <a:ext cx="231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155360" y="667440"/>
              <a:ext cx="2552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7353720" y="667440"/>
              <a:ext cx="31284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7605720" y="666000"/>
              <a:ext cx="312480" cy="16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7848720" y="667440"/>
              <a:ext cx="24876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8102880" y="667440"/>
              <a:ext cx="290520" cy="1598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5329440" y="865080"/>
              <a:ext cx="3090600" cy="40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5336280" y="872280"/>
              <a:ext cx="3076560" cy="385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" name="Freeform 62"/>
            <p:cNvSpPr/>
            <p:nvPr/>
          </p:nvSpPr>
          <p:spPr>
            <a:xfrm>
              <a:off x="5953320" y="1142280"/>
              <a:ext cx="87480" cy="126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" name="Freeform 63"/>
            <p:cNvSpPr/>
            <p:nvPr/>
          </p:nvSpPr>
          <p:spPr>
            <a:xfrm>
              <a:off x="610488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623664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636192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6481440" y="1173240"/>
              <a:ext cx="694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6628680" y="1173240"/>
              <a:ext cx="428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6748200" y="1173240"/>
              <a:ext cx="691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6892560" y="1171800"/>
              <a:ext cx="73440" cy="1040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713304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7272000" y="1173240"/>
              <a:ext cx="666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742068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7647120" y="1173240"/>
              <a:ext cx="5400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Freeform 74"/>
            <p:cNvSpPr/>
            <p:nvPr/>
          </p:nvSpPr>
          <p:spPr>
            <a:xfrm>
              <a:off x="7775280" y="1173240"/>
              <a:ext cx="662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Freeform 75"/>
            <p:cNvSpPr/>
            <p:nvPr/>
          </p:nvSpPr>
          <p:spPr>
            <a:xfrm>
              <a:off x="7914240" y="1173240"/>
              <a:ext cx="6624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8051400" y="1173240"/>
              <a:ext cx="68040" cy="102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8199000" y="1173240"/>
              <a:ext cx="7308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8343360" y="1173240"/>
              <a:ext cx="52920" cy="10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1624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1624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6879-BD08-4F5B-8F02-76AFF1CCBE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47800" y="3741480"/>
            <a:ext cx="7772400" cy="98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100"/>
              </a:spcBef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15</a:t>
            </a:r>
            <a:r>
              <a:rPr b="0" lang="en-US" sz="26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 Annual Tcl/Tk Conference</a:t>
            </a:r>
            <a:br>
              <a:rPr sz="26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tober 2008</a:t>
            </a:r>
            <a:br>
              <a:rPr sz="22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ext Box 53"/>
          <p:cNvSpPr/>
          <p:nvPr/>
        </p:nvSpPr>
        <p:spPr>
          <a:xfrm>
            <a:off x="5364360" y="5253120"/>
            <a:ext cx="33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mothy L. Tomkin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4"/>
          <p:cNvSpPr/>
          <p:nvPr/>
        </p:nvSpPr>
        <p:spPr>
          <a:xfrm>
            <a:off x="4356360" y="5703840"/>
            <a:ext cx="440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ellow Software Engine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rthrop Grumman Electronic Syste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Rectangle 64"/>
          <p:cNvSpPr/>
          <p:nvPr/>
        </p:nvSpPr>
        <p:spPr>
          <a:xfrm>
            <a:off x="851040" y="2365200"/>
            <a:ext cx="777240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Remote Control of Test Equipment Using Distributed Object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advTm="1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fidl” package used to call share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Foreign Function Interface with Dynamic Loading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cl extension on top of either “libffi” or “fficall”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reates Tcl commands that map to functions in shared librari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LLs (Windows) or shared objects (Un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or CO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amples: Win32, NI-VISA, 1553, VME, PCI, etc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liminates need to write Tcl extensions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orted to VxWork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s VxWorks symbol tab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lows direct calls to kernel and user modu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apper class created for each library to provide object-orient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C222-7339-449A-A0C3-C06ED44D23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Hardware Control (cont’d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AutoShape 3"/>
          <p:cNvSpPr/>
          <p:nvPr/>
        </p:nvSpPr>
        <p:spPr>
          <a:xfrm>
            <a:off x="1143000" y="221940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1143000" y="40543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fid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Line 5"/>
          <p:cNvSpPr/>
          <p:nvPr/>
        </p:nvSpPr>
        <p:spPr>
          <a:xfrm>
            <a:off x="1758960" y="28195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AutoShape 7"/>
          <p:cNvSpPr/>
          <p:nvPr/>
        </p:nvSpPr>
        <p:spPr>
          <a:xfrm>
            <a:off x="1143000" y="496872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Line 8"/>
          <p:cNvSpPr/>
          <p:nvPr/>
        </p:nvSpPr>
        <p:spPr>
          <a:xfrm>
            <a:off x="1757520" y="46483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AutoShape 9"/>
          <p:cNvSpPr/>
          <p:nvPr/>
        </p:nvSpPr>
        <p:spPr>
          <a:xfrm>
            <a:off x="1143000" y="5827680"/>
            <a:ext cx="1143000" cy="725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10"/>
          <p:cNvSpPr/>
          <p:nvPr/>
        </p:nvSpPr>
        <p:spPr>
          <a:xfrm>
            <a:off x="1757520" y="5562720"/>
            <a:ext cx="144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4E4DA-31C7-43A2-8E38-C5B248540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AutoShape 12"/>
          <p:cNvSpPr/>
          <p:nvPr/>
        </p:nvSpPr>
        <p:spPr>
          <a:xfrm>
            <a:off x="1143000" y="1295280"/>
            <a:ext cx="1143000" cy="5940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crip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1749600" y="1889280"/>
            <a:ext cx="288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AutoShape 3"/>
          <p:cNvSpPr/>
          <p:nvPr/>
        </p:nvSpPr>
        <p:spPr>
          <a:xfrm>
            <a:off x="1143000" y="3149640"/>
            <a:ext cx="1143000" cy="5936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rapp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5"/>
          <p:cNvSpPr/>
          <p:nvPr/>
        </p:nvSpPr>
        <p:spPr>
          <a:xfrm>
            <a:off x="1755720" y="3743280"/>
            <a:ext cx="1800" cy="330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561040" y="137160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 scripts written in procedural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2540520" y="2300400"/>
            <a:ext cx="48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ice drivers written in object-oriented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Rectangle 27"/>
          <p:cNvSpPr/>
          <p:nvPr/>
        </p:nvSpPr>
        <p:spPr>
          <a:xfrm>
            <a:off x="2464560" y="3214800"/>
            <a:ext cx="63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brary wrappers provide OO interface to shared 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Rectangle 28"/>
          <p:cNvSpPr/>
          <p:nvPr/>
        </p:nvSpPr>
        <p:spPr>
          <a:xfrm>
            <a:off x="2580480" y="412920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acts as bridge between Tcl and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Rectangle 29"/>
          <p:cNvSpPr/>
          <p:nvPr/>
        </p:nvSpPr>
        <p:spPr>
          <a:xfrm>
            <a:off x="2666880" y="5043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d libraries: DLLs or shared objects, custom or CO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Rectangle 30"/>
          <p:cNvSpPr/>
          <p:nvPr/>
        </p:nvSpPr>
        <p:spPr>
          <a:xfrm>
            <a:off x="2666880" y="6033960"/>
            <a:ext cx="53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dware devi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Device Driver Class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5486400" y="1969920"/>
            <a:ext cx="3352680" cy="34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mmand table contains method names vs. command string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itialization code creates public methods for each comman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Public methods call the same private method to write to devic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3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concept used for query comma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0FDA8-6EF5-40F2-8AFB-109C17820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AutoShape 15"/>
          <p:cNvSpPr/>
          <p:nvPr/>
        </p:nvSpPr>
        <p:spPr>
          <a:xfrm>
            <a:off x="457200" y="1600200"/>
            <a:ext cx="4724280" cy="44164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73760" y="1676520"/>
            <a:ext cx="447840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PowerSupply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ackage require NiVisa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;# library wrapp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Command table (method vs. command string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each {method cmdStr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set   *R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ltage VOL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Create write metho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blic method $method {args} \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“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val handleWrite $cmdStr {$args}”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Write to devi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rivate method handleWrite {args} 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niVisa write $arg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Courier New"/>
              </a:rPr>
              <a:t># Examp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rese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$ps voltage 5.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15"/>
          <p:cNvSpPr/>
          <p:nvPr/>
        </p:nvSpPr>
        <p:spPr>
          <a:xfrm>
            <a:off x="1447920" y="3124080"/>
            <a:ext cx="4800600" cy="297180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AutoShape 15"/>
          <p:cNvSpPr/>
          <p:nvPr/>
        </p:nvSpPr>
        <p:spPr>
          <a:xfrm>
            <a:off x="1447920" y="1752480"/>
            <a:ext cx="480060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4DEA8-B736-4523-8245-3BF142062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609480" y="1295280"/>
            <a:ext cx="784872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er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Start the 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mote::config –port 5000 –local 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8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reate instance of “Remote”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age require Remo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remote [Remote #auto $hostname 5000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send” method to load packag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remote send “package require PowerSupply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Use “new” method to create 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ps [$remote new PowerSupply]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ourier New"/>
                <a:ea typeface="Courier New"/>
              </a:rPr>
              <a:t># Call method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res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200240" indent="-285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$ps voltage 5.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480" y="1294920"/>
            <a:ext cx="7925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paradigm very easy to implement in T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tcl provides all necessary object-oriented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’s introspection facility eliminates need for interface definition fil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 package provides robust remote procedure call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fidl is perfect for controlling hardw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asy to call C libraries without writing Tcl extens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 use existing device drivers, either COTS or cust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’s portability allows seamless control across multiple platfor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istributed object architecture provides rapid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de can be tested and debugged on local P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o deploy, only a few extra lines are required to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knowledge of network programming is requi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ce code does not need to be modified, any Itcl object can be run remotel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, simple, in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0680" indent="-2206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2F51-9169-4047-98B8-2F5E1C0B0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4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5AE0D-59B3-46C8-BF89-C4E0EC4F4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logo_tag_placeholder"/>
          <p:cNvPicPr/>
          <p:nvPr/>
        </p:nvPicPr>
        <p:blipFill>
          <a:blip r:embed="rId1"/>
          <a:srcRect l="10568" t="2763" r="10499" b="2763"/>
          <a:stretch/>
        </p:blipFill>
        <p:spPr>
          <a:xfrm>
            <a:off x="1440" y="0"/>
            <a:ext cx="9141120" cy="685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gend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7720" y="144792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Controlling Complex Test St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between network nod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ing Solu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f-the-shelf solution using CORB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solution using distributed objec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rdware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and Ffid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53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21400" indent="-221400">
              <a:spcBef>
                <a:spcPts val="1137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F932-E937-49D3-BF43-0CAB694BF1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My Backgr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62120" y="121932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.S. Electrical Engineering: Carnegie Mellon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.S. Computer Science: Johns Hopkins Univers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ir Force: 5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tellite Software Engine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MSP: Weather Satellit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rthrop Grumman: 14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mbedded, real-time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ME, CompactPCI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/C++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582840" indent="-1940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st Softwa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, Unix, VxWor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thernet, GPIB, RS-232, 1553, US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71280" indent="-19404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, C/C++, SQ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cl User: 10 yea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94040" indent="-19404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6A791-0C93-4EA0-BA11-45955F4F9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7E2F9-E2E2-46D8-9FBE-301C721D3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ypical Test Sta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TextBox 6"/>
          <p:cNvSpPr/>
          <p:nvPr/>
        </p:nvSpPr>
        <p:spPr>
          <a:xfrm>
            <a:off x="466920" y="5345280"/>
            <a:ext cx="9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7331040" y="1981080"/>
            <a:ext cx="1195560" cy="2066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1"/>
          <p:cNvSpPr/>
          <p:nvPr/>
        </p:nvSpPr>
        <p:spPr>
          <a:xfrm>
            <a:off x="5977800" y="1901880"/>
            <a:ext cx="5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PI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/>
          <a:stretch/>
        </p:blipFill>
        <p:spPr>
          <a:xfrm>
            <a:off x="7702560" y="2971800"/>
            <a:ext cx="977760" cy="654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3"/>
          <p:cNvSpPr/>
          <p:nvPr/>
        </p:nvSpPr>
        <p:spPr>
          <a:xfrm>
            <a:off x="7929000" y="35100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Box 15"/>
          <p:cNvSpPr/>
          <p:nvPr/>
        </p:nvSpPr>
        <p:spPr>
          <a:xfrm>
            <a:off x="2412360" y="24354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M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3"/>
          <a:stretch/>
        </p:blipFill>
        <p:spPr>
          <a:xfrm>
            <a:off x="743040" y="2743200"/>
            <a:ext cx="1390680" cy="846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17"/>
          <p:cNvSpPr/>
          <p:nvPr/>
        </p:nvSpPr>
        <p:spPr>
          <a:xfrm>
            <a:off x="806040" y="3594240"/>
            <a:ext cx="12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act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13" descr=""/>
          <p:cNvPicPr/>
          <p:nvPr/>
        </p:nvPicPr>
        <p:blipFill>
          <a:blip r:embed="rId4"/>
          <a:stretch/>
        </p:blipFill>
        <p:spPr>
          <a:xfrm>
            <a:off x="5759280" y="1498680"/>
            <a:ext cx="1032120" cy="406440"/>
          </a:xfrm>
          <a:prstGeom prst="rect">
            <a:avLst/>
          </a:prstGeom>
          <a:ln w="0">
            <a:noFill/>
          </a:ln>
        </p:spPr>
      </p:pic>
      <p:sp>
        <p:nvSpPr>
          <p:cNvPr id="146" name="TextBox 20"/>
          <p:cNvSpPr/>
          <p:nvPr/>
        </p:nvSpPr>
        <p:spPr>
          <a:xfrm>
            <a:off x="7551000" y="218916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5"/>
          <a:stretch/>
        </p:blipFill>
        <p:spPr>
          <a:xfrm>
            <a:off x="2209680" y="1617840"/>
            <a:ext cx="952560" cy="8236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6" descr=""/>
          <p:cNvPicPr/>
          <p:nvPr/>
        </p:nvPicPr>
        <p:blipFill>
          <a:blip r:embed="rId6"/>
          <a:stretch/>
        </p:blipFill>
        <p:spPr>
          <a:xfrm>
            <a:off x="304920" y="4444920"/>
            <a:ext cx="1295280" cy="971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7"/>
          <a:stretch/>
        </p:blipFill>
        <p:spPr>
          <a:xfrm>
            <a:off x="5638680" y="2874960"/>
            <a:ext cx="137016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8"/>
          <a:stretch/>
        </p:blipFill>
        <p:spPr>
          <a:xfrm>
            <a:off x="3657600" y="4684680"/>
            <a:ext cx="2027160" cy="151920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8"/>
          <p:cNvSpPr/>
          <p:nvPr/>
        </p:nvSpPr>
        <p:spPr>
          <a:xfrm>
            <a:off x="5789160" y="382284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ol P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22" descr=""/>
          <p:cNvPicPr/>
          <p:nvPr/>
        </p:nvPicPr>
        <p:blipFill>
          <a:blip r:embed="rId9"/>
          <a:stretch/>
        </p:blipFill>
        <p:spPr>
          <a:xfrm>
            <a:off x="4091040" y="1285920"/>
            <a:ext cx="1090440" cy="87948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1"/>
          <p:cNvSpPr/>
          <p:nvPr/>
        </p:nvSpPr>
        <p:spPr>
          <a:xfrm>
            <a:off x="4185720" y="2189160"/>
            <a:ext cx="9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Picture 23" descr=""/>
          <p:cNvPicPr/>
          <p:nvPr/>
        </p:nvPicPr>
        <p:blipFill>
          <a:blip r:embed="rId10"/>
          <a:stretch/>
        </p:blipFill>
        <p:spPr>
          <a:xfrm>
            <a:off x="7819920" y="4114800"/>
            <a:ext cx="717480" cy="5256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3"/>
          <p:cNvSpPr/>
          <p:nvPr/>
        </p:nvSpPr>
        <p:spPr>
          <a:xfrm>
            <a:off x="7885080" y="465120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1553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56" name="Straight Arrow Connector 35"/>
          <p:cNvCxnSpPr/>
          <p:nvPr/>
        </p:nvCxnSpPr>
        <p:spPr>
          <a:xfrm flipH="1" flipV="1">
            <a:off x="1414080" y="4930200"/>
            <a:ext cx="2318400" cy="415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7" name="Straight Arrow Connector 40"/>
          <p:cNvCxnSpPr/>
          <p:nvPr/>
        </p:nvCxnSpPr>
        <p:spPr>
          <a:xfrm flipH="1" flipV="1">
            <a:off x="2133000" y="3739680"/>
            <a:ext cx="1662840" cy="1191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8" name="Straight Arrow Connector 42"/>
          <p:cNvCxnSpPr/>
          <p:nvPr/>
        </p:nvCxnSpPr>
        <p:spPr>
          <a:xfrm flipH="1" flipV="1">
            <a:off x="3085560" y="2648880"/>
            <a:ext cx="1005480" cy="2035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9" name="Straight Arrow Connector 45"/>
          <p:cNvCxnSpPr/>
          <p:nvPr/>
        </p:nvCxnSpPr>
        <p:spPr>
          <a:xfrm flipV="1">
            <a:off x="4669200" y="2587320"/>
            <a:ext cx="1080" cy="209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0" name="Straight Arrow Connector 50"/>
          <p:cNvCxnSpPr/>
          <p:nvPr/>
        </p:nvCxnSpPr>
        <p:spPr>
          <a:xfrm flipV="1">
            <a:off x="5409000" y="4129920"/>
            <a:ext cx="407160" cy="554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1" name="Straight Arrow Connector 56"/>
          <p:cNvCxnSpPr>
            <a:endCxn id="139" idx="2"/>
          </p:cNvCxnSpPr>
          <p:nvPr/>
        </p:nvCxnSpPr>
        <p:spPr>
          <a:xfrm flipH="1" flipV="1">
            <a:off x="6274800" y="2209680"/>
            <a:ext cx="1080" cy="665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2" name="Straight Arrow Connector 59"/>
          <p:cNvCxnSpPr/>
          <p:nvPr/>
        </p:nvCxnSpPr>
        <p:spPr>
          <a:xfrm flipV="1">
            <a:off x="7008840" y="2496240"/>
            <a:ext cx="527760" cy="43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3" name="Straight Arrow Connector 61"/>
          <p:cNvCxnSpPr>
            <a:stCxn id="153" idx="3"/>
          </p:cNvCxnSpPr>
          <p:nvPr/>
        </p:nvCxnSpPr>
        <p:spPr>
          <a:xfrm flipV="1">
            <a:off x="7008480" y="3297960"/>
            <a:ext cx="694440" cy="89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4" name="Straight Arrow Connector 64"/>
          <p:cNvCxnSpPr/>
          <p:nvPr/>
        </p:nvCxnSpPr>
        <p:spPr>
          <a:xfrm>
            <a:off x="7125840" y="3822480"/>
            <a:ext cx="577080" cy="292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5" name="TextBox 5"/>
          <p:cNvSpPr/>
          <p:nvPr/>
        </p:nvSpPr>
        <p:spPr>
          <a:xfrm>
            <a:off x="3831480" y="607680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 P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Picture 24" descr=""/>
          <p:cNvPicPr/>
          <p:nvPr/>
        </p:nvPicPr>
        <p:blipFill>
          <a:blip r:embed="rId11"/>
          <a:stretch/>
        </p:blipFill>
        <p:spPr>
          <a:xfrm>
            <a:off x="6894360" y="4724280"/>
            <a:ext cx="801720" cy="752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5"/>
          <p:cNvSpPr/>
          <p:nvPr/>
        </p:nvSpPr>
        <p:spPr>
          <a:xfrm>
            <a:off x="7064280" y="5416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CI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68" name="Straight Arrow Connector 86"/>
          <p:cNvCxnSpPr/>
          <p:nvPr/>
        </p:nvCxnSpPr>
        <p:spPr>
          <a:xfrm>
            <a:off x="6831000" y="4159080"/>
            <a:ext cx="295560" cy="526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ustom Middlewa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837720" y="1523880"/>
            <a:ext cx="769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custom client/server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network programming on different platfor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teep learning curve on some platforms/langu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define network protocol and message struc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eparate code required to encapsulate and extract messag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edious to maintai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28600" indent="-22860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80F16-7B63-4A30-AC1E-9964B4F27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AutoShape 15"/>
          <p:cNvSpPr/>
          <p:nvPr/>
        </p:nvSpPr>
        <p:spPr>
          <a:xfrm>
            <a:off x="4648320" y="4525920"/>
            <a:ext cx="2601720" cy="1523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4669920" y="4559400"/>
            <a:ext cx="2558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242"/>
                </a:solidFill>
                <a:latin typeface="Courier New"/>
              </a:rPr>
              <a:t># Power Supply Message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ypedef struc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essageId     msg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werSupplyId psId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loat         voltage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 PowerSupplyMsg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 rot="366600">
            <a:off x="4952520" y="4222440"/>
            <a:ext cx="2057400" cy="22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cc0000">
                    <a:alpha val="80000"/>
                  </a:srgbClr>
                </a:solidFill>
                <a:latin typeface="Arial Narrow"/>
              </a:rPr>
              <a:t>X</a:t>
            </a:r>
            <a:endParaRPr b="0" i="1" lang="en-US" sz="1800" spc="1" strike="noStrike">
              <a:ln w="0">
                <a:noFill/>
              </a:ln>
              <a:solidFill>
                <a:srgbClr val="cc0000">
                  <a:alpha val="80000"/>
                </a:srgbClr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13716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Object Request Broker Archite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atform-independent infrastructure for communicating over a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ssages are defined using a generic Interface Definition Language (IDL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L compiler generates client and server obje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object used to connect to server object and execute remote method call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thod arguments, return values, and exceptions are encapsulated and extracted automatically according to ID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RB (Object Request Broker) provides main event loop processing and message dispat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icated/expensi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17080" indent="-217080">
              <a:spcBef>
                <a:spcPts val="1463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9BAB-A6CA-4D8E-90CF-8320CEDB6E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CORBA Architectur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3809880" y="14479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IDL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3809880" y="2590920"/>
            <a:ext cx="152424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DL Compil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762120" y="2209680"/>
            <a:ext cx="2438280" cy="38862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5943600" y="2209680"/>
            <a:ext cx="2438280" cy="381024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6400800" y="3886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6400800" y="274176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kelet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640080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Line 25"/>
          <p:cNvSpPr/>
          <p:nvPr/>
        </p:nvSpPr>
        <p:spPr>
          <a:xfrm>
            <a:off x="2743200" y="3124080"/>
            <a:ext cx="1066680" cy="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26"/>
          <p:cNvSpPr/>
          <p:nvPr/>
        </p:nvSpPr>
        <p:spPr>
          <a:xfrm>
            <a:off x="5181480" y="3124080"/>
            <a:ext cx="1219320" cy="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Line 27"/>
          <p:cNvSpPr/>
          <p:nvPr/>
        </p:nvSpPr>
        <p:spPr>
          <a:xfrm flipV="1">
            <a:off x="4572000" y="220968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5A351-00BA-4878-B446-528C3717D0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1219320" y="4952880"/>
            <a:ext cx="1523880" cy="914400"/>
          </a:xfrm>
          <a:prstGeom prst="cube">
            <a:avLst>
              <a:gd name="adj" fmla="val 25000"/>
            </a:avLst>
          </a:prstGeom>
          <a:solidFill>
            <a:srgbClr val="e0e68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R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1" name="Straight Arrow Connector 19"/>
          <p:cNvCxnSpPr>
            <a:stCxn id="183" idx="0"/>
            <a:endCxn id="184" idx="2"/>
          </p:cNvCxnSpPr>
          <p:nvPr/>
        </p:nvCxnSpPr>
        <p:spPr>
          <a:xfrm flipV="1">
            <a:off x="7160040" y="3504960"/>
            <a:ext cx="3960" cy="3830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92" name="AutoShape 12"/>
          <p:cNvSpPr/>
          <p:nvPr/>
        </p:nvSpPr>
        <p:spPr>
          <a:xfrm>
            <a:off x="1219320" y="2743200"/>
            <a:ext cx="1523880" cy="76212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3" name="Straight Arrow Connector 25"/>
          <p:cNvCxnSpPr/>
          <p:nvPr/>
        </p:nvCxnSpPr>
        <p:spPr>
          <a:xfrm flipH="1">
            <a:off x="1982520" y="3506400"/>
            <a:ext cx="2160" cy="1600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4" name="Straight Arrow Connector 29"/>
          <p:cNvCxnSpPr>
            <a:endCxn id="185" idx="2"/>
          </p:cNvCxnSpPr>
          <p:nvPr/>
        </p:nvCxnSpPr>
        <p:spPr>
          <a:xfrm>
            <a:off x="2666880" y="5524560"/>
            <a:ext cx="3734640" cy="2160"/>
          </a:xfrm>
          <a:prstGeom prst="straightConnector1">
            <a:avLst/>
          </a:prstGeom>
          <a:ln w="50760">
            <a:solidFill>
              <a:srgbClr val="0070c0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195" name="Straight Arrow Connector 38"/>
          <p:cNvCxnSpPr/>
          <p:nvPr/>
        </p:nvCxnSpPr>
        <p:spPr>
          <a:xfrm>
            <a:off x="7163280" y="4648320"/>
            <a:ext cx="1080" cy="4579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6" name="TextBox 39"/>
          <p:cNvSpPr/>
          <p:nvPr/>
        </p:nvSpPr>
        <p:spPr>
          <a:xfrm>
            <a:off x="4087800" y="517860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cl Distributed Object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295280" y="1371600"/>
            <a:ext cx="243864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lient (Operator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105520" y="1371600"/>
            <a:ext cx="2438280" cy="2971800"/>
          </a:xfrm>
          <a:prstGeom prst="rect">
            <a:avLst/>
          </a:prstGeom>
          <a:solidFill>
            <a:srgbClr val="e2d9eb"/>
          </a:solidFill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(Control P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Slide Number Placeholder 2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1BFE3-E2B6-4C1C-A842-E75B7CC87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19"/>
          <p:cNvSpPr/>
          <p:nvPr/>
        </p:nvSpPr>
        <p:spPr>
          <a:xfrm>
            <a:off x="4006800" y="3276720"/>
            <a:ext cx="8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1752480" y="1981080"/>
            <a:ext cx="1524240" cy="76212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AutoShape 18"/>
          <p:cNvSpPr/>
          <p:nvPr/>
        </p:nvSpPr>
        <p:spPr>
          <a:xfrm>
            <a:off x="1752480" y="3276720"/>
            <a:ext cx="152424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AutoShape 9"/>
          <p:cNvSpPr/>
          <p:nvPr/>
        </p:nvSpPr>
        <p:spPr>
          <a:xfrm>
            <a:off x="5562720" y="327672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05" name="Straight Arrow Connector 23"/>
          <p:cNvCxnSpPr>
            <a:stCxn id="202" idx="2"/>
            <a:endCxn id="203" idx="0"/>
          </p:cNvCxnSpPr>
          <p:nvPr/>
        </p:nvCxnSpPr>
        <p:spPr>
          <a:xfrm flipH="1">
            <a:off x="2512800" y="2744640"/>
            <a:ext cx="3600" cy="53424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Straight Arrow Connector 34"/>
          <p:cNvCxnSpPr/>
          <p:nvPr/>
        </p:nvCxnSpPr>
        <p:spPr>
          <a:xfrm>
            <a:off x="3276720" y="3648240"/>
            <a:ext cx="2286720" cy="216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cxnSp>
        <p:nvCxnSpPr>
          <p:cNvPr id="207" name="Straight Arrow Connector 21"/>
          <p:cNvCxnSpPr/>
          <p:nvPr/>
        </p:nvCxnSpPr>
        <p:spPr>
          <a:xfrm>
            <a:off x="3276720" y="2742840"/>
            <a:ext cx="2286720" cy="686520"/>
          </a:xfrm>
          <a:prstGeom prst="straightConnector1">
            <a:avLst/>
          </a:prstGeom>
          <a:ln w="50760">
            <a:solidFill>
              <a:srgbClr val="005daa"/>
            </a:solidFill>
            <a:prstDash val="sysDash"/>
            <a:miter/>
            <a:headEnd len="med" type="triangle" w="med"/>
            <a:tailEnd len="med" type="triangle" w="med"/>
          </a:ln>
        </p:spPr>
      </p:cxnSp>
      <p:sp>
        <p:nvSpPr>
          <p:cNvPr id="208" name="AutoShape 6"/>
          <p:cNvSpPr/>
          <p:nvPr/>
        </p:nvSpPr>
        <p:spPr>
          <a:xfrm>
            <a:off x="5562720" y="1982880"/>
            <a:ext cx="1523880" cy="761760"/>
          </a:xfrm>
          <a:prstGeom prst="foldedCorner">
            <a:avLst>
              <a:gd name="adj" fmla="val 12500"/>
            </a:avLst>
          </a:prstGeom>
          <a:solidFill>
            <a:srgbClr val="e3e5a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mote”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914400" y="4724280"/>
            <a:ext cx="7543800" cy="16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mote” class manages infrastructur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arget object created on serv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 used to generate local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Local methods and procedures replaced with remote method call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perations on local object transparently executed on target objec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152388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DL compi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lient and server objects created at runtime from single Itcl clas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Same language on both end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ntrospection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R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Network communication managed by “comm” package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essage dispatching managed by Tcl interpreter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Event loop managed by Tcl event loop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par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Itcl class does not need to be modified to run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Other than startup code, client app is not aware that local object is running remotely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230040" indent="-230040">
              <a:spcBef>
                <a:spcPts val="1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0" y="6477120"/>
            <a:ext cx="457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8225-B39C-41E9-B8D2-7F4DB3A25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8:39:31Z</dcterms:created>
  <dc:creator>Timothy L. Tomkinson</dc:creator>
  <dc:description/>
  <dc:language>en-US</dc:language>
  <cp:lastModifiedBy>fox</cp:lastModifiedBy>
  <dcterms:modified xsi:type="dcterms:W3CDTF">2008-10-16T17:24:36Z</dcterms:modified>
  <cp:revision>906</cp:revision>
  <dc:subject/>
  <dc:title>Remote Control of Test Equipment Using Distributed Objects</dc:title>
</cp:coreProperties>
</file>