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7750-B962-4E7B-B2D8-640250691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B2AB-1A37-4B31-8EAF-DA34D817E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6EE765-6197-4563-AE4B-53A22529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E3729A-B35C-476E-974F-1AC74091A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7AB2EC-D2E9-4F3F-9C43-DFC18EC98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3181B9-5B07-47AC-93C3-6A0A17E4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9DCB7A-AFBE-45E7-90F0-632555E5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DF287C-86DA-4AFA-907A-02A6F379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FCB9DC-AD4F-4EC2-B052-F50137E26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E914A3-CAFB-4F04-882D-AA7E80845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6D09FE-DC88-4BAB-A6C8-48D8F593D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AB01820-F2A0-46AA-A0E2-059248D13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38BD-D42C-478C-B44A-DCC99C584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E7DD28F-0F7A-413C-BED4-8F89C9FB3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4D9B4B2-4093-4867-82B6-27D4DDDF1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B8934FE-9CDE-46CC-B037-D811FE538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F39B410-FF8A-4112-96E6-02E1A74A7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C573FDB-749A-48CD-8B7E-12302CFAA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FCD5650-D694-4FFA-BB91-5863F01B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A1BB9BB-4F6B-4443-8B8A-6B43559B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CD60DB6-D213-4246-9A53-E41C6625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59D525D-E5B8-4DAE-BC9E-B0167CB5D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003B30A-DF6F-42E7-A2AD-BF070DDEF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5208-C3F7-488D-BDD8-90B4C7A9B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0C50E49-A8E7-4664-A7B1-AA720F30F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4FE962-F9AB-4FF2-A497-3D47B6D30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358376-4B23-4457-A7B1-2687DA22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7D4A4E-C7B1-4A9A-AE35-72BCBA2FF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3872B5-E9FD-45F1-9489-51E6D85F7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333933-A0A8-4206-AB07-3584CB1B2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923F92-10B4-46C0-B00F-AB0355A8A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E7E51E-97DE-4E37-B21D-2DAAD59F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DDEA5F-D654-4315-97C0-9772C390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CF6CA1-2983-4EA8-B4C1-BE5B2E03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5EDB8-7E55-4107-9FD8-19D93E051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D05959-0F84-4012-8F14-D3281B24A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8F98F4-107F-4347-9CD1-428DE753C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923AD2-9F2B-4624-B79D-F08347B1A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24A37F-CC6A-4856-B37A-81C3E951E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606CCF-D3DF-4919-9003-E404BE63D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C8624F-6BEC-4463-9ED8-6903AB361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ACF155-BFC6-4A1C-898F-4B294CAA2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FF9844-0B33-4C38-A330-1BF5033D2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CEFEF2-52C3-4644-8C2F-35EA9F3FC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B192BA-67E1-4C2E-9128-73C759A4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22023-6849-4467-AB45-08107343A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6742AC-8337-4997-83D8-6FE483C1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47723D-8B12-4797-901C-4BE94399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E6470C-AC74-45FA-9A94-C976EE672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20A568-470F-48F7-970E-D4A3EC237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C4775A-967C-4934-A149-C1B42E346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47DA4-9CBC-4D68-B901-3901360B7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2A6C5-7041-4C3B-8FC1-5B6C37518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A2B54-6B35-41ED-9937-269BC4319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A7C05-1632-4BDE-B2C8-32EC00BAD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A9970-99CF-429F-AF42-DE145AD6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B582-CF86-428D-A559-6B9B1B09B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035CE-80CA-491E-82ED-9A9D54C3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ED27A-74CA-4A1B-9C95-4C3C733D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B9ECF-7386-4B95-83A2-7C3F54162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0AC77-9571-4670-BD98-393FF5399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D8179-BE3D-418D-8AFE-D23D5279C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158C1-71B9-419E-87D2-AF6F5CF67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EEB7B-EA12-4DFE-ACDB-7D4BAED0F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4FF26-EF24-4A21-ADBB-BD967B78C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28C9D-627F-4056-9101-F076D7373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886DF-35FC-41C1-ACF7-B1A9CF2F0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E648-5D79-47CA-BE52-6F7BACFB2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CD61D-CED1-4E6D-B843-1514C03DD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887DC-E31E-4FF1-9046-E43037AB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86DE7-DF8F-4B34-927D-E3207ECC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CB237-CF17-4735-84FD-1D9ACB00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5022A-3F3D-4934-BA33-65921BEBC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97A65-5C4B-42D3-9A9B-6F6EEC13E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18C60-B681-403F-828F-8F1EA2DF9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BD996-BD2A-4301-AE1A-459EBF46C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44453-7077-493F-8EF8-C007EE599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329F0-3D7D-41EE-9049-5542081B5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1F52-D66A-44F0-86DE-E66A92208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6768F-450F-47F1-B8AD-2FA0176BC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8729F-A033-46D0-9E4F-3D9433DEF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5F4A8-4762-40D0-8FCC-FDD6EF62D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8E531-C9B0-496B-AB84-FE941105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25A4A-E41F-40CD-86AB-CA00ABB0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5AB5E-83DC-4ABC-A5E5-B0F9AB23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9CC52-D9BD-4E18-A1F5-B786ED8AC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4C35F-9540-4798-9281-C20074F63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8B8B1-5F5E-43C8-B09E-C087511CD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45F9E9-B768-4FE3-984B-2ED76B29C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FB14-BEAA-440F-913A-3D4D87614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391EB4-C53C-4B94-80B3-A36FB3F87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A97F38-AD5C-44F0-B7C4-AD2A079E9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0C005D-A831-4952-9B02-DD317819C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DA17D8-1614-4E99-A31E-C3054785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A21F76-3CE3-4B2B-BC4D-F0E1E0E78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D4BC14-578D-4272-807E-AF902E5C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E8FD0E-89CB-4352-86D2-0480A0DE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F30267-AB52-4E88-9DF2-982705C2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7E7118-3740-4227-8DFA-BF6AACAA9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DF3066-D0AC-40C9-BDF6-D8F895576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9A12-1FD8-43D6-B9F8-642F98604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040224-424E-4CFC-B148-F2A34DB33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9907B-2988-4105-A478-D04804E32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24D2C-5070-4B02-94A7-95EC1FE40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E55A0-2627-43A7-9D19-B6EE4AB9C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790C2-EFFF-43CD-8EF1-934859ABA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90D0F1-B5A9-4274-8213-3A99029B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7471C-1214-402C-8607-878A9F49C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533DCB-0A55-4F18-9157-E8BD526E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972EA5-B098-4930-AFAE-F9DBF3F5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5F211-C182-4D7C-A998-F3543443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C18D-1F44-4001-B636-98294BEC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3729E-00C1-4979-88D6-69561B28C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415B5-A3C1-40D9-BB40-7BEB58540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8E70D-A2C8-48BB-99CF-BD84419B8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CEB653-01D9-4D70-B4E2-99673D0D9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3BD38-4341-4AC1-B479-DDB5BD43F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BB282-E549-42E0-9EA6-FA4103D6F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B308DE-680E-4F58-A599-ADC0E6522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83B10-3E3D-4B9F-82D9-83476A5ED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8A8FE3-C9CE-4B50-8BFF-150A3177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43632-4EBD-4F0E-8F1D-0307AFDE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26C9-6D93-4008-9C9B-714062F9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697150-4187-43AC-A1B8-636E4E6C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5FA80C-D32C-4E4C-AA2D-F84723D4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06EC4-9E50-4AA4-8A32-15EE62325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147150-8525-4C04-98B3-1C6179A53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576A2-C933-4413-A431-27E647890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A644B4-B4D6-41A8-910B-DB1B5DDFA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5E008F-D5FF-4A4E-AC1B-2D6C7A006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3DCA2F-D0B6-4033-AD1C-557B73726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D8BCE1-DF88-41E8-8EA0-4B73CBCC7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B7E336-5E6A-4ED7-9A5F-5A818B334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6FE1-56C7-4298-846A-8AEE149E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8AA7AF-A0AF-49C8-88D5-0634BBEF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89CDDC-1EF8-4424-938B-CC58BB2C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2C3D3-E1D2-45C3-8918-673D19EE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1753A7-1908-4051-A1EA-FB1E25F1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7EA809-D16F-48CD-8E01-91E28DBBF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191344-4BCE-4174-AD42-3073DC384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92A6E4-BBE3-466B-9C2B-EEE51E870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9C928D-BD1B-403B-859D-7F7C66F04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C5BD39-0ABE-444F-97C5-36E461908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82C88A-5FF9-430A-8F9B-A0B3D69E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6F295-AFDF-4D28-ACA3-4D872C7DFC70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B6D73-4244-4312-9F97-A862CB1307A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106CD-BE9C-490C-B8F8-F6AA1BB09CB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6B7FA-82F9-491B-A945-26C07F34F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7F1FA-5E29-478B-A3A8-C2C601ABCD7F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D8C87-2A39-47F6-A713-D9420564AB5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313A5-199D-478F-A247-53CE87284E60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1CA8F-F424-4DDE-ABD1-5E07ABF91856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C447F-32D2-4798-9BB4-6EF18367FE17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EDE66-F3B8-4E03-8567-6ED6EA3CA3E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BC2DB-568D-4069-9826-7D71826D293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E058F-A5DE-493A-86E6-FC016B4858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44502-8850-4175-8F59-82802F13188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3AD4F-AB9B-4F51-8A2E-55DBB629B3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F4901-F90C-4067-836B-503B60D33FD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6A4AF-387E-4E34-AE78-22D5D170A6A5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00050-D001-40FC-B2B6-08ACE6A23F67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912F7-701C-4EE4-AB16-B9E69B03B39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65C9E-D615-40A7-B9A6-17CC708155F0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64C97-EEE8-4569-9503-77D0AA14388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B9A3F-C434-4935-94F8-36FDACFA986F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59862-BD71-4AAB-A564-A9EC61A8343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7FD0E-82A9-430E-9B2D-890AF8E0567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CE0E1-E157-4548-A32B-45692FAAD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2576-1C3B-4728-831F-73DC0CC09AB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337211-2737-4792-BC56-6C669EA989AE}" type="datetime1">
              <a:rPr lang="en-US"/>
              <a:t>07/31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017AB-1B2E-4CAB-B3F2-808C192BC3F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9A4064F1-B2B2-40A7-A03B-BA75CE539C35}" type="datetime1">
              <a:rPr lang="en-US"/>
              <a:t>07/31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randombar(vertical)" transition="out">
                                      <p:cBhvr additive="repl">
                                        <p:cTn id="117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24E81-704F-4D22-96F0-AA7FBB105266}" type="slidenum">
              <a:t>3</a:t>
            </a:fld>
          </a:p>
        </p:txBody>
      </p:sp>
    </p:spTree>
  </p:cSld>
  <p:transition>
    <p:comb dir="horz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25AE49-D93D-415F-9880-B2EA42848C2E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CF9D29CA-B2DF-45E4-8DDC-F77DFBC5C3F1}" type="datetime1">
              <a:rPr lang="en-US"/>
              <a:t>07/31/26</a:t>
            </a:fld>
          </a:p>
        </p:txBody>
      </p:sp>
    </p:spTree>
  </p:cSld>
  <p:transition>
    <p:wedg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3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6000"/>
                            </p:stCondLst>
                            <p:childTnLst>
                              <p:par>
                                <p:cTn id="2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8000"/>
                            </p:stCondLst>
                            <p:childTnLst>
                              <p:par>
                                <p:cTn id="2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E4A045-64BA-49A8-A7E3-665A1D3FD06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BE7BEE3A-E3B6-4667-9807-AC832F9C31C7}" type="datetime1">
              <a:rPr lang="en-US"/>
              <a:t>07/31/26</a:t>
            </a:fld>
          </a:p>
        </p:txBody>
      </p:sp>
    </p:spTree>
  </p:cSld>
  <p:transition>
    <p:wipe dir="d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4000"/>
                            </p:stCondLst>
                            <p:childTnLst>
                              <p:par>
                                <p:cTn id="2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0"/>
                            </p:stCondLst>
                            <p:childTnLst>
                              <p:par>
                                <p:cTn id="2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6000"/>
                            </p:stCondLst>
                            <p:childTnLst>
                              <p:par>
                                <p:cTn id="2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7000"/>
                            </p:stCondLst>
                            <p:childTnLst>
                              <p:par>
                                <p:cTn id="3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8000"/>
                            </p:stCondLst>
                            <p:childTnLst>
                              <p:par>
                                <p:cTn id="3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9000"/>
                            </p:stCondLst>
                            <p:childTnLst>
                              <p:par>
                                <p:cTn id="3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2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4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A012CA-D64A-4FEC-9A2C-8BA21641D4E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77480D8B-4DF7-455F-950E-0D54D8A7C4BD}" type="datetime1">
              <a:rPr lang="en-US"/>
              <a:t>07/31/26</a:t>
            </a:fld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9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0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8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9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