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2E4D-A79B-49CB-8015-1A9C6714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D0AB-35C2-4E84-BDDE-1677A8FB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3C39B-B463-4FE7-9089-D0F82337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19327-3A11-4A5E-9A4C-7D2C346F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86926-60A5-45E8-8379-EDEA57DF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99018-532B-4CE3-93DD-2A5F6824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9D436-0989-40C2-946B-443F5543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B9FB7-C3D6-4BE5-AA91-E0C283F7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4ADC4-C574-495B-BFBC-1188BCE7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A7BDE-0C61-43C2-A91E-5515C062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7C256-B2A8-4FA5-9749-BEB3083E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3C01A9-591A-4F4E-8583-F34954F1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89E1-80F3-4528-A95D-BCE0A54B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00FA4B-5E07-4388-B011-AE165669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49D2B7-3785-4A5D-9016-092912AC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657D7A-1342-43FF-A137-E9B207C4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1C6A8B-1EC6-4688-80BA-47635C61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45666B-5670-4AA2-97E8-30FA347C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DE6333-9959-4CC3-B1BF-A59209BA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E890B4-7BBB-41DD-AE74-1718EBAD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75A2DF-A3E2-4D59-A91C-8EF6543C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A20F4C-F538-4828-9000-15971C76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7ECCE1-672E-4C7B-AAE4-4288DC78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16C2-5559-4659-A009-7D3CF69F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F1703C-83C8-4FD6-91C5-84843B72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FFE5F-3888-40F0-ACD0-9751E79F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EE17F-C5DC-4523-A5EC-5BAD40EB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1CD71-3C05-4B71-9F56-CC0121CB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E8452-E46C-449F-80F3-E1FAF576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17386-2049-4515-807D-08EEC530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D5253-1A54-46E3-AAF3-F2E0091C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FF99E-0C2C-45CF-B23D-EE857790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59284-65FD-4031-BB13-368DFBAB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511A8-8FE3-45EB-8C90-21F17601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6D1D-BD7E-45E6-9838-4BF013D4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08E85-0E35-4D8B-B8EE-5C422FD3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9A284-A81F-4304-AF90-B374D5BA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7827E-2657-4522-B5E8-966A52CB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BF752-25CA-436A-AE8A-D6D74C78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08CA8-D285-4C28-AE85-81384C0B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5BEE3-F676-40E6-A1B1-C09C238E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E7ED2-93C3-4F03-918B-D1DF67C3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E5F69-53A9-4C88-884A-91936F9D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2668F-470E-4B67-B2AA-73BF4136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073CE-F283-4CEB-87E5-C9E360DA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04DC-E79E-43A1-BBD8-32496BF1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3AF8C-5913-4A15-A93A-245EA228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4BD28-D0A7-4613-854D-B73D3682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DE7AA-A482-4397-8AE3-BD1A1FB4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BECE1-1769-4CBA-B97B-1FE7D31A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73331-C077-4752-B2AF-0574487A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05E1-03C8-4F38-98C0-176DA878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C227-BE28-4F84-A74E-903D6E18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EC9A-974F-48DF-8BCC-6F8390E5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6314-4C46-47BD-96DC-5B417933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823A-449B-40E2-932F-C57FC1A9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3815-FAD2-4BEC-8D09-5174405F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1DDB-D51F-40F0-B655-35AD2A1C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9126-0440-453A-857A-DA33A85E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29B0-C64D-46FC-BFE4-36864B20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9CD7-3433-4973-A9A9-E6B1172C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5642-E29F-44A5-B281-7588B3BE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1AD0C-21FC-4EC8-AB6C-E56BAB44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16C46-AA53-4237-B007-366EBBA8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35F75-4CCF-4D6A-BD63-D6F8C409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3037A-0812-4897-9E97-F4668450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66397-1CB5-470E-B277-4D6EDCEC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9E8E-D434-4977-891C-92D1B7D4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FEB16-284B-4879-87F6-26683171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5BAE1-49D9-4E47-A09A-8715C7D8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92234-B59C-454C-AED4-7FCC12A8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26ACF-4DD5-49B3-AD87-F6A5A982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E368F-18F2-4E08-892B-B003839C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D2BC4-6F39-43AA-BE78-4BAE5A50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41954-E22E-4322-8146-5588129F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6C1BD-A22F-4925-BC14-213727F8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2D7A4-9C1E-4021-BE93-D3649885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8C9B5-7450-496F-B453-56DDBFAC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89C5-9719-4CCD-901F-DA80F5C6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CF0DC-8E91-4A7C-A12E-CF6FEF9F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42F0D-CB8A-404D-93F3-6E929770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E06DD-A2F4-4B75-BD81-525CB0C8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83E33-1AFF-48D0-89BA-9D91D42B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40585-A4DE-44CC-810D-8ED0C533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C924F-BA19-4687-9097-BA4CAF92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9D178-C8E5-4BD0-8C76-1AE61E29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FFC20-FD9E-4EB5-AFF9-7BC6B75F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44507-DDFA-49D4-BB71-19024F7A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0E5161-AC5B-4D39-A1C7-8773E637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B5A-0817-4690-8475-FBF986F2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F21418-4930-4A73-B24A-B4FE8192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1A42B1-75B4-495D-919C-2C52FFD4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D1F340-4F74-47BE-A165-123F0B55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6BEE6C-154B-44D4-9D8B-78EB2AEC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AF2FDA-7D63-4B53-BF30-30D3387C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6F0E92-A692-484A-ACEB-5C3FFC23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D18C7A-FC30-45AB-A784-E482A1ED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919975-D645-40D4-86C8-C75942D1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5714A8-D35E-4A14-9A9F-3BCD4B99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DDB731-2BA3-43DD-B0B0-CC58193A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4BC7-99F6-484D-9B82-BF274C48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7EA91F-1A24-4733-B84B-A5DC1BA6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09CC8-E661-4AD5-8E85-E5A8DEB5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19F46-34F8-4D7F-91BE-BE685CB7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CCF3A-E9F4-4CE9-9A29-41F55B8C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28746-0821-41B5-A08B-C006DE7A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DA5C3-C89E-4194-9F49-1143AAA1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CBF0B-F504-4DAF-B995-CBA59506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E2DE5-CCA6-4076-AB31-1546E793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CEA6B-34D1-4E7A-AB7B-A9D3528B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64399-CB5D-4B84-B8DC-FDE08A4F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6A67-C497-4B1D-B684-C5ECD5CA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84E55-4AB9-4B83-8326-CEED3C68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E2CC9-4395-464E-8463-9AE8BCA6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392B3-F0DC-4158-9883-CFD0E2A9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B698D-F782-462C-80E9-7CDE2C84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49C58-20BD-4640-99BF-F8BE4445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B510B-CF5C-44AD-B315-7176EEE8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1F4B3-D8EA-40AE-8326-6790796A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0FFE2-0B50-4532-A7E2-9EEAE42F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3305A-CAAE-4022-A460-316F090B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B9FC0-C152-4310-A05B-8D0121CA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4644-4E64-46C7-B6C8-9315F335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A0BE6-0C8D-45E5-A00D-9EC6A177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51226-B3ED-472E-807B-79EF57A6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95C9C-20C3-42FC-9CEC-B1CBE672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DE8CB-FAF0-4C1C-A370-64F30F58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26D01-D220-4067-83C7-9366788C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FF92E-C454-4761-B6C5-78D79CBD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3D2C1-59B0-43BD-9CB8-208A616C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D7F21-E307-4E2B-87D0-AA2D9689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D3590-9FAB-4457-AD57-60563BA8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B128D-0322-4933-AA5E-0C64974E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1A44-F366-4AB9-B9D7-49B734C1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74076-833A-4753-9950-0DEC4556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A353C-86AF-4C2C-B223-309E3649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FF599-A09E-4620-AD90-DE29D26D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EF1CF-6F9B-4912-BC52-6BFDA68E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CED90-9F2C-4885-9EDA-6A506D64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F270D-4CB4-402C-B86B-61495F8C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900FE-404A-4A8E-AA5F-325EB9E1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0C789-1CDE-4944-BBAE-02619320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7B31F-FB42-4267-9D27-E674F0E2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2848B-1F49-4981-A320-51ED2C26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7A4E-9B27-4E8A-9457-84DC65FF3B8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7177-1E08-4517-B5A7-E0F5B08893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0390-2168-4633-8A0B-767818B6756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8828-C598-4458-BD5A-B9960ED33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10FD-8BAC-4741-9B41-82163E1D3C0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C52C-E3DC-46C3-B89A-88B3D696AFF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8BF4-813D-4559-9A1F-80D99F42B0C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6544-2623-4487-B947-8AB2F23EF1C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F869-F328-4768-B741-483D5AB21C4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5389-BDC0-4792-BEAD-54F22CEBAF8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2F1A-16A5-4BC3-B3BF-03AC1C0F088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CBEB-D557-42EC-A050-A035F9499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EA2C-930D-4997-8B89-5E2E490DE39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73D2-9EBA-484B-8D8A-E942B53FB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A86A-74DB-40EE-9B8B-226EE4F03DE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F38F-B4CB-41D9-A3E9-ABA875728EE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0C8B-99F1-4911-9F79-779FF25D310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AFDE-2B8E-4021-8CBE-CA9536172AB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0489-52CD-4350-925C-F11EB7E35C1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B04D-CE98-420E-88C6-81B2248BC0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0BE7-0261-4FB6-963B-CEFFB056BDA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68E5-0E96-46A8-BB9E-54DD00794D3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DC5C-4717-4EF1-9524-B5B3F5FEFFB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3C0F-8B88-4D8D-B2FD-158C68DB7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43CA-573E-42AF-A1BC-5956D24D163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98B34-FEFD-43D5-93AF-73DC93D14B3E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DB4F2-E005-4CC4-8998-55A2695BDB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5E1E6BCA-7711-41A4-8B79-6CE8A7E0B0E5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F50B9-2186-4E3B-B2C3-91CDA8C4CBE2}" type="slidenum">
              <a:t>3</a:t>
            </a:fld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00EB94-EE13-4A27-A79B-27AC82C4909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29E0429B-6B57-4A6D-94EF-1C070820D756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0466D-22F7-49AC-BC4F-FBCC6D05AF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147E20AB-B441-4A22-A79F-FF01DEC2A021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995A2-FBA6-4A0C-81C8-D9D1380D1BF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D998F5E4-656A-4E95-85DC-5B6284E0D92A}" type="datetime1">
              <a:rPr lang="en-US"/>
              <a:t>07/31/26</a:t>
            </a:fld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