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2D3DD-433A-4B74-9801-44E4CCCAA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2DCEA-E7A1-47AB-9933-62F0DE4BC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DB0B1-2918-4F08-B957-841C639A3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0E400-332B-4A23-AA3B-8320A570D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6A793-AB97-49B8-89B0-46A77B468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B7511-94AD-4080-9206-FF8449AE4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1AF4C-6159-4B52-8E7D-484835CC3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3F8DC-4BC1-4754-B855-D3E4DF68B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28973-2D50-4E86-AB45-4D7A05059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F11C9-442B-49C1-B549-8316A293E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15CF7-6121-4B3E-ABDF-6ED4D14F5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FA111-1FA3-4B3E-975F-A57BACB4F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1216F-82D7-42A3-942F-0415580FF1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19200" y="1400040"/>
          <a:ext cx="6105600" cy="405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9200" y="1400040"/>
                    <a:ext cx="610560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3:31Z</dcterms:created>
  <dc:creator>Oliver Craemer</dc:creator>
  <dc:description/>
  <dc:language>en-US</dc:language>
  <cp:lastModifiedBy>Oliver Craemer</cp:lastModifiedBy>
  <dcterms:modified xsi:type="dcterms:W3CDTF">2005-01-06T09:23:42Z</dcterms:modified>
  <cp:revision>1</cp:revision>
  <dc:subject/>
  <dc:title>Slide 1</dc:title>
</cp:coreProperties>
</file>