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60DEE-81AE-407E-9D9F-946F9A59C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67EA7-7871-43C8-9AF4-941424A75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CAC23-6D70-443B-8DC2-54EC78CB8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6254B-CCC9-4FBE-9794-1C863DE7F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86B5B-D314-4E2C-AD10-EE03A20A1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22643A-CEC1-49AC-9F58-9A37E59A74D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DCC4E89-DDDF-413C-9297-4B999B9E4DF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55D0EE1-06F2-4D6B-AEDE-8C9E4819F58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7DAEC5F-7D31-401E-9D59-0B7A72A2C26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A9369CFE-1106-4A7E-BED6-AFAF5E77AC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115D3-329D-4898-AB38-A6AF1B5E1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C9DA462-9AC8-43C0-936A-22D63AAAC89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E6FBEFE-D5AE-4442-9544-F8CE9666864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7B1587A-604D-44CA-A30A-07280203B49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B1C8CAB-E74F-441E-815B-4A643A34729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915CB75-E36E-4BAD-B199-886CAB0031D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8DDA990-2B62-40A7-98A4-9DE758F5FE0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BE7D1A5-EA96-4668-BC10-72D4E72671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80C9A-22D1-429A-9ED7-84C8DCA3D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BD340-3683-46E2-B53D-D9A49BB7A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CD66B-0EA8-4607-8C1C-F1AFDB8B2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56E97-EECF-4267-AD80-357104A97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82C93-5512-4830-86B6-51C3CBBC4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7A387-3F40-4E2D-8265-925531C7E7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B21C3-C186-4EF4-8800-98CEF5D3CBD0}"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E9755-03D7-4825-A78D-D4DC19620B5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2EB97-368E-4A4F-930A-31788F899FF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3B38C-97B9-427D-825C-42AB3449D9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B80D7-AE38-4445-8272-1D39ADFF552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3045F-0452-4C3D-A826-C3F79506E38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D81A2-8E49-4FA6-86C3-C89B1857BA4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DAAC6-BBFB-486A-8FE7-8EBB6374F1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BF18F-70A2-4C13-8020-3F88EEAA6D5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22955-BB4F-46C8-91CC-36DAFB44B9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60A87-7026-488B-8C45-DCFFB63562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Linux, DO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5FDC6-98D8-45F8-9135-66639BC6B66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3062B-6F63-4515-9067-E999B34D922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AC3B4-0CFD-4ABB-B4BA-B52F9324C7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22AA0-3440-4374-A6E9-3C032452C81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4EBD6-592A-4F2F-9728-7502DF6D569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A351C-42C0-4AD9-B070-76F9AC47A7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B450E-DB22-495B-A60E-50945FE504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6C72D-B800-4FF0-920A-DEFD121786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A8B81-2387-44AB-AE0B-62DECDAB5CA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190C2-B45B-4E7C-9ABC-6447C722AE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0CDF-5CEA-428D-B151-1DFEA779C7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4454B-C5B1-48DA-881F-A203F808B57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298CD-D9E6-4FFF-B5C0-2BA46714BBB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250FC-19A4-4993-9B6C-6EFA426B232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3FDB-C4ED-487E-8EC3-49E76B921B5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67"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68"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7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1"/>
          <a:stretch/>
        </p:blipFill>
        <p:spPr>
          <a:xfrm>
            <a:off x="2805120" y="2357280"/>
            <a:ext cx="3533760" cy="667080"/>
          </a:xfrm>
          <a:prstGeom prst="rect">
            <a:avLst/>
          </a:prstGeom>
          <a:ln w="0">
            <a:noFill/>
          </a:ln>
        </p:spPr>
      </p:pic>
      <p:sp>
        <p:nvSpPr>
          <p:cNvPr id="272"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s &amp; is Operator</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s</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028A3-D1BE-4E05-8838-8668970365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77"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s 1 &lt; 2 then 'valid' else 'invalid' s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8B9D0-5969-46F6-8FFC-5C608BF5974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4C41F-B1EC-41EB-B554-40FA2E79BD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2" descr=""/>
          <p:cNvPicPr/>
          <p:nvPr/>
        </p:nvPicPr>
        <p:blipFill>
          <a:blip r:embed="rId1"/>
          <a:stretch/>
        </p:blipFill>
        <p:spPr>
          <a:xfrm>
            <a:off x="2805120" y="2357280"/>
            <a:ext cx="3533760" cy="667080"/>
          </a:xfrm>
          <a:prstGeom prst="rect">
            <a:avLst/>
          </a:prstGeom>
          <a:ln w="0">
            <a:noFill/>
          </a:ln>
        </p:spPr>
      </p:pic>
      <p:sp>
        <p:nvSpPr>
          <p:cNvPr id="28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2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299D3-836E-40A2-BDB3-8C62A23D5A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BA666-1844-43AB-A893-09EB3080D0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1F337-0FDB-41CB-A8D5-B548045DEC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A4EC8-1A01-429E-9FEB-B624E9611A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03"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0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31AE3-E107-44AC-B13F-F1484F6DEE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F2111-7811-4842-9027-CB04C8A5A0D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553A1-C8B1-47E8-BB3E-A72F0C167AA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318DE-83D3-41FB-A047-1543F5C819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AD4BE-17E7-4A35-9D7D-915A274EF30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F4338-A9FB-4273-894C-AA6DD9FC87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B8DF6-85A7-4C26-8E9A-92DDA560B9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D273E-A80A-457A-8B46-20B3FDB160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68038-CF4E-4D5B-BD56-B574E4A175C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1A11F-8A8D-4CAF-A692-9B33A66D17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39"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
          <p:cNvPicPr/>
          <p:nvPr/>
        </p:nvPicPr>
        <p:blipFill>
          <a:blip r:embed="rId1"/>
          <a:stretch/>
        </p:blipFill>
        <p:spPr>
          <a:xfrm>
            <a:off x="2805120" y="2357280"/>
            <a:ext cx="3533760" cy="667080"/>
          </a:xfrm>
          <a:prstGeom prst="rect">
            <a:avLst/>
          </a:prstGeom>
          <a:ln w="0">
            <a:noFill/>
          </a:ln>
        </p:spPr>
      </p:pic>
      <p:sp>
        <p:nvSpPr>
          <p:cNvPr id="341"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FF9A4-0C6C-4BC0-9D91-C9520304377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46"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BEF62-AA89-4878-8BE8-AFA635882DA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E3E8F-B9A8-4216-8F0F-0464F2DCD3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5AFB5-D761-4EE0-ABA7-1D66F8681A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59767-0903-4661-8019-636AA80581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46CB8-AF7A-482B-898E-20009D1B5C4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17392-D254-4BFF-8006-6E4A6BE368C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7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EAAE6-56CC-491D-881C-55A87F0E0E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75"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B79F7-CD63-41F1-8321-E77414202A1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hteck 5"/>
          <p:cNvSpPr/>
          <p:nvPr/>
        </p:nvSpPr>
        <p:spPr>
          <a:xfrm>
            <a:off x="900000" y="207324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3DE2A-8FC6-4F3D-A337-5CAC55FE84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3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9154E-5A4C-40FF-9198-2CA142AD44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C5C25-316B-4A31-A7BA-9973400BA0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3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32B35-7AEB-4F02-93C2-ED4BC5CE11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9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2" descr=""/>
          <p:cNvPicPr/>
          <p:nvPr/>
        </p:nvPicPr>
        <p:blipFill>
          <a:blip r:embed="rId1"/>
          <a:stretch/>
        </p:blipFill>
        <p:spPr>
          <a:xfrm>
            <a:off x="2805120" y="2357280"/>
            <a:ext cx="3533760" cy="667080"/>
          </a:xfrm>
          <a:prstGeom prst="rect">
            <a:avLst/>
          </a:prstGeom>
          <a:ln w="0">
            <a:noFill/>
          </a:ln>
        </p:spPr>
      </p:pic>
      <p:sp>
        <p:nvSpPr>
          <p:cNvPr id="39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28B4A-31B7-483D-9163-EA85DB265C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59CFE-DD77-41C7-8C10-2BAC4121D12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0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 descr=""/>
          <p:cNvPicPr/>
          <p:nvPr/>
        </p:nvPicPr>
        <p:blipFill>
          <a:blip r:embed="rId1"/>
          <a:stretch/>
        </p:blipFill>
        <p:spPr>
          <a:xfrm>
            <a:off x="2805120" y="2357280"/>
            <a:ext cx="3533760" cy="667080"/>
          </a:xfrm>
          <a:prstGeom prst="rect">
            <a:avLst/>
          </a:prstGeom>
          <a:ln w="0">
            <a:noFill/>
          </a:ln>
        </p:spPr>
      </p:pic>
      <p:sp>
        <p:nvSpPr>
          <p:cNvPr id="40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C6B5A-CF1E-485F-8BCA-1B68D6510B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0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amp;&am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with</a:t>
            </a:r>
            <a:r>
              <a:rPr b="0" lang="en-GB" sz="2000" spc="-1" strike="noStrike">
                <a:solidFill>
                  <a:srgbClr val="000000"/>
                </a:solidFill>
                <a:latin typeface="Arial"/>
                <a:ea typeface="Arial"/>
              </a:rPr>
              <a:t> or </a:t>
            </a:r>
            <a:r>
              <a:rPr b="0" lang="en-GB" sz="1800" spc="-1" strike="noStrike">
                <a:solidFill>
                  <a:srgbClr val="000000"/>
                </a:solidFill>
                <a:latin typeface="Courier New"/>
                <a:ea typeface="Courier New"/>
              </a:rPr>
              <a:t>readlib</a:t>
            </a:r>
            <a:r>
              <a:rPr b="0" lang="en-GB" sz="2000" spc="-1" strike="noStrike">
                <a:solidFill>
                  <a:srgbClr val="000000"/>
                </a:solidFill>
                <a:latin typeface="Arial"/>
                <a:ea typeface="Arial"/>
              </a:rPr>
              <a:t> functions, e.g. </a:t>
            </a:r>
            <a:r>
              <a:rPr b="0" lang="en-GB" sz="1800" spc="-1" strike="noStrike">
                <a:solidFill>
                  <a:srgbClr val="000000"/>
                </a:solidFill>
                <a:latin typeface="Courier New"/>
                <a:ea typeface="Courier New"/>
              </a:rPr>
              <a:t>with 'calc'</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1270D-D761-4C9B-94C8-AE69310984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C6C9C-A3CE-4104-AE1C-4063DAE475D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FBC01-7125-43B4-AA2D-675B3F7F23C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0" name=""/>
          <p:cNvGraphicFramePr/>
          <p:nvPr/>
        </p:nvGraphicFramePr>
        <p:xfrm>
          <a:off x="900000" y="1727280"/>
          <a:ext cx="7858080" cy="25606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5B46E-FFA8-44E9-90C9-18544BA5A3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03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F1D93-43D9-47B0-B00C-F80DB37F540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28" name="Picture 2" descr="Manual"/>
          <p:cNvPicPr/>
          <p:nvPr/>
        </p:nvPicPr>
        <p:blipFill>
          <a:blip r:embed="rId1"/>
          <a:stretch/>
        </p:blipFill>
        <p:spPr>
          <a:xfrm>
            <a:off x="6143760" y="1643040"/>
            <a:ext cx="2857320" cy="2143080"/>
          </a:xfrm>
          <a:prstGeom prst="rect">
            <a:avLst/>
          </a:prstGeom>
          <a:ln w="0">
            <a:noFill/>
          </a:ln>
        </p:spPr>
      </p:pic>
      <p:pic>
        <p:nvPicPr>
          <p:cNvPr id="42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Windows, and Mac OS X, the respective installer automatically installs and sets up Agena. 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version is included in the manual.</a:t>
            </a:r>
            <a:endParaRPr b="0" lang="en-US" sz="20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gena has been compiled successfully in OS/2 and Haiku in the past.</a:t>
            </a:r>
            <a:endParaRPr b="0" lang="en-US" sz="1800" spc="-1" strike="noStrike">
              <a:solidFill>
                <a:srgbClr val="000000"/>
              </a:solidFill>
              <a:latin typeface="Calibri"/>
            </a:endParaRPr>
          </a:p>
          <a:p>
            <a:pPr marL="343080" indent="-343080">
              <a:lnSpc>
                <a:spcPct val="10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2C1C1-8706-4965-B01B-708D82EB64C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578B2-2FFE-429F-B94E-A8560436F6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412272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3-12-29T21:45:21Z</dcterms:modified>
  <cp:revision>444</cp:revision>
  <dc:subject/>
  <dc:title>Agena Language Summary</dc:title>
</cp:coreProperties>
</file>