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76061"/>
        <c:axId val="48124625"/>
      </c:barChart>
      <c:catAx>
        <c:axId val="31676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24625"/>
        <c:crosses val="autoZero"/>
        <c:auto val="1"/>
        <c:lblAlgn val="ctr"/>
        <c:lblOffset val="100"/>
        <c:noMultiLvlLbl val="0"/>
      </c:catAx>
      <c:valAx>
        <c:axId val="48124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76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D7A-470D-43E6-B675-86F42A79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A01-D88A-4A69-83EB-4E2361AA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BF8-C96B-4FBB-BCF5-25F5831D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3C1-E5A2-401B-AAD4-BE2CEC5E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D43-F066-463E-93EC-689ED6C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1D7-8B37-47FF-8939-9C22FBEA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100-4E74-489C-B0BA-D01BACB7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792-3869-48DA-819C-FBC4A7D2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00E-A601-4C52-B59D-0257FCEA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13B-AB8F-4891-A4A7-18F5326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468-3EEA-4555-94CA-457B269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148-A6C6-49F2-80BB-B702656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4D57B-53B9-4C7C-9073-72B7BB22B9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