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178806"/>
        <c:axId val="87411278"/>
      </c:barChart>
      <c:catAx>
        <c:axId val="901788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411278"/>
        <c:crosses val="autoZero"/>
        <c:auto val="1"/>
        <c:lblAlgn val="ctr"/>
        <c:lblOffset val="100"/>
        <c:noMultiLvlLbl val="0"/>
      </c:catAx>
      <c:valAx>
        <c:axId val="874112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1788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75F7-77B1-4CA6-84BD-F0A843854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AD2A-C24F-40C4-B157-73EFDFB0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5792-6E50-49D7-A022-03FEB8443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07CD-E0BA-4066-92D8-DC07EDC14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2DBA-9381-4377-BD8F-DB41C031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97A9-CB90-4CA2-BB98-3F8D7F52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AE3A-CBBE-45B3-BFFD-553DE36B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ACAF-3423-42D7-BAF3-2D9D6B24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3F5F-D819-40E4-8EF6-055CD8A7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7D9F-68B5-40D0-B683-CFEFC065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4CB8-8E77-4CC8-8D17-913143A7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AFD7-5CCD-4B95-A192-9A9F8E0E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152141-FFC4-480E-8B2C-26BD51F4A1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