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1739"/>
        <c:axId val="98000"/>
      </c:barChart>
      <c:catAx>
        <c:axId val="46271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0"/>
        <c:crosses val="autoZero"/>
        <c:auto val="1"/>
        <c:lblAlgn val="ctr"/>
        <c:lblOffset val="100"/>
        <c:noMultiLvlLbl val="0"/>
      </c:catAx>
      <c:valAx>
        <c:axId val="98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1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143-BE61-40A7-9290-8B005B88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D0A-2DD4-4929-B4E3-637982D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E82-2F54-4174-ABE7-205CA15C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95E-2539-41D4-ABCE-F3329D42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4FB-D2CE-440A-9719-D04869F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E5-9B62-4208-A7DA-F1AB9E4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56A-2FAB-471D-BD98-99D00EB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800-6DAF-4AD4-93CB-5A67621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CE-517B-46A4-9EFF-1399844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081-AE14-4C4C-8570-EA6359AE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D3C-D938-42B0-8807-AFCB9A7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5CB-561C-405F-A0CA-160B867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C2648-E8AA-43D9-A1FC-84E0EE795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