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64674"/>
        <c:axId val="17603970"/>
      </c:barChart>
      <c:catAx>
        <c:axId val="14564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3970"/>
        <c:crosses val="autoZero"/>
        <c:auto val="1"/>
        <c:lblAlgn val="ctr"/>
        <c:lblOffset val="100"/>
        <c:noMultiLvlLbl val="0"/>
      </c:catAx>
      <c:valAx>
        <c:axId val="17603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4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201-14AF-41DB-9FD5-67CEF61B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DE2-A063-4E82-A840-F1C48378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029-E0FA-4FAE-AA21-BDCE3370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CA3-5DB4-430F-B46E-29A5A33F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640-EDED-4031-91FF-4FF110B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391-3089-4840-A2B0-00E711F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CBC-2CBB-49C9-976B-E30BDDB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33E-32E0-421C-94C5-3198E23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E13-3096-4903-B66C-C9A4F8F5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862-44AB-49C9-9B4A-BE4BA2C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879-164A-4ACB-875D-6D508C4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BD6-8997-42D0-923F-E5161A4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E6EF-D42B-47EC-B628-BF303AB95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