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89634"/>
        <c:axId val="40565402"/>
      </c:barChart>
      <c:catAx>
        <c:axId val="26889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65402"/>
        <c:crosses val="autoZero"/>
        <c:auto val="1"/>
        <c:lblAlgn val="ctr"/>
        <c:lblOffset val="100"/>
        <c:noMultiLvlLbl val="0"/>
      </c:catAx>
      <c:valAx>
        <c:axId val="40565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89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DB6-52FE-4A26-8A67-88A67003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DA7-B300-4E5F-8578-E8EE48A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BBB-6D0D-4C89-B68B-F2D5541A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A59-04F9-465C-95FE-167B7B61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35A-DA10-4365-A105-EDB67D49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87C-90CF-4198-B1E2-098A1DA4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B1F-B3B7-4CF3-AC7D-6F4717D5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F3A-78ED-4FB4-8700-C3169C2E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C46-69D6-43BF-866A-F6A3B116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9D9-0B38-4AB9-9BC3-D7F4D3B7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16A-3D44-46A4-964C-F4F05800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94F-612C-4CDF-80DF-290067E1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9C3CE-390C-4689-A68A-F259D3EAF8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