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785077"/>
        <c:axId val="43498199"/>
      </c:barChart>
      <c:catAx>
        <c:axId val="36785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98199"/>
        <c:crosses val="autoZero"/>
        <c:auto val="1"/>
        <c:lblAlgn val="ctr"/>
        <c:lblOffset val="100"/>
        <c:noMultiLvlLbl val="0"/>
      </c:catAx>
      <c:valAx>
        <c:axId val="434981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85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635-B70F-4C96-9577-420A2AC6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F548-0D92-43F2-9455-343F2337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6D60-73C4-464A-A51A-ECDC8494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07B5-224F-4D6C-81EC-0FF18190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79A-39FF-4C77-B18E-AF4B3A36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7E39-7B5C-4F16-A828-DF66836B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AC50-066A-46D0-9C00-543ED5A4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28B0-028B-416F-82D2-6AFCB117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6576-D4DD-4357-AA25-01F3B3AE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B9CF-BC27-4979-9160-77028FEA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B842-F0F6-4377-B0EC-02A306AB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5614-FCA9-416E-A56D-DAF72B5D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70D3D-E1D3-4CDA-8856-E504BC4976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