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467883"/>
        <c:axId val="15001460"/>
      </c:barChart>
      <c:catAx>
        <c:axId val="274678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01460"/>
        <c:crosses val="autoZero"/>
        <c:auto val="1"/>
        <c:lblAlgn val="ctr"/>
        <c:lblOffset val="100"/>
        <c:noMultiLvlLbl val="0"/>
      </c:catAx>
      <c:valAx>
        <c:axId val="150014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678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4102-9860-4695-8522-121F2E50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5D02-B16A-4272-AE2A-635C1805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5157-F729-4DF3-8B96-E747A417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4F99-AA9B-4C82-B8D3-AE84B89A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9A80-5233-4B5E-BA3B-F2A57DD7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97F9-F9F4-4FDC-9362-1E16C84E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98E4-6FB2-48D6-A5EE-54319151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4829-5840-460D-9E1B-35839A72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87C3-DB84-415C-85AD-E73016C4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6E24-6B56-45C3-BF4D-842DB973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BC2-74B0-45EB-B628-967E790C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D8C7-FC5C-4B34-A133-CA737FD2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2319C-812A-4C8B-8FB2-53DB97E253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