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87918"/>
        <c:axId val="90306997"/>
      </c:barChart>
      <c:catAx>
        <c:axId val="54287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06997"/>
        <c:crosses val="autoZero"/>
        <c:auto val="1"/>
        <c:lblAlgn val="ctr"/>
        <c:lblOffset val="100"/>
        <c:noMultiLvlLbl val="0"/>
      </c:catAx>
      <c:valAx>
        <c:axId val="90306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7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DC5-4796-407E-90FF-6B91B929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6F20-2D5E-43FF-8849-F07D222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8FC-96EE-4253-9E1B-4D94B233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A88-E2BE-41EE-8388-3B052C4D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F69-99C2-4D24-AB03-6EB86430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FF0-2628-4781-B5CD-0FE7F339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350-763D-48C1-8E0E-0FED0FC1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7BC-3824-4BDC-90ED-42BFF28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7A48-A62A-49FB-85B1-4C6C89F8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F40-87A5-4479-B438-69FC5A74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A61-9D5A-4D4C-A9FA-96D08A35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3C7-2F40-4670-84B8-E3087D1A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64179-49E1-44CC-B070-66E4101738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