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BA23E-E607-4232-9420-0F9BB6A1C7B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A66478D-88AC-47DB-A36E-0DF6A29F69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FD044D-6CF9-4901-A565-58A9D3AFEC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FDCA5A-0FC1-481F-B267-FD7F49E1F52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EF9E9A-4618-472D-83B2-CE9F79F2A8B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76B47B6-65C5-451C-9EFF-D589F7BA743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A5EE71-5EAF-4BCE-B97A-432E8D3957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8936EB-C896-4235-86AA-0402BF72E38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28A408-D528-4796-9784-368FB6999F7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C50DEE-1413-4D43-8B35-BEDF0DD60C9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FCFD63-87EA-44FC-9316-783F154A44D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670648A-CD69-42F5-8899-BE97E1D319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951127-799B-4B32-997C-538F9F644FB3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2856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2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 u="sng">
                <a:solidFill>
                  <a:srgbClr val="009999"/>
                </a:solidFill>
                <a:uFillTx/>
                <a:latin typeface="Times New Roman"/>
              </a:rPr>
              <a:t>subtitle3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09T16:23:23Z</dcterms:created>
  <dc:creator>author</dc:creator>
  <dc:description>comments</dc:description>
  <cp:keywords>keywords</cp:keywords>
  <dc:language>en-US</dc:language>
  <cp:lastModifiedBy>user name</cp:lastModifiedBy>
  <dcterms:modified xsi:type="dcterms:W3CDTF">2007-02-09T16:27:49Z</dcterms:modified>
  <cp:revision>1</cp:revision>
  <dc:subject>subject</dc:subject>
  <dc:title>title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Custom Boolean">
    <vt:bool>1</vt:bool>
  </property>
  <property fmtid="{D5CDD505-2E9C-101B-9397-08002B2CF9AE}" pid="3" name="Custom Date">
    <vt:filetime>2007-01-09T05:00:00Z</vt:filetime>
  </property>
  <property fmtid="{D5CDD505-2E9C-101B-9397-08002B2CF9AE}" pid="4" name="Custom Number">
    <vt:r8>42</vt:r8>
  </property>
  <property fmtid="{D5CDD505-2E9C-101B-9397-08002B2CF9AE}" pid="5" name="Custom Text">
    <vt:lpwstr>customtext</vt:lpwstr>
  </property>
</Properties>
</file>