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  <p:custShowLst>
    <p:custShow name="Custom Show 1" id="0">
      <p:sldLst>
        <p:sld r:id="rId15"/>
        <p:sld r:id="rId18"/>
        <p:sld r:id="rId16"/>
        <p:sld r:id="rId17"/>
        <p:sld r:id="rId19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02089-EBCC-4AB7-9B0F-8D898046C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9A322-A8B2-41D9-B44B-59A09E0A0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7D5F6E-29B9-4D28-9EB7-1E61A9B63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C0995E-A063-431F-B04F-5B177332F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6ADC3E-30F2-41C8-B610-22B03BC74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E3871C-E5BA-47CC-8854-3FF8110F6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DDDC8A-D674-46DF-8F89-BF286832E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96F6D0-C54E-4B2A-9DA9-7A862C00F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7D1877-BC39-405B-AFEC-8DFD42187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9EC84A-FEE2-4447-AF0C-B3DFC1B7B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8A9BB7-4EFE-4119-85E3-98B080802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60DF60C-21AA-414F-8A62-14E14604C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2F511-DBCF-4C01-AC6E-F907C8521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FF98034-B52A-4BBD-8C89-A662E535E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9D3529E-9F93-49B7-AC9B-542980A35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CF24F32-3C50-4FAD-AB7B-EA4140763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701CBE6-0D6B-4296-BEF5-FF8CC1F41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AAAA365-7315-4027-87F4-C23D0BCB9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AAFCB71-B710-427C-8DE7-AAF74F79F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46348AA-971B-4E52-9BB9-DFFE206D2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806413E-63ED-4820-8A56-7215C2471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CE3FA71-EBE4-4297-B87F-2A049759A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E725525-36FE-4DB5-8FB8-D0108EA58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A04D9-3710-4A58-A4C7-1A3A837B1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284C7C8-AD77-441D-A888-E2570D164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F9D7C3-3D01-4132-B4FA-554DDF9CB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9CA5AA-4BF4-4C8B-A89B-EA5336BB2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B371B9-491E-4A6D-8535-1B5FFB5E8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32910E-581A-4F56-8C11-8EA78863E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335C1A-7607-4516-BEC2-B69458950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CE88E3-E1FB-44F7-BD4A-295BC0BB5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690496-2D4D-4889-A873-D44B16A5D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4B6632-BE2B-4CD3-91C4-174D92D9B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EA4DA6-7695-40B2-8738-89C519D7E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23B94-AFB7-43BD-A33F-F803C70CE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0CD065-C775-4FA0-8921-CE4EF91CD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65BDB6-9CF2-43B6-B2AE-2D183FADF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00C896-8BEF-4500-A909-0C7C8205F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764C74-D41E-4807-8713-B76431CE2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911C8D-0DF2-4E35-A1CA-0FCCA9E17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C99504-0D78-40A8-AA18-D21D62CD8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69FA71-45B1-48CC-8F19-ACF93013F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FD738E-C7EC-4F5F-8EA5-191EA6687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FD70BD-5928-4165-A13B-4A5571105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573668-1AA9-4AB4-93C8-DC294465C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01BA4-DB6D-44E4-B0CC-31B019D2C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8B1166-89AE-454D-91D5-25C7BD012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8F398A-6E60-49D5-A574-2E8EB8A41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55DF1D-5BAD-402B-8434-74922D562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80F43E-9A51-4FE9-9402-552D34914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AC7D77-439C-4699-87BA-2307F3DD1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69949-9F00-4F04-A205-09724183E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5D9A9-327B-400E-ACAD-8F10C876F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915AA-3CC7-4676-9332-70D45835E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2DB70-8B4C-4723-A6F1-3931F6432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91B5D-769B-497F-9B7D-391546326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274DC-14E2-4954-B878-5187F758C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F0C9E-2D7E-4C9B-AD0A-97E7B4401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C802C-B5B3-4D12-BE27-AC5579D0C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441B7-A39D-4EA4-B9B5-0318C2D02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3D4E4-F98E-486A-8D7E-7E3DD7B47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99A06-7A2C-4AE8-A289-D46EC0055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5CAA38-A6D4-4B07-AF25-F8EC1675E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B7B8A7-D5D8-4DC2-8436-B51823568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676276-7056-482E-A3F8-AD5543019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305FF5-BE9B-4D23-9CF5-AA1CD6A0F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F18DF8-795E-4B92-904D-E5ABBB6A3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D90CA-3C02-4819-A707-C82E0B98B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94E556-C49D-4D67-B6EC-D4211C465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01D62C-FB62-440B-98A6-EB0AD5F0E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4825B4-4607-4876-8A68-28A26430A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689096-67C2-4702-888D-8415B9571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69443C-7396-4308-8EFE-43D18AB82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E0E7A2-35D4-4DE7-BB9B-70042F2A7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8C5EAA-7D54-4E25-BF49-7D3195C0C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4802B6-A243-4259-8B56-BDF3F34E1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5555FD-BE2E-4D6C-89C1-B59A017D6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435B09-64B2-4AB0-B442-AD1194849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E440E-3D27-4891-8930-CD5262F93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D11DB5-A28C-48D8-985B-95800480B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CC1040-908D-4DFD-9E70-D9BD6DED1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291894-E7CB-42DF-8E8F-DBAE5E7F4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A871DE-D9D3-4B88-8175-6B997C81D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A663F3-A5EB-4420-AE45-BBD83F834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373892-756C-4EA9-90B2-E770E834A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2ADBA8-56D7-44B5-96CA-8AB32BC8F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B8BA9A-DAD9-4F47-86F4-49A4F40F8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DE5524-573E-45B9-A88E-788DF9ABA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36801B6-F1EB-439B-AB34-BB35307F4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F02C1-8A4A-4C23-9B1D-BBA272C2F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4550716-D3C5-4AC9-918F-D8C57D047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5DF067A-B731-4140-924E-7A218EC5B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3937820-68DA-41D8-BE33-8D4B876D3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7886529-C79F-485B-8580-E32596B7D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388EAC5-35D8-4909-A13B-317238795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805F448-7043-4898-9FBC-C17E76D46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B80F06B-5A8A-42F5-947F-80F60904F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FD58D40-6949-440C-97C3-C359371BD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E6CB5F5-10D6-45AF-AC77-C9A3A249C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1775521-6058-42AA-B9F1-FE1C46244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0B5FB-BC9C-404A-AC3E-084F950BF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0864602-129F-4DFD-A305-B0901D0E3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61D3C6-9D61-4888-9AD4-BB21C7891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FB5EF1-C3F5-447A-A7BB-B025F1185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61A560-28FA-49E4-9A00-862693985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E6A6C7-A388-4E47-ACA3-F8AA4BD18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46A972-A22D-45C2-9AB2-F189BCFA6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12DC0B-AFCC-4275-A311-AABF57046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FDE183-3869-4E63-ABFB-7EF4CAB16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8D6F6F-0AC2-4706-B1C1-A8E562EDE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5EC9DA-38F1-47D9-BA93-BFFC8ED1B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63AE5-9B46-40FA-884C-A809E568A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23ED16-DF98-409B-8424-4349585D0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324AEA-C820-401B-9EE7-FD72F42CF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E77C99-4678-42C0-B895-0A5D85DEC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4DFD9B-9D62-41F9-9C53-760BA448A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324C05-A2DF-42C7-9659-ABD682B84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AF30BC-4093-484A-A143-41D0A3891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910E26-7404-49A0-AF46-2A1BAD903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23DB69-C8D6-4F54-9332-FE0275B14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104A23-ADC8-47B2-9077-1B42CFF14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04C735-5FC3-45AD-85B0-5360C5BDD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9352F-1C31-4A88-ADBF-CDA9EE750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E5C2E9-AA00-4406-A0DB-9F1D00C9B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F030D6-9123-403F-8CB9-6E5AB54A2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65FF72-1986-44C6-A850-3A0F159DA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26CADF-06F6-4046-8021-54113DB72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4F626B-5999-483B-9A54-EFC8307D5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FA3826-90A9-4BAC-8FA1-27B0328EA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4343E5-7635-4483-82D1-AECE3DC8B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7A17EF-33AC-414D-B900-40A19CA8A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ECFE5C-2071-4359-A25E-5D813F1C2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2078C2-A4F5-4FAD-86B0-58063DEE2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A9582-987C-4F98-AD06-F40546439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DBBCF7-9B40-44C3-84AC-9073BB88C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10AD52-87C2-4C75-9210-340F85C8C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4B6574-D62E-4319-A1C8-A5D76E326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F84D80-ED26-4016-9117-53A9DFE21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16C103-746D-47FE-A5CA-7FB3093B9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2536A7-620C-4C85-9DEB-6C01D1684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C465A9-5B73-40C4-B1D3-9CB155660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1C1CEA-8D4F-4EA0-A8A6-7B28A0D1F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DE1E99-8857-4B99-935A-C4FC89EAC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508B68-B2E0-4741-B8CC-10C343759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2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9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1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FF034-A93D-46B8-8058-3BC87F8EBD3E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ABA63-6387-4074-BC91-E93857B2EFE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7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018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0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1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022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23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024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29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0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031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66A36-B703-4A07-9A49-B1EEBB152582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sldNum" idx="2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BA126-EFCD-450E-A0E0-92EF0BC5BE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3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07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9E644-61A7-47F0-AC7F-7A97CAA7D431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AE3F3-9238-45BC-9E96-AF920861EFBD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4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135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E9300-D32E-4554-97DA-F98962642347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55650-7CDA-4649-B72E-61D5CAA9E246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75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77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14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6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7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1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2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4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5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6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7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0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1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4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6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86047-F8A9-4CA5-8AE4-B375174714F2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FAB0C-7A9B-4D06-B932-98366106086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3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F3BC1-ABF0-463F-8061-5B083CCB0444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D081B-57ED-4C7A-A658-70FA833E36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9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3FA80-3230-4584-92E1-508BD674DBE4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8CBDC-3F22-4540-BBBC-842C26394F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49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22092-389D-422E-AC86-626B8982537F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 type="dt" idx="1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ECBCA-37AE-4BB8-BD14-EFB3184B7E2B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1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512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5DF31-5ACF-46FA-A4CB-76E80CB8471D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345FB-EC30-42F6-9479-590D34B35DF7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3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574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575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88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589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dt" idx="1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478E2-2384-4D29-882D-8920B8829770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DF5A5-3E75-4F40-911C-6F8FF0F160D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5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766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767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781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 type="dt" idx="22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86F8E-0E38-42D3-B4AB-CD6991889B1C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A960B-3E9E-4F95-8DBD-7F090562266D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57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59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0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961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2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963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8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9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970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69A02-FDD4-46A6-8A8A-5DF39FD29582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2645E-56D9-47BB-9F48-0B9A308FD6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berlin.de/buergeraktiv/content_aktuell.php?imperia_id=20051105.22263.html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66"/>
                </a:solidFill>
                <a:uFillTx/>
                <a:latin typeface="Arial"/>
              </a:rPr>
              <a:t>Berliner Zeitung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1" name="" descr=""/>
          <p:cNvPicPr/>
          <p:nvPr/>
        </p:nvPicPr>
        <p:blipFill>
          <a:blip r:embed="rId1"/>
          <a:stretch/>
        </p:blipFill>
        <p:spPr>
          <a:xfrm>
            <a:off x="1042920" y="4292640"/>
            <a:ext cx="2714760" cy="21524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2" name="" descr=""/>
          <p:cNvPicPr/>
          <p:nvPr/>
        </p:nvPicPr>
        <p:blipFill>
          <a:blip r:embed="rId2"/>
          <a:stretch/>
        </p:blipFill>
        <p:spPr>
          <a:xfrm>
            <a:off x="2052720" y="2567160"/>
            <a:ext cx="2712960" cy="21650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3" name="" descr=""/>
          <p:cNvPicPr/>
          <p:nvPr/>
        </p:nvPicPr>
        <p:blipFill>
          <a:blip r:embed="rId3"/>
          <a:stretch/>
        </p:blipFill>
        <p:spPr>
          <a:xfrm>
            <a:off x="3995640" y="3938760"/>
            <a:ext cx="2652840" cy="21873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1194" name=""/>
          <p:cNvSpPr/>
          <p:nvPr/>
        </p:nvSpPr>
        <p:spPr>
          <a:xfrm>
            <a:off x="1166760" y="5681520"/>
            <a:ext cx="2613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5" name="" descr=""/>
          <p:cNvPicPr/>
          <p:nvPr/>
        </p:nvPicPr>
        <p:blipFill>
          <a:blip r:embed="rId4"/>
          <a:stretch/>
        </p:blipFill>
        <p:spPr>
          <a:xfrm>
            <a:off x="5003640" y="981000"/>
            <a:ext cx="2714760" cy="21621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6" name="" descr=""/>
          <p:cNvPicPr/>
          <p:nvPr/>
        </p:nvPicPr>
        <p:blipFill>
          <a:blip r:embed="rId5"/>
          <a:stretch/>
        </p:blipFill>
        <p:spPr>
          <a:xfrm>
            <a:off x="5940360" y="2708280"/>
            <a:ext cx="2759040" cy="218592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561FC-0473-4D0C-A9FE-8E397AB667FE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B999CE-95EB-4EAF-B27C-4412BD479A5C}" type="datetime1">
              <a:rPr lang="en-US"/>
              <a:t>07/29/26</a:t>
            </a:fld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4" dur="1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7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3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9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Der Königlichen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Wel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98" name="" descr=""/>
          <p:cNvPicPr/>
          <p:nvPr/>
        </p:nvPicPr>
        <p:blipFill>
          <a:blip r:embed="rId1"/>
          <a:stretch/>
        </p:blipFill>
        <p:spPr>
          <a:xfrm>
            <a:off x="5796000" y="1484280"/>
            <a:ext cx="2857320" cy="4334040"/>
          </a:xfrm>
          <a:prstGeom prst="rect">
            <a:avLst/>
          </a:prstGeom>
          <a:ln w="34920">
            <a:solidFill>
              <a:srgbClr val="000000"/>
            </a:solidFill>
            <a:miter/>
          </a:ln>
        </p:spPr>
      </p:pic>
      <p:sp>
        <p:nvSpPr>
          <p:cNvPr id="1199" name=""/>
          <p:cNvSpPr/>
          <p:nvPr/>
        </p:nvSpPr>
        <p:spPr>
          <a:xfrm>
            <a:off x="3903840" y="4313160"/>
            <a:ext cx="412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395280" y="2060640"/>
            <a:ext cx="5473800" cy="37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40000"/>
              </a:lnSpc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Kompakte Reiseführer, Broschüren, Bildbände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Individuelle Stadtführungen zu Fuß, mit Limousine oder Bus mit spannenden Erzählungen.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Besuch in der Königlichen Porzellan-Manufaktur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Die Berliner Parks und Tiergärten Ideal für die Erholung zwischendurch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B4013B-CD43-43B7-9BE6-C54A0639EA5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fld id="{56C18A9F-2042-4E6E-B99E-66539BC75159}" type="datetime1">
              <a:rPr lang="en-US"/>
              <a:t>07/29/26</a:t>
            </a:fld>
          </a:p>
        </p:txBody>
      </p:sp>
    </p:spTree>
  </p:cSld>
  <p:transition>
    <p:cover dir="d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9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" dur="2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7" dur="15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5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14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" dur="2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6" dur="5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1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1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0" dur="5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plus(out)" transition="out">
                                      <p:cBhvr additive="repl">
                                        <p:cTn id="134" dur="2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9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23640" y="549000"/>
            <a:ext cx="727236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buSzPct val="13374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en-US" sz="4400" spc="-1" strike="noStrike" u="sng">
                <a:solidFill>
                  <a:srgbClr val="000066"/>
                </a:solidFill>
                <a:uFillTx/>
                <a:latin typeface="Times New Roman"/>
              </a:rPr>
              <a:t>Bildmotiv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995280" y="1844640"/>
            <a:ext cx="41166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Oberbaum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iegessäu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Kurfürstenda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Gedächtniskir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chloss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Unter den Linden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spcBef>
                <a:spcPts val="601"/>
              </a:spcBef>
              <a:buClr>
                <a:srgbClr val="fee1a8"/>
              </a:buClr>
              <a:buSzPct val="9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3" name="" descr=""/>
          <p:cNvPicPr/>
          <p:nvPr/>
        </p:nvPicPr>
        <p:blipFill>
          <a:blip r:embed="rId8"/>
          <a:stretch/>
        </p:blipFill>
        <p:spPr>
          <a:xfrm>
            <a:off x="838080" y="1798560"/>
            <a:ext cx="2370240" cy="4133880"/>
          </a:xfrm>
          <a:prstGeom prst="rect">
            <a:avLst/>
          </a:prstGeom>
          <a:ln w="38160">
            <a:solidFill>
              <a:srgbClr val="ffcc99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79E5B6-E77F-4D8A-A6AA-3B49605B144A}" type="slidenum">
              <a:t>3</a:t>
            </a:fld>
          </a:p>
        </p:txBody>
      </p:sp>
    </p:spTree>
  </p:cSld>
  <p:transition>
    <p:comb dir="horz"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8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000"/>
                            </p:stCondLst>
                            <p:childTnLst>
                              <p:par>
                                <p:cTn id="16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2000"/>
                            </p:stCondLst>
                            <p:childTnLst>
                              <p:par>
                                <p:cTn id="17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3000"/>
                            </p:stCondLst>
                            <p:childTnLst>
                              <p:par>
                                <p:cTn id="17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4000"/>
                            </p:stCondLst>
                            <p:childTnLst>
                              <p:par>
                                <p:cTn id="18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5000"/>
                            </p:stCondLst>
                            <p:childTnLst>
                              <p:par>
                                <p:cTn id="18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-324000" y="549000"/>
            <a:ext cx="979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Tahoma"/>
              </a:rPr>
              <a:t>Märchenstunde in Berlin</a:t>
            </a: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3800"/>
            </a:b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205" name=""/>
          <p:cNvGraphicFramePr/>
          <p:nvPr/>
        </p:nvGraphicFramePr>
        <p:xfrm>
          <a:off x="1042920" y="2276640"/>
          <a:ext cx="4249800" cy="1852560"/>
        </p:xfrm>
        <a:graphic>
          <a:graphicData uri="http://schemas.openxmlformats.org/drawingml/2006/table">
            <a:tbl>
              <a:tblPr/>
              <a:tblGrid>
                <a:gridCol w="790920"/>
                <a:gridCol w="903240"/>
                <a:gridCol w="1041120"/>
                <a:gridCol w="1514520"/>
              </a:tblGrid>
              <a:tr h="91440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€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ü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öck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üse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ä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tü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wäc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06" name="" descr="Märchent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95640" y="4221000"/>
            <a:ext cx="2664000" cy="1184400"/>
          </a:xfrm>
          <a:prstGeom prst="rect">
            <a:avLst/>
          </a:prstGeom>
          <a:ln w="25560">
            <a:solidFill>
              <a:srgbClr val="ffffcc"/>
            </a:solidFill>
            <a:miter/>
          </a:ln>
        </p:spPr>
      </p:pic>
      <p:sp>
        <p:nvSpPr>
          <p:cNvPr id="1207" name=""/>
          <p:cNvSpPr/>
          <p:nvPr/>
        </p:nvSpPr>
        <p:spPr>
          <a:xfrm rot="20019000">
            <a:off x="1186560" y="5096160"/>
            <a:ext cx="15372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. Jubiläu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 rot="1115400">
            <a:off x="5097240" y="1923120"/>
            <a:ext cx="335232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om 5. bis 21. November 2004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 rot="20671200">
            <a:off x="6369840" y="3299040"/>
            <a:ext cx="17154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unstmärch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 rot="20835000">
            <a:off x="1210680" y="1550880"/>
            <a:ext cx="28569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0.000 Besucher erwarte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 rot="21095400">
            <a:off x="4429440" y="5823000"/>
            <a:ext cx="34635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0 verschiedenen Institution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9400EEA-5C97-4E35-9F64-41345A3EAECD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fld id="{918ABAF9-3D98-44CC-A9F8-D9C2B0751241}" type="datetime1">
              <a:rPr lang="en-US"/>
              <a:t>07/29/26</a:t>
            </a:fld>
          </a:p>
        </p:txBody>
      </p:sp>
    </p:spTree>
  </p:cSld>
  <p:transition>
    <p:wedge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3" dur="20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2000"/>
                            </p:stCondLst>
                            <p:childTnLst>
                              <p:par>
                                <p:cTn id="20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7" dur="20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4000"/>
                            </p:stCondLst>
                            <p:childTnLst>
                              <p:par>
                                <p:cTn id="20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1" dur="20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6000"/>
                            </p:stCondLst>
                            <p:childTnLst>
                              <p:par>
                                <p:cTn id="21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5" dur="20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8000"/>
                            </p:stCondLst>
                            <p:childTnLst>
                              <p:par>
                                <p:cTn id="21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9" dur="20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1" dur="2000" fill="hold"/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2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3" dur="20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4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5" dur="20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6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7" dur="20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8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9" dur="20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5000"/>
                            </p:stCondLst>
                            <p:childTnLst>
                              <p:par>
                                <p:cTn id="23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482400" y="351000"/>
            <a:ext cx="798660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cc"/>
                </a:solidFill>
                <a:uFillTx/>
                <a:latin typeface="Arial"/>
              </a:rPr>
              <a:t>Rückschau erster Wettbewerb vereinaktiv, Thema "Kinder"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539280" y="2062080"/>
            <a:ext cx="4681800" cy="40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Kreuzberger Wrangelki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„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Buchstabenoffensive“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Angebote für Kinder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Schmökerkist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as literarische Kinderkiezquartett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Jury kam zu dem Schlus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Handeln für ein soziales Problem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5392800" y="1927080"/>
            <a:ext cx="2882880" cy="40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Famili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Im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Täg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Leben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Kinder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Jugend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Erwachsenen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E962B5-547A-450D-A235-FF6AF37A04C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fld id="{D7E293AF-3226-4BBE-ADA2-2F110F7926C3}" type="datetime1">
              <a:rPr lang="en-US"/>
              <a:t>07/29/26</a:t>
            </a:fld>
          </a:p>
        </p:txBody>
      </p:sp>
    </p:spTree>
  </p:cSld>
  <p:transition>
    <p:wipe dir="d"/>
  </p:transition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0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898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898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1000"/>
                            </p:stCondLst>
                            <p:childTnLst>
                              <p:par>
                                <p:cTn id="25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898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898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3000"/>
                            </p:stCondLst>
                            <p:childTnLst>
                              <p:par>
                                <p:cTn id="27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898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4000"/>
                            </p:stCondLst>
                            <p:childTnLst>
                              <p:par>
                                <p:cTn id="28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898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5000"/>
                            </p:stCondLst>
                            <p:childTnLst>
                              <p:par>
                                <p:cTn id="28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898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6000"/>
                            </p:stCondLst>
                            <p:childTnLst>
                              <p:par>
                                <p:cTn id="29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898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7000"/>
                            </p:stCondLst>
                            <p:childTnLst>
                              <p:par>
                                <p:cTn id="30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898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8000"/>
                            </p:stCondLst>
                            <p:childTnLst>
                              <p:par>
                                <p:cTn id="30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898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9000"/>
                            </p:stCondLst>
                            <p:childTnLst>
                              <p:par>
                                <p:cTn id="31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898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10000"/>
                            </p:stCondLst>
                            <p:childTnLst>
                              <p:par>
                                <p:cTn id="32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898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11000"/>
                            </p:stCondLst>
                            <p:childTnLst>
                              <p:par>
                                <p:cTn id="32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898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12000"/>
                            </p:stCondLst>
                            <p:childTnLst>
                              <p:par>
                                <p:cTn id="33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898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13000"/>
                            </p:stCondLst>
                            <p:childTnLst>
                              <p:par>
                                <p:cTn id="34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898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2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4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7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9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2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4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7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9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2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4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7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9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2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4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7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9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2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4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7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9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2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4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7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9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2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4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7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9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2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4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5" name=""/>
          <p:cNvGrpSpPr/>
          <p:nvPr/>
        </p:nvGrpSpPr>
        <p:grpSpPr>
          <a:xfrm>
            <a:off x="1955880" y="1338480"/>
            <a:ext cx="5116320" cy="5106960"/>
            <a:chOff x="1955880" y="1338480"/>
            <a:chExt cx="5116320" cy="5106960"/>
          </a:xfrm>
        </p:grpSpPr>
        <p:sp>
          <p:nvSpPr>
            <p:cNvPr id="1216" name="_s96341"/>
            <p:cNvSpPr/>
            <p:nvPr/>
          </p:nvSpPr>
          <p:spPr>
            <a:xfrm>
              <a:off x="2637000" y="202788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ae99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7" name="_s96342"/>
            <p:cNvSpPr/>
            <p:nvPr/>
          </p:nvSpPr>
          <p:spPr>
            <a:xfrm rot="3600000">
              <a:off x="2649240" y="201492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714d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8" name="_s96343"/>
            <p:cNvSpPr/>
            <p:nvPr/>
          </p:nvSpPr>
          <p:spPr>
            <a:xfrm rot="7200000">
              <a:off x="264924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33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9" name="_s96344"/>
            <p:cNvSpPr/>
            <p:nvPr/>
          </p:nvSpPr>
          <p:spPr>
            <a:xfrm rot="10800000">
              <a:off x="2636640" y="202752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e62e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0" name="_s96345"/>
            <p:cNvSpPr/>
            <p:nvPr/>
          </p:nvSpPr>
          <p:spPr>
            <a:xfrm rot="14400000">
              <a:off x="2649960" y="201420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cc28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1" name="_s96346"/>
            <p:cNvSpPr/>
            <p:nvPr/>
          </p:nvSpPr>
          <p:spPr>
            <a:xfrm rot="18000000">
              <a:off x="264996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bf26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2" name="_s96279"/>
            <p:cNvSpPr/>
            <p:nvPr/>
          </p:nvSpPr>
          <p:spPr>
            <a:xfrm>
              <a:off x="3289320" y="2048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regelmäßig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3" name="_s96278"/>
            <p:cNvSpPr/>
            <p:nvPr/>
          </p:nvSpPr>
          <p:spPr>
            <a:xfrm>
              <a:off x="24289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täglich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4" name="_s96265"/>
            <p:cNvSpPr/>
            <p:nvPr/>
          </p:nvSpPr>
          <p:spPr>
            <a:xfrm>
              <a:off x="32893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ccaa00"/>
                  </a:solidFill>
                  <a:latin typeface="Arial"/>
                </a:rPr>
                <a:t>bürgeraktiv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5" name="_s96264"/>
            <p:cNvSpPr/>
            <p:nvPr/>
          </p:nvSpPr>
          <p:spPr>
            <a:xfrm>
              <a:off x="50101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Vorschläge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6" name="_s96263"/>
            <p:cNvSpPr/>
            <p:nvPr/>
          </p:nvSpPr>
          <p:spPr>
            <a:xfrm>
              <a:off x="58705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darüber</a:t>
              </a: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7" name="_s96280"/>
            <p:cNvSpPr/>
            <p:nvPr/>
          </p:nvSpPr>
          <p:spPr>
            <a:xfrm>
              <a:off x="5010120" y="2050200"/>
              <a:ext cx="727200" cy="72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können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aa00"/>
                </a:solidFill>
                <a:latin typeface="Arial"/>
              </a:rPr>
              <a:t>Märchentage</a:t>
            </a: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-360" y="1917360"/>
            <a:ext cx="3187800" cy="42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1116000" y="371628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7308720" y="364500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E869E1-AC0C-4B83-B0FD-3BF740844A56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fld id="{77C1F8C6-EC55-48CD-89DC-BA091EA8D5C5}" type="datetime1">
              <a:rPr lang="en-US"/>
              <a:t>07/29/26</a:t>
            </a:fld>
          </a:p>
        </p:txBody>
      </p:sp>
    </p:spTree>
  </p:cSld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0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1" dur="10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4" dur="5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46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49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50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3" dur="10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55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8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59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3T14:29:50Z</dcterms:created>
  <dc:creator>pd149311</dc:creator>
  <dc:description/>
  <dc:language>en-US</dc:language>
  <cp:lastModifiedBy>pd149311</cp:lastModifiedBy>
  <dcterms:modified xsi:type="dcterms:W3CDTF">2004-11-10T11:18:20Z</dcterms:modified>
  <cp:revision>44</cp:revision>
  <dc:subject/>
  <dc:title>Carlos Santana </dc:title>
</cp:coreProperties>
</file>