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7017"/>
        <c:axId val="7996048"/>
      </c:barChart>
      <c:catAx>
        <c:axId val="7807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6048"/>
        <c:crosses val="autoZero"/>
        <c:auto val="1"/>
        <c:lblAlgn val="ctr"/>
        <c:lblOffset val="100"/>
        <c:noMultiLvlLbl val="0"/>
      </c:catAx>
      <c:valAx>
        <c:axId val="7996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7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50A-82E4-4E0C-BCE4-05B62438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D021-322E-46F8-8091-1D3A5BDA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88E-8A14-47E2-B260-007B58DF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FF2-D609-4DB8-B006-7E830590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4AF-DE6C-44A2-9265-C5474F55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458-4DB0-4332-86EE-5B7DAF8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3C2-C375-4D0C-A916-403CB8C8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DC9-2A6C-41FC-85C5-B3FB43C5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44B-B404-4B66-8FE9-42D6AB3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B55-4907-493F-AE5E-0B032005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7E4-A607-48F9-91A0-71354212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311-2A67-45F6-9B78-E9201CB2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C652E-E47C-4822-B3E1-80EA12D11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