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7864"/>
        <c:axId val="61008476"/>
      </c:barChart>
      <c:catAx>
        <c:axId val="2277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08476"/>
        <c:crosses val="autoZero"/>
        <c:auto val="1"/>
        <c:lblAlgn val="ctr"/>
        <c:lblOffset val="100"/>
        <c:noMultiLvlLbl val="0"/>
      </c:catAx>
      <c:valAx>
        <c:axId val="61008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7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F70-6D63-41D4-AEC7-6CEB0A7B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FF0-DD99-482D-8485-37105029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BEC-BA3E-43E3-BC40-A5D6D041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615-BD6B-4B8F-BE95-42B9EB56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EC7-4A07-4AE2-878D-4453CC51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46A-F1E0-41CC-A55D-D621C117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6CF-089A-4B95-BA90-E99D21C8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8E4-B9A1-4D4B-BDC0-08D7A575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C5E-8210-40CE-8AEF-24DC4DC7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F8B-6B60-465D-A650-1382DB18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797-EBF3-4482-9BAB-12885D4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D03-C2AB-490D-BA03-18E6FF3D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AE319-F7C0-4E0B-8221-515EE25D3D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