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A2D41-6056-412B-B55D-0B65BACC1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AAE76-A515-47F3-9211-90420799E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663FB-6306-41BD-B59C-586F3D6D8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A0CF7-F262-40B0-B298-A70317E79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8970B-7354-4A3E-B17E-890C49D69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3E8DE3-62EB-415F-985D-5BFDCD3DEA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F446DBC2-DD2A-4521-AB75-D3B59E6764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E814C676-DD89-4D61-9230-0E79E11D03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C4811F98-C212-49C8-A812-7546DF6BA4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F8E95AC6-CEE3-4DC7-B73C-61C7D195B6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33875-7E02-4130-803D-D32DE42C4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45ECBCD5-FCCA-4E8D-81C8-7F17E4DC7A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A312BF92-BCAE-4753-B011-68E6D7AE10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97F4483-3697-4989-97DD-7CFC4FD4762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DF5FAF0-944A-41B8-9C22-4D201A98DB4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9CE44FDC-7658-49BF-A953-12863E4CA7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BCB8107C-F17C-43BC-A59F-49E48B9516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143AD5D3-2332-4824-BB30-E833C99507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CB123-FBB6-40D0-BF05-2AFE29887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232D3-EC54-4674-B53E-1A4E883DF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A4B2B-D5A2-4491-B513-E97BC0E59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874EC-F0F6-481E-AFDD-30C5F7778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1A213-8D10-42BD-B837-FB764CD7B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17E9-A3F4-40A7-B807-B0B945290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88DA518B-EC4D-4301-B326-2C0181456550}"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4F248735-00E2-4AE7-807D-00E09C353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0288F6-94D4-4994-A63E-4A9E13B21E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55"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 A3 of the Primer and Reference.</a:t>
            </a:r>
            <a:endParaRPr b="0" lang="en-US" sz="2200" spc="-1" strike="noStrike">
              <a:solidFill>
                <a:srgbClr val="000000"/>
              </a:solidFill>
              <a:latin typeface="Calibri"/>
            </a:endParaRPr>
          </a:p>
        </p:txBody>
      </p:sp>
      <p:sp>
        <p:nvSpPr>
          <p:cNvPr id="5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4BAB9C-F491-4A44-B460-3F44B35538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7"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97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6862CD-1B97-4AE7-B658-F82C6E9814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1" name="Picture 2" descr="Manual"/>
          <p:cNvPicPr/>
          <p:nvPr/>
        </p:nvPicPr>
        <p:blipFill>
          <a:blip r:embed="rId1"/>
          <a:stretch/>
        </p:blipFill>
        <p:spPr>
          <a:xfrm>
            <a:off x="6921360" y="1859040"/>
            <a:ext cx="3341880" cy="2363760"/>
          </a:xfrm>
          <a:prstGeom prst="rect">
            <a:avLst/>
          </a:prstGeom>
          <a:ln w="0">
            <a:noFill/>
          </a:ln>
        </p:spPr>
      </p:pic>
      <p:pic>
        <p:nvPicPr>
          <p:cNvPr id="562"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562301-0650-4309-B058-426FA2705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667F8C-CF39-4DAB-B718-594DC8B09A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81A486-810E-4470-8F69-A2AF40798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BFCF95-5017-43A0-8286-DCDA8EDB4D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BA9BE2-0875-4421-92E2-D204A12703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68527F-C39B-4FEF-BB79-AD2BE0BB0B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4"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7" name="Picture 2" descr=""/>
          <p:cNvPicPr/>
          <p:nvPr/>
        </p:nvPicPr>
        <p:blipFill>
          <a:blip r:embed="rId1"/>
          <a:stretch/>
        </p:blipFill>
        <p:spPr>
          <a:xfrm>
            <a:off x="3279600" y="2598840"/>
            <a:ext cx="4133880" cy="734760"/>
          </a:xfrm>
          <a:prstGeom prst="rect">
            <a:avLst/>
          </a:prstGeom>
          <a:ln w="0">
            <a:noFill/>
          </a:ln>
        </p:spPr>
      </p:pic>
      <p:sp>
        <p:nvSpPr>
          <p:cNvPr id="18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6515E1-6BE6-4140-ADA0-17119D1AAD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3"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4"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5"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324A57-261E-4C6F-8430-AFFA6BA341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2"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BF40E6-8988-42E1-B09B-C21B1468F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3F89F0-ECAB-4A8B-B669-DFACADE10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6"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7"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E3E9D4-E182-486B-BF10-78F4DBBA22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2"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3"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2C9490-3F69-4779-AA9D-9F818C754B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8"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0B5789-7CE5-4C53-AFE1-AA07453CA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A7F4CA-4BB9-4C11-AE56-31DFF1A2A4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6"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5038CD-788D-48BD-BA25-C48D4261A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0"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1"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2"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1EFAC4-467A-4E70-9F68-49F089E4CF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echteck 5"/>
          <p:cNvSpPr/>
          <p:nvPr/>
        </p:nvSpPr>
        <p:spPr>
          <a:xfrm>
            <a:off x="105264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7331DD-9FAD-404E-B81C-FB1D25853B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1"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2" name="Rechteck 4"/>
          <p:cNvSpPr/>
          <p:nvPr/>
        </p:nvSpPr>
        <p:spPr>
          <a:xfrm>
            <a:off x="5600880" y="3463920"/>
            <a:ext cx="435420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3"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4"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6"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1FE117-770C-4941-9A37-1A4D625CB3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9"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0"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3CDC61-B9CC-4C12-8E9B-F53F4CE5E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5" name="Rechteck 5"/>
          <p:cNvSpPr/>
          <p:nvPr/>
        </p:nvSpPr>
        <p:spPr>
          <a:xfrm>
            <a:off x="1085760" y="4057560"/>
            <a:ext cx="885528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C831A5-7C9F-47E2-B0D7-8ED82252D2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FBE9E80-1BF3-4157-AFE6-258445ADD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0"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1"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B1EBEF-BB84-4075-9446-FC188D2E8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6"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7"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5C958C-0F9E-4DC6-98EA-2478820B7C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2"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99E922-EEC9-4406-B010-F7EDB1AE25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7"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7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EE7117-2DFC-472C-A87E-9E3886C1AB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2"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3"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D0D108-8B27-45A7-A198-5EC7AC0EC4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8"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E3A147-827A-4F11-BC41-6D9CDDB337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3"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4"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304363-6B0B-4E1F-B959-376BA0569F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99"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CF9FB2-6143-449E-84EF-3B813424F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4"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5"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0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08" name="Picture 2" descr=""/>
          <p:cNvPicPr/>
          <p:nvPr/>
        </p:nvPicPr>
        <p:blipFill>
          <a:blip r:embed="rId1"/>
          <a:stretch/>
        </p:blipFill>
        <p:spPr>
          <a:xfrm>
            <a:off x="3279600" y="2598840"/>
            <a:ext cx="4133880" cy="734760"/>
          </a:xfrm>
          <a:prstGeom prst="rect">
            <a:avLst/>
          </a:prstGeom>
          <a:ln w="0">
            <a:noFill/>
          </a:ln>
        </p:spPr>
      </p:pic>
      <p:sp>
        <p:nvSpPr>
          <p:cNvPr id="30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14D5C2-E6A6-4EE0-9285-C2E1D846A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78159E-477C-4876-8B3D-32D7116DF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4"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F83117-B713-4FD3-9299-CCBD013FF9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2564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D5ABE3-DEC5-4EFB-972F-79DB112442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23"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320C30-B9E8-4108-A2B7-0F9999769D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1827D6-A2B0-4830-9A7C-1251EC89DF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Rechteck 4"/>
          <p:cNvSpPr/>
          <p:nvPr/>
        </p:nvSpPr>
        <p:spPr>
          <a:xfrm>
            <a:off x="108576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CCC3B3-1AF2-4C2D-9B5C-0AE13FBDE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F8F72F-FB38-464D-BE95-41D02DCF4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0E7380-A471-46ED-AF7E-16F986281C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8576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4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46" name="Picture 2" descr=""/>
          <p:cNvPicPr/>
          <p:nvPr/>
        </p:nvPicPr>
        <p:blipFill>
          <a:blip r:embed="rId1"/>
          <a:stretch/>
        </p:blipFill>
        <p:spPr>
          <a:xfrm>
            <a:off x="3279600" y="2598840"/>
            <a:ext cx="4133880" cy="734760"/>
          </a:xfrm>
          <a:prstGeom prst="rect">
            <a:avLst/>
          </a:prstGeom>
          <a:ln w="0">
            <a:noFill/>
          </a:ln>
        </p:spPr>
      </p:pic>
      <p:sp>
        <p:nvSpPr>
          <p:cNvPr id="34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A679B7-F52D-4AE1-954C-F09C11634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04E39A-58C7-429D-AB9A-5689A755C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9DEA12-05E3-4B43-840E-6DAFE9F733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9D8C97-1B6E-42D4-BBA8-D458FDE7F8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1"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96213F-DB2E-4D23-9ADC-B821E26CE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0AC6D4-ED36-4D0E-90AB-C830088270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9E1CCA-E3F8-460C-A9BC-BF5194E359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3C8592-0188-4869-9AD7-207DD5443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B33A8D-3411-4159-90C5-0002CBE435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02A9AF-C28D-4AD9-9386-69C4C7D4F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5C94A7-5E70-4628-927F-3725209658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88"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541ED9-D2C0-47F0-AF50-4C9170C14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1D1DE0-12F9-414F-9D2D-C667010E46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D1E48E-97BB-4AE2-9088-59E97C392D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696C9A-6E06-4482-A8D9-BCC82CC4A8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27E2A2-909B-49A8-8D18-42F6AFDD6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AC25CA-6D3F-4826-A174-863971EE0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11" name="Picture 2" descr=""/>
          <p:cNvPicPr/>
          <p:nvPr/>
        </p:nvPicPr>
        <p:blipFill>
          <a:blip r:embed="rId1"/>
          <a:stretch/>
        </p:blipFill>
        <p:spPr>
          <a:xfrm>
            <a:off x="3279600" y="2598840"/>
            <a:ext cx="4133880" cy="734760"/>
          </a:xfrm>
          <a:prstGeom prst="rect">
            <a:avLst/>
          </a:prstGeom>
          <a:ln w="0">
            <a:noFill/>
          </a:ln>
        </p:spPr>
      </p:pic>
      <p:sp>
        <p:nvSpPr>
          <p:cNvPr id="41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80C52C-0348-47A7-8180-FF819ED0F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F55C1C-5861-438C-A2A2-970A61C99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61E8A1-9193-4D34-822F-7698654B0D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D5DB87-7371-4C33-A831-DD01D089F2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6A955C-A74B-4343-AC78-58A3D6930B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AE3E91-708B-45FC-94D8-04688EFBD9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B73056-7798-4164-883E-9BCCD707F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464ED3-0725-4108-8930-23E9BBA28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EA0BCD-F6EA-49AE-8C00-2BB60F1452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45"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00C421-95EE-4B20-B6CD-9A93BFB310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50"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35D4A7-6C5B-417B-8D5A-C098BE8717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55"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57"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5865D8-AE53-4063-A37D-E5FA6779E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63AFA1-780F-4C52-8C9D-982FCED47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Rechteck 5"/>
          <p:cNvSpPr/>
          <p:nvPr/>
        </p:nvSpPr>
        <p:spPr>
          <a:xfrm>
            <a:off x="1052640" y="480708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64"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B9807A-8CFE-4B71-BAF6-BD78CDF008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A50EA9-BD38-4C8B-B112-A6E7245A91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EDD7CD-D404-4900-A3A6-82AD32341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 store[1], stor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B08239-7999-474F-9591-01E187F1BB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59634E-280B-414F-9434-D895CAE172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85"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8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8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6DB82D-1D9F-453F-97F3-11D23EE74C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490"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9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9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DFDF68-E56C-4A9C-81B4-9C3C37C32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59B87A-DFBB-425A-83BD-CB37E4C5F1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0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0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5B6CB6-F47D-4A92-AE26-E8D7C8C6C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56EFEC-DDAB-4166-A274-958733B742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F83835-E5FF-49A7-B6FB-1D1283C23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A8FC48-C66C-4A89-BA53-C7DA2AD790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85760" y="262728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24BF49-BC1C-43A8-B008-6A6E8C0101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0BB75D-751C-4279-81AA-BDFB8DC63D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21" name="Picture 2" descr=""/>
          <p:cNvPicPr/>
          <p:nvPr/>
        </p:nvPicPr>
        <p:blipFill>
          <a:blip r:embed="rId1"/>
          <a:stretch/>
        </p:blipFill>
        <p:spPr>
          <a:xfrm>
            <a:off x="3279600" y="2598840"/>
            <a:ext cx="4133880" cy="734760"/>
          </a:xfrm>
          <a:prstGeom prst="rect">
            <a:avLst/>
          </a:prstGeom>
          <a:ln w="0">
            <a:noFill/>
          </a:ln>
        </p:spPr>
      </p:pic>
      <p:sp>
        <p:nvSpPr>
          <p:cNvPr id="52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8C13D6-29BB-455A-AE22-EE8C6AE27C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5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287374-DB69-4857-9592-9A4F07063E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31" name="Picture 2" descr=""/>
          <p:cNvPicPr/>
          <p:nvPr/>
        </p:nvPicPr>
        <p:blipFill>
          <a:blip r:embed="rId1"/>
          <a:stretch/>
        </p:blipFill>
        <p:spPr>
          <a:xfrm>
            <a:off x="3279600" y="2598840"/>
            <a:ext cx="4133880" cy="734760"/>
          </a:xfrm>
          <a:prstGeom prst="rect">
            <a:avLst/>
          </a:prstGeom>
          <a:ln w="0">
            <a:noFill/>
          </a:ln>
        </p:spPr>
      </p:pic>
      <p:sp>
        <p:nvSpPr>
          <p:cNvPr id="53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4AFC9C-1295-45C1-8DD9-02952D5DA4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6"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67A781-56E3-4C7E-998D-21EC2AC87C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9B7F66-39CF-4719-80FB-7FC8DD281D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A8A3E7-804D-4DCF-B39D-DC8BFAE24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05E105-4396-4A72-9F23-D13455B11F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0"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5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321A5C-83BF-49C6-8A49-73078CD85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3" name=""/>
          <p:cNvGraphicFramePr/>
          <p:nvPr/>
        </p:nvGraphicFramePr>
        <p:xfrm>
          <a:off x="1052640" y="1905120"/>
          <a:ext cx="9190080" cy="1631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2-12-09T11:48:44Z</dcterms:modified>
  <cp:revision>698</cp:revision>
  <dc:subject/>
  <dc:title>Agena Language Summary</dc:title>
</cp:coreProperties>
</file>