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1BC-6AFB-4E11-B367-7E33D36E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DA6-38BB-43FD-BB52-C61AF318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CB1-9C1C-43A3-BC42-215E89D3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390-1995-4FBB-A552-03ED1065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0A6-F281-476D-AB5F-B54B1FF1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0D5-6A91-4284-9171-2E44A8E1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F37-6922-4B77-9611-A7A245FF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A8B-4D6A-4175-B9FA-52B3843D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1F2-4E65-4DC0-BAE0-8BD0403D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8F6-7E29-4348-8199-58501B3C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5F1-BBB0-4167-810C-55247588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294-A974-4BB9-9883-B10D0D33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BD55-6531-415E-879B-FA7A00B45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5-05-15T05:31:27Z</dcterms:modified>
  <cp:revision>5</cp:revision>
  <dc:subject/>
  <dc:title>Слайд 1</dc:title>
</cp:coreProperties>
</file>