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5E77-C35E-4319-AEFF-8433C0773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B497-ACDD-446F-AD52-F4024D7DC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D61E-23F2-4E49-B85C-638C1E272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9A17-B692-4F73-A1F1-BD81D95BA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B5B9-C6CB-465E-9758-D3F0427CA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939A-659E-4369-B54A-B7D82D7DF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A43C-4790-4C7B-9AE9-8F4369577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C531-219C-47FC-A253-0008633F2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49D2-D648-4FAE-AB7B-3563439E8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C577-67FC-4807-95C1-43A55D8CE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79AB-5C5D-4626-96CE-6E92CC1E8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980A-EB7D-4107-9E84-E43CF3BD1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5768F-EDF5-47A0-8531-2D811971DD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kdataserv.fis.fc.ul.pt/~jmal" TargetMode="Externa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5400" spc="-1" strike="noStrike">
                <a:solidFill>
                  <a:srgbClr val="000000"/>
                </a:solidFill>
                <a:latin typeface="Arial"/>
              </a:rPr>
              <a:t>CanvasPlu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</a:rPr>
              <a:t>An Improved Modular Canvas implementation for T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load ./libCanvasPlus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load ./modetest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canvas+ .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set canvas_interp [.c setmode modetest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set script {create rectangle 10 10 130 60 -fill red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$canvas_interp eval $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set script [gets $fd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896472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load ./libCanvasPlus.so; load ./modetest.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set C [canvas+ .c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set I [$C setmode modetest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I eval {set moving 0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C bind all &lt;ButtonPress-1&gt; picOrDr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C bind all &lt;ButtonRelease-1&gt; picOrDr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C bind all &lt;Motion&gt; mo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proc move {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::I eval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if { $moving 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@move $prevX $prevY $_X_ $_Y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@puts move $_I_ $prevX $prevY $_X_ $_Y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set prevX $_X_; set prevY $_Y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proc picOrDrop {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::I eval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if { $moving 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set moving 0; @puts dro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set moving 1; set prevX $_X_; set prevY $_Y_; @puts pic $_X_ $_Y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Extension writter 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tatic CP_RegisterInfo _info[] =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ENTRY("@puts", putsProc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ENTRY("@rect", rectProc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ENTRY("@elipse", arcProc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ENTRY("@move", moveProc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LAST_EN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tatic CP_ModeOps _operations =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allocProc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initProc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freeProc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drawProc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losest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67480" y="3448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763640" y="2349360"/>
            <a:ext cx="705816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struct CP_RegisterInfo 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har *procNam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cl_ObjCmdProc *functio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har *cfnam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 CP_RegisterInf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ClientData CP_AllocProc(CanvasPlus *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int CP_InitProc(CP_Mode *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void CP_FreeProc(ClientData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void CP_DrawProc(ClientData, CP_DrawOps *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Area *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CP_Item *CP_ClosestProc(ClientDat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Point *, doubl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Extension writter 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# ON “load ./setmode.so” INV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int Modetest_Init(Tcl_Interp *inter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if ( CPDefineMode("modetest1", _info,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&amp;_operations)!=TCL_OK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return TCL_ERRO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return TCL_OK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Extension writter 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86407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# ON “.c setmode &lt;modename&gt;” INVO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int CPSetMode(CanvasPlus *cPtr, Tcl_Obj *intName, Tcl_Obj *modeNam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CP_ModeInfo *modeInfo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CP_Mode *mod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// Create and initialize mode 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modeInfo = CPFindMode(Tcl_GetString(modeName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mode = (CP_Mode *)ckalloc((size_t)sizeof(CP_Mode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324000" y="188640"/>
            <a:ext cx="84960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static void drawProc(ClientData cd, CP_DrawOps *ops, CP_Area *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MStatus *status = (MStatus *)cd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CP_Item *item = status-&gt;ite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while (item != NULL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ItemType type = (ItemType)item-&gt;clientData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case ARC_ITEM: {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ArcItem *arc = (ArcItem *)ite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selectPen(ops-&gt;clientData, 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setPenWidth(ops-&gt;clientData, 1.5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drawElipse(ops-&gt;clientData, &amp;arc-&gt;limits,CP_DRAW_OUTLIN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case RECT_ITEM: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RectItem *rect = (RectItem *)ite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selectPen(ops-&gt;clientData, 1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drawRectangle(ops-&gt;clientData, &amp;rect-&gt;limits, CP_DRAW_FILLED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selectPen(ops-&gt;clientData, 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setPenWidth(ops-&gt;clientData, 1.5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drawRectangle(ops-&gt;clientData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&amp;rect-&gt;limits, CP_DRAW_OUTLIN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item = item-&gt;nex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6840" y="1413000"/>
            <a:ext cx="843588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Items are managed by extension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only the extension knows how to draw its i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f an event needs to know some details about the item to be properly handled, the extension must register a hoo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he core module keeps its own item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specific data is refered by an opaque poi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used for tag managment and bind comm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Item mana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Extensions make no assumptions about the device they are drawing i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All drawing is performed through the </a:t>
            </a:r>
            <a:r>
              <a:rPr b="1" lang="pt-PT" sz="3200" spc="-1" strike="noStrike">
                <a:solidFill>
                  <a:srgbClr val="000000"/>
                </a:solidFill>
                <a:latin typeface="Courier New"/>
              </a:rPr>
              <a:t>drawOps</a:t>
            </a: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is insures portability between different platforms and different output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All dimensions used in extensions are physical meaningful and have no relation to pixe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is make the user aware of </a:t>
            </a:r>
            <a:r>
              <a:rPr b="1" lang="pt-PT" sz="2800" spc="-1" strike="noStrike">
                <a:solidFill>
                  <a:srgbClr val="000000"/>
                </a:solidFill>
                <a:latin typeface="Arial"/>
              </a:rPr>
              <a:t>printing size</a:t>
            </a: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Try i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It’s in alpha status, but it wor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It will be available soon...</a:t>
            </a:r>
            <a:br>
              <a:rPr sz="3200"/>
            </a:b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at </a:t>
            </a:r>
            <a:r>
              <a:rPr b="0" lang="pt-PT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kdataserv.fis.fc.ul.pt/~j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...it is available in my laptop, if you don’t want to wait until I find the time to update my web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2276280"/>
            <a:ext cx="82296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000000"/>
                </a:solidFill>
                <a:latin typeface="Arial"/>
              </a:rPr>
              <a:t>Thanks for your atten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jlima@eso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e</a:t>
            </a: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f the 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ular Tk Can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drawing possible but diffic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l was not meant to handle complex data struc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ociation through tagging helps creating relationships between items, but this alone doesn’t overcome all the limi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advanced GUI libraries are available but ... they have no Tc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an alternative canvas for Tk, targetted for layered 2D drawing applic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n’t a replacement for the standard canv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s are supposed to be coded in C/C+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iguration and GUI construction is supposed to be done in 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ular approa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e module: provides generic drawing operations; event dispatc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wing applications specific mod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How the parts fit toge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403280" y="1289160"/>
            <a:ext cx="6481800" cy="50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e Mod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s an AP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wing primitives in a 2D layered canvas abstra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ble of delegating event handling: through hook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aningful coordinate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e output devices awa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mless zoom, pan (for display devi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obal Scaling an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assumptions about the items to be dra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Layered Canv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Wha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Layers work much like superimposed overhead projection she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Each has its own appearence: color; trace and and area filling proper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Layers can be hiden or shown individua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It is a simple concept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The layers are meaningful to broad class of drawing applic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lectronic layout edi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lectronic layout edi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Straightforward and memory efficient implementation using X graphic contex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Arial"/>
              </a:rPr>
              <a:t>Still suppor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Partly obso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Still usefull for context help or context men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agging code imported from standard Tk canvas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What’s n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concept of </a:t>
            </a:r>
            <a:r>
              <a:rPr b="0" i="1" lang="pt-PT" sz="2800" spc="-1" strike="noStrike">
                <a:solidFill>
                  <a:srgbClr val="000000"/>
                </a:solidFill>
                <a:latin typeface="Arial"/>
              </a:rPr>
              <a:t>operation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subcommand approach is used only for few, very generic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nteraction with items is done using a slave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The slave is returned by </a:t>
            </a:r>
            <a:r>
              <a:rPr b="1" lang="pt-PT" sz="2400" spc="-1" strike="noStrike">
                <a:solidFill>
                  <a:srgbClr val="000000"/>
                </a:solidFill>
                <a:latin typeface="Courier New"/>
              </a:rPr>
              <a:t>“.c setmode”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State is accessible through global variables in the dedicated slave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tems can be much more complex than a simple rectangle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CanvasPlus widget us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load ./libCanvasPlus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canvas+ .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.c subcommand 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97080" y="2852640"/>
            <a:ext cx="79531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Available subcommands 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bind, cget, clearmode, configure, get, modes, pan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redraw, setmode, xview, yview and zo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0T07:05:43Z</dcterms:created>
  <dc:creator>Nome de utilizador</dc:creator>
  <dc:description/>
  <dc:language>en-US</dc:language>
  <cp:lastModifiedBy>Nome de utilizador</cp:lastModifiedBy>
  <dcterms:modified xsi:type="dcterms:W3CDTF">2005-10-26T18:06:36Z</dcterms:modified>
  <cp:revision>21</cp:revision>
  <dc:subject/>
  <dc:title>CanvasPlus</dc:title>
</cp:coreProperties>
</file>