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F628-2B9A-4EF2-92E5-A9369FBE3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2DD0-BD11-40B6-AD1A-A3B680862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F363-E771-47DC-B429-814CDCF49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4425-DA51-4E20-B835-63F553F75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9213B-49C3-4C64-9BD5-3FDCBF32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96B-818F-43AF-BD62-9705D64AE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7E11-9DEA-4AD5-90A5-384E3FF7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51E-C28C-4124-B295-F373CE2C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C956-EDB7-4656-9C36-5ED04B9A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C2C-C289-409F-ACA0-5EE64CDF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3AE-AC15-4005-A430-35E33366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546B-2717-4F95-9B2D-70866D4C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45A58-1935-4B70-BD55-0092635CC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ch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jen Mar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ew examples of Plotchart it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’s xy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l: SCADA displ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y to use: just a few commands for a 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lot and chart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tend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s predecessor: emu_graph by Ste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si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ign deci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whol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 th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form of c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nage the data (duplic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ing the appearance takes effect for new data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e the plot of the chosen type – new comm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in the data via subcom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s differ per plo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de – linking method names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itle)             Draw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xtext)             DrawX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plot)              Draw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)               DrawD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dotconfig)         DotConfig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interval)          DrawInterv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xyplot,trend)             DrawTrend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plot)            DrawP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methodProc(piechart,saveplot)        SavePlo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createPiechart { w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data_se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s [array names data_series "$w,*"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unset data_series($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 newchart "piechart_$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nterp alias {} $newchart {} ::Plotchart::PlotHandler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CopyConfig piechart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foreach {pxmin pymin pxmax pymax} [MarginsCircle $w] {break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iewPort $w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$w create oval $pxmin $pymin $pxmax $pyma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etColours $w blue lightblue green yellow orange red magenta brow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Legend 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DefaultBalloon $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$newcha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 – par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proc ::Plotchart::PlotHandler { type w command args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variable methodPro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if { [info exists methodProc($type,$command)] 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eval $methodProc($type,$command) $w $ar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return -code error "No such method - $command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: con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have contributed with code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 Stucky, Stefan Finzel, Pau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gel, Dave Hanks, Michael Baudi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ve Blinkhorn,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s DeCoster has developed xyplot on t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Plot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ly supported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Y-plots (also logarithmic ax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our plots (2D and 3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grams and pie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charts and Gantt ch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dial cha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types of anno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ing plots in one canv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4T04:30:44Z</dcterms:created>
  <dc:creator>Computer Services</dc:creator>
  <dc:description/>
  <dc:language>en-US</dc:language>
  <cp:lastModifiedBy>Computer Services</cp:lastModifiedBy>
  <dcterms:modified xsi:type="dcterms:W3CDTF">2010-06-04T04:48:12Z</dcterms:modified>
  <cp:revision>4</cp:revision>
  <dc:subject/>
  <dc:title>Plotchart</dc:title>
</cp:coreProperties>
</file>