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B39-7797-4211-ACF0-DA005316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924B-929A-4FE6-A25F-FA0165C8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8D98-A5EA-480E-9C8E-38BE5C4F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D5B5-FC1E-4D03-9BFA-052CE24FC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501-84F2-4E52-A9AB-1FF3B28E2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BB8C-FC41-47FA-9223-1C653E521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E160-B12D-40C0-A96C-4B25EE0C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6B9-6A33-4E15-8BBA-E9C87664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717-C186-4DED-A131-D2088FCFB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379-E78B-492E-A36D-01DD443E9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DD29-D9F0-410F-9DC1-52981F11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D484-A959-41C8-84AB-03E5D650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966A-64DB-43C3-877C-16F3C22CE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: final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ding the unnecessary 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dbdsdc { uplo compq d e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[list $dnew $u $vt $q $iq $info]  ;# Leaving out "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types of da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ars (mostly floating-point and integ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dimensional arrays (vector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-dimensional arrays (matric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: mapped onto Tcl lists and n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ting the wrapper c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inguish the various roles of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put data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utput arguments (scalar/arr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zes of arra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ling the r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ilerplate code (integer array v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ara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ong *v; int size__v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lisation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( WrapCopyIntListToArray( interp, objv[1], &amp;v, &amp;size__v ) != TCL_OK 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Tcl_SetResult( interp, “Argument 1 must be a list of integers”, NULL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CL_ERR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ean-up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kfree((char *)v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 of argu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tran routine (arrays x and w are returne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subroutine lagzo( n, x, w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teger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ouble precision x(n), w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wrappe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Wrapfort::fproc ::Specfunc::laguerreZeros lagzo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n  in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x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-array  w  {allocate n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de {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lagzo( &amp;n, x, w 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…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additional code: return arrays x and w 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chnical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e of arguments can not be deduced automatic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knowledge of C and Fortran and interfacing the two is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turning more than one result (as a list) requires extra code – not handled automatically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ndreds of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ost interest: the “driver”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are well described – automation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ndcrafting still required (to make the interface more Tcl-lik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NPACK: user-defined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ding zeros for a vector-valued func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hybrd1(fcn,n,x,fvec,tol,info,wa,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nfo,l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t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,wa(l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xternal fc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unction is implemented via a user-defined subrout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fcn(n,x,fvec,ifla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n,i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x(n),fvec(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alculate the functions at x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this vector in fve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rresponding Tcl proced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fcn {x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... $x too far away ...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–code error “Unacceptable solution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fvec ;# Vector-valued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PACK - w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tion via Wrapfort: subroutine fcn(n,x,fvec,ifla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Wrapfort::fexternal fc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tra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n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x      {in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ouble-array fvec   {output n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nteger      iflag  out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toproc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x      inp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vec   resu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onerro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*iflag = 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apping Fortran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ing the interf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ting the wrapper co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about Ftcl and Wrapf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tcl is a project on SourceForge to combine Tcl and Fort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fort is part of that project, focusing on generating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avoid all C programm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ftcl.sf.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rther develop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: Tcl lists may not be the best representation in all c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C libraries (akin to Critc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whole programs – develop a strate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ate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apping such libraries makes this functionality available to Tcl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also makes Tcl’s flexibility available to engineers and scient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 of numerical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PACK: Linear algebra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func: Special mathematical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PACK: least-squares minimis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ng multidimensional integrals (Str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TW: Fourier trans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ing the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typica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fit to Tc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AIRYA(X,AI,BI,AD,B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Purpose: Compute Airy functions and their deriv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Input:   x  --- Argument of Airy fun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Output:  AI --- A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I --- Bi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D --- A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BD --- Bi'(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Routine calle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AJYIK for computing Jv(x), Yv(x), Iv(x) 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         Kv(x) with v=1/3 and 2/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       ======================================================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MPLICIT DOUBLE PRECISION (A-H,O-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 -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1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 ai_ bi_ ad_ bd_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i_ 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i_ 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ad_ 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var 1 $bd_ 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variable names – rather unus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: fit to Tcl?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2: Return a list of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 {x}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[list $ai $bi $ad $bd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tion 3: Separat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roc airyA {x} {      proc airyB {x}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$ai            return $b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UBROUTINE DBDSDC( UPLO, COMPQ, N, D, E, U, LDU, VT, LDVT, Q, IQ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WORK, IWORK, INFO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routine (version 3.2)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LAPACK is a software package provided by Univ. of Tennessee,   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-- Univ. of California Berkeley, Univ. of Colorado Denver and NAG Ltd..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November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Scalar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HARACTER          COMPQ, UP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NFO, LDU, LDVT, 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 Array Arguments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GER            IQ( * ), I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OUBLE PRECISION   D( * ), E( * ), Q( * ), U( LDU, * 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                   VT( LDVT, * ), WORK( *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     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PACK routines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argu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are array dim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guments that provide work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 output argu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ed in Tc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if we use lists to store the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1T05:07:48Z</dcterms:created>
  <dc:creator>Computer Services</dc:creator>
  <dc:description/>
  <dc:language>en-US</dc:language>
  <cp:lastModifiedBy>Computer Services</cp:lastModifiedBy>
  <dcterms:modified xsi:type="dcterms:W3CDTF">2010-06-04T04:54:37Z</dcterms:modified>
  <cp:revision>15</cp:revision>
  <dc:subject/>
  <dc:title>Wrapping Fortran libraries</dc:title>
</cp:coreProperties>
</file>