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6AFA92-CD57-4511-8FBC-99BDD76A5E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22254E-EB9E-4198-A26C-870E59111B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4FD9E7-D9CF-4DD4-AF19-B41DE68AA4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5B74FE-9C76-4E95-A75A-1880046DE3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4BED6D9-09DE-4BC2-906A-3D2A41DB377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776D60-03E2-4160-A8D3-C1027BF579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8F18DA-573C-4893-9777-87F8680B74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69C244-587F-458D-84BB-8E43FAEF14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30DABF-CF70-4E21-955F-F43ACC3545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722A36-B755-4218-9F12-BBFAE6A4B6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091876-CB22-46F2-BCB9-8D7E7C7B45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7D430B-3BA8-457E-92E6-EBADEC2188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FA94AB-337C-4AD7-9E2A-252A0C8F1B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CFFC62-C549-4C1A-BFEC-FB97637DBB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6632D5-0EC5-4714-A5A7-A51DB0AA90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712D349-5205-47E7-A516-35DBCE050F9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AAD6F39-B9F6-4EBF-9AF0-B92DCD3D8B4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A1A938-B7ED-4A6A-87C4-A232F1813A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582365-DC0E-4B5E-9C35-526B8FFD1B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CCB0C1-2429-4B10-AB66-54ADAF1B14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BA8706-D079-4BB3-BCCD-9ACD7C56AB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FB0639-0A6E-4FA0-86B0-709E0B7221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2BF459-AAF7-464D-BBAC-F2EB93D09A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DB2472-FD35-4D13-A1F5-D473B0870E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B90645-B52F-491D-856D-CAB476AD649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5F0EFD-9BDF-42D1-B116-E262009E311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05C1A62-F0BF-4F2D-B417-BDB08A9A7DC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1348677-E3B6-4A8B-9AA9-7AB749DC98D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EAFEF8-BFAC-4C31-95DA-A9EA99AB1DD4}"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72C8B3-6386-4571-97F0-403B90B2382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B02235-5315-409E-88C6-2BBFDD15DAD2}"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221DD6-E8C9-4E97-B380-0D253BA5D83D}"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83F590-EFDB-471E-A9B2-8F5B14D88772}"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B9AC77-CD02-477C-8D67-478AB14A729D}"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5C2CCA-B03D-4200-BE4E-10AB31568FF7}"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E845B8-5AE2-45F7-8F7C-7790CFBF0CAE}"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4B58AE-37BA-4063-93FF-BF28E1822076}"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F717A0-2052-469B-8D2F-5E4754D3A9D6}"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2F65EB-153A-4676-A25F-516118FE7CA6}"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FA0FB5-94C3-4085-BC7B-874EC75DF893}"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E55333-E397-4FC2-90C2-BCDE21036B33}"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903043-4F98-43A5-BDD5-5031D0FE07EB}"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9CBA3F-A07A-4339-A7AD-D2604B1312AD}"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E8A01F-9461-4EAC-B424-D28B51399181}"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EFA654-6AD0-4D46-B69F-1F9B1066CD2B}"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34D5B0-AD3B-45C4-9EC1-14EB83404611}"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96FACB-E0C8-4A84-913B-2C2C72A4D35B}"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CB7FB8-9546-4370-AD3F-5DF953893AE2}"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1D2183-F7CE-4D53-A030-8C1EF1F93EEA}"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20BE5F-5227-4CEB-A9CB-ADA8832963D4}"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E1B0D9-9CEF-426D-8E06-699BFA46F249}"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3B8049-0E9D-473D-8A8C-5438E65AB862}"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C45990-6011-4BB5-8862-57729E2E2663}"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A9D0C95-546E-4E54-BF43-CBE8E2ABF7BD}"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87E6D1-9D75-454B-8CE1-1C78A2D48566}"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026054-D5CF-442C-BCF2-E6B28046E143}"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94E19B-3C65-4D04-ADC2-811218214A17}"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8BB1EE-8E14-4546-9622-0398C3DB882B}"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947236-984B-4102-8FB2-387250D855F5}"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FE2CF9-9B40-42B3-AB9B-BC2A7AA2419E}"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EEBEA3-2112-4895-A4C8-D9B96B4B8E20}"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CE514F-7D06-4C41-8C8E-11D397539BD5}"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B1554B-17DA-4557-A8CB-08D235C46D6A}"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342FC7-A1C2-483D-8F2A-A83ED2148899}"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C247D6-76ED-46D8-A317-B3CAF0725AA0}"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D9A7CF-ED7A-4D55-8E47-761AEFE33392}"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3D4903-E051-460E-8443-1AE09978DCA2}"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ABE56C-8DDF-4F6B-8026-F35198EB5519}"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8374F1-285A-4D87-8F98-A1EA19741EA8}"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690A19-62EA-4E62-833A-D121447B2E2D}"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5AA64D-B1FD-4DEC-8AEE-AD8229992F28}"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1C33DF-FDEA-49E0-859F-776C409BE8F3}"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AC24FE-3337-431A-B6AD-5AA9B54D029C}"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17C4E0-A67E-42F8-BFEF-0FB459067480}"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FB173B2-CC0D-4816-AF13-983939A6F7BA}"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2B603F-CC1E-4863-8BF3-95AABB5DF73F}"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B700FB-87E8-418D-8728-0AB9E5D903A7}"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748A81B-1D43-4069-9F4A-32BD9851E407}"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C6A470-14B3-4AD0-BE46-C9A5BAA3B6AB}"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D42E29-135F-4028-8046-3B64466841F9}"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211098-D3CE-484E-A796-45059A8E1C63}"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E43D6D-C368-42DE-94D1-296398EF358E}"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B5CD79-66AB-4BA4-8869-391352B65CDA}"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27E3D4-783B-411C-A99A-DFDE03AA5E3B}"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6A41F5-D5BD-4B74-84FE-2408EA5C4627}"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972C4B6-17B9-42D1-929D-FE8752A55D8E}"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5B3896-72CC-49E2-AD74-6B21472E730F}"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F6EF9C-E92F-4508-A9F1-BE01D066DE39}"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023888-BBCB-4828-9E29-109FABBA91F6}"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2AA279-854C-4EFC-A9E3-5B7C7F31873B}"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C64CC2-C040-4E66-AEBA-5D478A4F25DB}"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B40DB4C-EF0F-41B6-B172-88382A0E59BA}"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44B953-DCE7-4451-9EAB-FAE9EC4E9B8A}"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52564E-988A-4D0C-BA63-FC9B3C88FC17}"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C7278C-917B-4C1E-BDBF-DDC8E1ED2EF4}"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6D9DEF-6BFC-4E9A-88B3-9077B34438F7}"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D8DE085-4359-4C2A-B96C-2E5CDACD04FD}"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BCD6DD-BB1E-4212-AAAA-5854402A7053}"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EAAD2D-1CD7-4823-BBAC-70536EA645D9}"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DFDF4D-9B6E-464B-9356-4E8BD2F44633}"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0DB231-BBCF-4E4A-80D3-D3F382DAD3C7}"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127118-1CCE-4E39-8876-BEFDD659B1EF}"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7DA627-DE39-46E8-ACB3-EB47C7B197FF}"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E56AD73-3326-408B-9C22-024FAA5B7307}"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340AF3-AE14-42DE-A0E8-E6581130FFAE}"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EA1674-9E26-413C-A452-8550FA2E0466}"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C2DD9B-37B9-453F-999D-D63375FC379A}"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BC9D1B7-D241-4FA8-BCF6-2F173A8B3B93}"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423940-A39F-469B-94E6-BE425F036BC0}"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69AE8D3-1ACE-42B2-B43C-EE0DE75468DF}"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95C7C4-0096-4A79-A3EB-2A044F545B2E}"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2C1B78-D788-4A35-B595-C9898509EB7A}"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B92CD6-8114-478E-B9A3-0362AAAA7A9B}"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F61F81-2781-460A-B102-E82D3E46BCF6}"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22705C-2425-48C9-87E6-0A633536E7F9}"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D6F116-5533-4CB8-90D9-DBA305B553A3}"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DAB5F1-EBF2-45C8-BC22-BB0663D5815A}"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E94B22-1336-4EBA-A7A4-10F656650C4D}"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41EF3E-7718-465C-9C56-D10DA3DE2F2A}"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ED608A-C50F-4D2B-A9FE-6C36672214BD}"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DD6D32-9E83-497A-B460-507304C8D9A5}"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35246A-847D-4FD4-89FF-6929D8EE139D}"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CBD4C7-C5FF-47A1-8E80-46FE966AC976}"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05CA4E-122E-4FA9-BD57-715ED1E0B0C4}"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5DB9F6-57D1-4E30-9451-7A11055F4647}"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18ACF9F-ADFE-4471-BF41-22DE0BECE75E}"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B3C2E7-1DAF-4709-AD85-A0B01D23D7BA}"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AE624F-DFD2-4A26-A4C8-F41216DDF01A}"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15510C-CF9B-4456-B328-6ADBB29B0C7E}"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5D3B8C-DD61-414B-A2B2-AA72DC9585C8}"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56EB5B-771B-4152-9D1E-94877772F065}"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0B9043-1A5E-4D5C-9187-CC0631CF9C68}"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BBC913-E6F4-47CB-B252-8ACFBAD1D878}"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9FDD9E-28E6-47F6-85E5-CB3BDB634845}"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E5B0C1-78E9-49FD-8EFF-1F9ECBF35456}"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657996-A111-4E45-BA4A-3F5A689CA00C}"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060964-2422-4CD9-80B2-C15E2965B24E}"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CF9290-8756-4F52-AE2A-1A8F7A3F8CB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D477A5-3CAB-4234-B47D-104CCF3D9A5F}"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061728-7A6E-433D-BFE2-0C23AA16492F}"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0F3AAE-3AA1-4C27-8CD3-14806217C8B0}"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7705AC-D4E0-4EF5-96D2-D7B378F7FB18}"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B65F17-B0E2-4AFD-9160-6BB83084E778}"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F2D505-916B-42F0-9E2A-FA88C8C60215}"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71A230-0AC3-409F-894D-D3CFB0D18132}"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A53B4C-4B4E-4204-BED3-5F91FAF4AC36}"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A674F8-E1B8-4A02-9B38-CA6EB530E760}"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99E1FA-FA2A-4D43-B7C2-334CAEA4A91F}"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B1B6CC-94E1-4302-9F3E-2195A99C4322}"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ED165D-8A58-4DA4-9F2E-4402DF44E342}"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25919E-DB3C-4F52-AC96-67E4272EEC86}"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7C1FA3-D32C-4253-A5AD-D133FA944267}"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FDD40F-82F6-4C7E-BA9A-807C18217603}"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13A3227-22FB-41C4-9966-D581EDA9E0A8}"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7F6F75-D3D4-41F5-B08E-2D3F0FD84BB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B7229B-C25F-4CDD-BC24-4464FAD2ADF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5499B8-197B-4481-BCFE-8670381E155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14DCB9-B8E0-4246-AF85-DA42240EE92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4EB42B-75AF-41B7-AB08-82A190D50A1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A0FC58-1ABF-4ADA-BF7B-B52B72980B3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CFC284C-AE22-4950-9225-4FF17E61F19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941071-E0FC-46A0-9D80-51266B7B653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06E7A9-4941-4E80-91E1-A1F5AF60800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922D4E-0E53-4085-AC76-D5376630D5F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439A4E-765E-4026-AFA8-0E2CE23BFED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71DBEB-A5C7-4C23-BB8E-7CB996735E5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FDF859-1EF3-41A3-9F4B-E198B4D8B62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EC591C-217C-4781-869F-C4ADC44A4AC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6C504A-FB0F-47CD-B8BC-3DB5A89BFAB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38FFD0-8902-4856-B425-8AF0A997559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B094BD-CF66-49B2-AECC-AEFE14A6CD9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F71AC0-70CA-4261-85A0-DAF568023E7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7FF4B1-6EF4-428E-8051-B99E998A8B0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D2554D-2CA7-4F75-9FDA-689ED053653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E103C3-295F-4AA8-9DEF-354CF7AAF6F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1183C4-1D1D-49F9-B5F2-9CD7770E567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5ED081-FD9C-4A16-B3D3-26370DCC960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90BBC7-6B08-415D-9AC2-B3DF01D7C51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7A1E1B-5872-46E3-9BAD-54EE74C24C9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83EC12-3CDA-4A32-A540-83D84BA158B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F2F5B8-38C7-4B48-B299-74563D71E9E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53ACD8-5FD0-49F6-9D78-460D12C290D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CB9DF4-CE39-4EB3-88B9-7345218BD51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3509BD-9395-42B8-86E7-1A67522084F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975805-9F7E-42BB-9394-CBD17C43E23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C6F510-8835-4103-84E7-0E6FD5DD8B3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855FA6-47C2-4100-A58C-5384E497912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F7A42F-A96A-4F8C-BEA7-BB9E95F12FF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370913-784A-4CF5-8A41-DC976D10C86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D95792-2796-4612-80CA-F27C21A45FD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10B745-96A4-42EC-920C-B4D3282A3D9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3CF100-1686-4193-9E2E-03C18A4C57A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794F8C-1382-4661-9DA6-03BEFD28060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71B81A-DCAB-4D9F-8ED8-359A38B386F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3F4301-D5D5-45A3-B5FE-5A933FFB6EA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61DAEF-EE31-4AD9-8746-2125922A1A3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F0A08C-78B8-45C4-B0F7-6C82316DEA05}"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E914CD-078C-46D7-8B0D-4D41708C8C01}"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2EB12C-7601-413E-93B8-D81F30B4CCA8}"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9232BD-5F67-4AA3-95F2-232283BF5A20}"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9FF093-69B2-4033-AA37-E123582B925B}"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F81EF06-7A98-49CC-AF13-D2B516D25222}"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B732AA-D077-45F5-A7B8-CCA9F373500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ABD371-8F6A-4D92-8000-70FE2DB7BD40}"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C3CCC9-F6C4-41FF-A7DB-231576444B7E}"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799AF0-B505-4783-96BB-5B5C94BA1D23}"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50870E-8CCC-448B-9EEC-E5E40CB40B35}"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D3E4E1-C2FF-4CC5-BCBB-69B58C4527F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1EC563-1F1C-4E72-A29E-6286E6C65D4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F6570B-9EAC-4E7F-8E1F-2166F0852FC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E9C8FF4-13C4-4B37-AB31-4EC5AE9154DB}"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4CB9DE-22A3-4DDE-844D-7494A11CE5B6}"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0CDBB7-FFA8-45A2-9E45-12F0AA9A668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FB404F-A579-4713-A9F8-DAB3B15DF0F2}"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C69630-3743-4995-9C6E-64E6DE5BE208}"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56E7DE-6DA5-4AE1-8E66-141AF4DF554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530846-0D57-4C18-9E70-F387C7B8DFA4}"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538664-6D92-4684-A757-80AB673F48FA}"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B43882-A574-4235-A3F3-0B560A600AD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776C29-034F-4916-942B-01E4D6C61A3B}"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F904EC-7B7F-4EA2-9A96-BDBC0788DAB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7892EA-C9E2-42CE-AA74-3F2C272D71F2}"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0FBDF2-FD46-4FAB-801A-179BA6F45CE7}"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0382AB-C725-4C74-88E3-957C2F179E37}"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41642A-2283-48D7-ABD9-7C43CFF9BE4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D953FE3-A270-430F-B879-530DB61979C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44D9F9-4AE1-49A2-B97C-7CA2EF84A17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094D5E-0F60-48A9-8939-64C584439C15}"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9E6218-3606-44AE-8931-232DACE8E64B}"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4804E2-D91A-46AB-9004-FB09A5FC595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DBEBEA-8E86-4FD4-8064-27EEF5A83324}"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909857-C03E-4E2A-9FA0-12AF084365B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C65CE3-F5D9-47D9-BA5F-DF5FD66C442A}"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21DD15-25F1-4DD6-915D-774DA5768CC4}"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FBD9CF-EE2D-4718-90D8-15273FB6E0D2}"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CE2FF6-2CB4-4E1B-A24A-C76B8B43629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EF660E-19EA-4B63-85CA-C448BC6B1133}"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6956E6-0938-47DF-B8E6-36229D36BD84}"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DCC01A-5099-46F3-9CFA-FA7A5674C3A7}"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