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20560"/>
        <c:axId val="91921525"/>
      </c:barChart>
      <c:catAx>
        <c:axId val="59220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21525"/>
        <c:crosses val="autoZero"/>
        <c:auto val="1"/>
        <c:lblAlgn val="ctr"/>
        <c:lblOffset val="100"/>
        <c:noMultiLvlLbl val="0"/>
      </c:catAx>
      <c:valAx>
        <c:axId val="91921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20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EE9-5EA0-4D9A-BDEA-6625F41F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73D-426B-4D9F-A3D5-B2B70086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635-18C8-4DEF-987E-751B0754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405-C129-43ED-8AAE-9AA1600C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98B-A1A6-4A6E-95D8-47DEC592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DC1-BBE1-4A31-BE01-35841627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EA6-1B2E-48E4-9A55-84EF1CCA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FB9-BB28-4726-B56D-66EA8A45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0EE-7CF6-4130-AC27-A55C25F5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887-F926-401E-B087-ACCCCAE3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AFD-44EB-4BB6-AEC3-21EC2810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673-C729-4D21-9A41-4DE4E70A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3AAB9-E870-4DDD-A4F3-C0CDC083AC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