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279449"/>
        <c:axId val="19822699"/>
      </c:barChart>
      <c:catAx>
        <c:axId val="662794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822699"/>
        <c:crosses val="autoZero"/>
        <c:auto val="1"/>
        <c:lblAlgn val="ctr"/>
        <c:lblOffset val="100"/>
        <c:noMultiLvlLbl val="0"/>
      </c:catAx>
      <c:valAx>
        <c:axId val="198226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794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4DF4-FC01-4F84-B59B-5FD15D45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4E98-E8CA-46F4-BE46-22211B22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726D-211D-4E7B-B3BD-A1139F41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4AD3-E346-4181-AD37-BFA0BC04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7F85-E043-4AA4-BA16-B8A3F3E3F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533C-3509-4AB5-8661-4C2C30201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2C0B-3F12-4E1F-B8BE-B594A199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3AB9-6FA9-4148-9B21-69BDC13F8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490B-CBE0-42F4-82B5-AEF0C877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BB48-4737-482B-A5FF-F18EF0733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B29C-EF64-432F-954F-1231BD77B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0D7D-D395-4F3B-A28F-C2D3A018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1F386B-A6DA-48D0-92F7-2958A0BB1D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