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72296"/>
        <c:axId val="8799346"/>
      </c:barChart>
      <c:catAx>
        <c:axId val="49572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9346"/>
        <c:crosses val="autoZero"/>
        <c:auto val="1"/>
        <c:lblAlgn val="ctr"/>
        <c:lblOffset val="100"/>
        <c:noMultiLvlLbl val="0"/>
      </c:catAx>
      <c:valAx>
        <c:axId val="8799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72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C1D-5AE5-476A-9D4C-4CC7CD05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870-69C2-4142-9372-DA644448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86E-0256-49F2-80E3-7622E0D5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F90-1AA6-44E0-B102-224385D8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C92-FCB5-4280-AA45-9D98B677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029-0A51-41EE-A74D-96FFA25A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273-B07B-4BA0-B957-F6F0CCA8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669-65B6-43DA-B8FB-855992DB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E8D-3125-4BD2-BA7D-99F3543F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B1B-CFE5-480B-A318-38600B4C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EEB-A479-42EA-B423-0F69FBD3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B05-83AD-44DB-A2A2-37CFE81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F3747-B689-48D9-818E-117C3A9E1B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