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83215"/>
        <c:axId val="93363856"/>
      </c:barChart>
      <c:catAx>
        <c:axId val="41083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63856"/>
        <c:crosses val="autoZero"/>
        <c:auto val="1"/>
        <c:lblAlgn val="ctr"/>
        <c:lblOffset val="100"/>
        <c:noMultiLvlLbl val="0"/>
      </c:catAx>
      <c:valAx>
        <c:axId val="93363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3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0F5-1A61-4B9B-A129-73A25FA8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C4A-74F6-433D-A73A-01A32605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22A-34AD-4C55-BF1E-F41A9B07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AD0-730E-427B-8411-079C8937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389-11C4-4390-ABBE-0EF5B75D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E91-57E5-44E6-A9D6-34CB4127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1C1-592B-461B-B50A-4394C92A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BDB-0AC3-4780-AFD3-27B41796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715-84D3-40C9-BB52-992C5576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11D-B043-4560-9CAB-670077B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B07-DDEA-4C7E-92F1-135CEA9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F48-11A3-4828-A939-759FD7FA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0A080-D37A-4CF7-8F4C-A2369BFB49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